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F32B-24B8-48CB-830C-24DECCD0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7A1A-62F3-44ED-B7FB-0211EF6E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5CE-D9C2-4561-99CC-529BC52B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54D-7471-4A23-A411-6234CFA7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2F52-227F-4388-8A0B-C14FEAEC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FFEE-4EC1-4A54-86B2-1D1F5D4F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616B-DC4A-4AEA-A150-4902753D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7C14-DDD8-4B3D-9F67-621B52B1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9CCE-2832-4031-9C0D-7B0BEB61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111D-C277-4598-BA19-ED1CB207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D1E6-5526-4301-9A16-3E255BE9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416-D985-4168-90AF-D10B4853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D54E-94F1-496F-B7E3-3B77CB7D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9679-5E1B-426E-A250-BE8A11AE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D56B-9971-43E4-B286-0E945E2C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8288-7A29-4936-89C4-AF82CC3A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DC10-8B4B-480F-90D5-B62228FF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D9562-1562-4B07-99F9-9178FF1D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12B20-0687-4FC2-910E-392C166D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37F50-BE73-43B7-BD80-B599F767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B55A-E9A2-4C61-8718-C76C3F4F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38D2F-4EAB-4C51-8D29-0886BE55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0600-A0DF-403B-AC15-0E8904F8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D231E-9D25-4521-B633-3214054D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BAB7D-0ACB-4A74-A53C-6772D108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2801D-EE01-45AE-8DDE-4A739E75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596B5-DA22-4AE8-A1B2-926EC138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3D0A9-3668-47BF-B52D-319F394C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150A1-5391-444E-B240-4ECB6A96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36281-2915-4247-828A-E3C60C0C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E58FA-29C3-434C-B3B2-02413F6E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1AD99-F988-4EB2-93E3-C4D3CDB7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7F41D-6658-49F4-9935-C4E5E282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F48C-5042-40C6-B009-5ACE760A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A5CE3-CA3F-48F9-8330-E3FFD5AD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99014-D916-4A89-BAF9-C03469A3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AFF46-F337-4D72-AC23-4A3CAF9D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2EEBC-8C12-40FE-9BB4-A6CBADF8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153B4-204B-452A-ABF0-E0D011B2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42F13-287D-4E59-9BC8-06BFC2BE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0A074-C25A-4D3B-983B-69056BFC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E57F8-6E62-4574-83C0-1D85993B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F226E-0359-482F-82E9-A71474E3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63832-D834-41EA-9EFF-899AC9D0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4E0F-8A7F-4D71-A8D3-FF30F52F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584C8-B6C7-43C6-BC37-F095BAB6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89E0B-F27E-4CAF-9BCD-0670FF28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A72ED-883E-42C9-87C2-D56EA333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12A09-BF52-43FB-9C0A-E98A2A8D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76CF1-39FE-463D-A0DC-C4263EA3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6253E-6771-4860-A13E-EB1902EA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7D44E-0158-4414-B4DA-B7216029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6354F-78ED-4D9D-8B97-550CE1A5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BB54D-F8D9-4B50-8543-1ED87C6D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3A62B-5D0A-43EC-A65F-B5D6959A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1782-3F46-46C7-8F3D-0F455058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77A5F-1163-42B1-A056-2D7CF096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BB3-6ED0-447B-AA42-2D47AEA9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19D-E944-4FBF-A75B-2E0717AB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035-1231-4140-B701-73391145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3960"/>
            <a:ext cx="68580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828440"/>
            <a:ext cx="7683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6080" y="6248520"/>
            <a:ext cx="28828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7DBE94-49AC-4ED5-9509-DDCDE2E4621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7"/>
          <p:cNvSpPr/>
          <p:nvPr/>
        </p:nvSpPr>
        <p:spPr>
          <a:xfrm rot="18420000">
            <a:off x="7854120" y="30600"/>
            <a:ext cx="1165320" cy="2097000"/>
          </a:xfrm>
          <a:custGeom>
            <a:avLst/>
            <a:gdLst>
              <a:gd name="textAreaLeft" fmla="*/ 0 w 1165320"/>
              <a:gd name="textAreaRight" fmla="*/ 1165680 w 116532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Freeform 8"/>
          <p:cNvSpPr/>
          <p:nvPr/>
        </p:nvSpPr>
        <p:spPr>
          <a:xfrm rot="18420000">
            <a:off x="7819560" y="19332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71560" cy="1233360"/>
            <a:chOff x="7920" y="5540400"/>
            <a:chExt cx="1771560" cy="1233360"/>
          </a:xfrm>
        </p:grpSpPr>
        <p:sp>
          <p:nvSpPr>
            <p:cNvPr id="9" name="Freeform 10"/>
            <p:cNvSpPr/>
            <p:nvPr/>
          </p:nvSpPr>
          <p:spPr>
            <a:xfrm>
              <a:off x="38160" y="5564160"/>
              <a:ext cx="1716120" cy="1017720"/>
            </a:xfrm>
            <a:custGeom>
              <a:avLst/>
              <a:gdLst>
                <a:gd name="textAreaLeft" fmla="*/ 0 w 1716120"/>
                <a:gd name="textAreaRight" fmla="*/ 1716480 w 1716120"/>
                <a:gd name="textAreaTop" fmla="*/ 0 h 1017720"/>
                <a:gd name="textAreaBottom" fmla="*/ 1018080 h 10177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622520" y="5686560"/>
              <a:ext cx="100080" cy="1918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31680" y="5991120"/>
              <a:ext cx="1244520" cy="638280"/>
            </a:xfrm>
            <a:custGeom>
              <a:avLst/>
              <a:gdLst>
                <a:gd name="textAreaLeft" fmla="*/ 0 w 1244520"/>
                <a:gd name="textAreaRight" fmla="*/ 1244880 w 124452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204840" y="6045120"/>
              <a:ext cx="820800" cy="581040"/>
            </a:xfrm>
            <a:custGeom>
              <a:avLst/>
              <a:gdLst>
                <a:gd name="textAreaLeft" fmla="*/ 0 w 820800"/>
                <a:gd name="textAreaRight" fmla="*/ 821160 w 820800"/>
                <a:gd name="textAreaTop" fmla="*/ 0 h 581040"/>
                <a:gd name="textAreaBottom" fmla="*/ 581040 h 5810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770040" y="5607000"/>
              <a:ext cx="201600" cy="17928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1017720" y="6608880"/>
              <a:ext cx="107640" cy="1648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0280" y="5726160"/>
              <a:ext cx="293400" cy="595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1060560" y="5699160"/>
              <a:ext cx="565200" cy="2635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550800" y="5862600"/>
              <a:ext cx="235080" cy="936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71560" cy="1225440"/>
              <a:chOff x="7920" y="5540400"/>
              <a:chExt cx="1771560" cy="122544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520"/>
                <a:ext cx="857520" cy="1111320"/>
                <a:chOff x="792000" y="5654520"/>
                <a:chExt cx="857520" cy="1111320"/>
              </a:xfrm>
            </p:grpSpPr>
            <p:sp>
              <p:nvSpPr>
                <p:cNvPr id="20" name="Freeform 21"/>
                <p:cNvSpPr/>
                <p:nvPr/>
              </p:nvSpPr>
              <p:spPr>
                <a:xfrm>
                  <a:off x="792000" y="5694480"/>
                  <a:ext cx="236880" cy="125280"/>
                </a:xfrm>
                <a:custGeom>
                  <a:avLst/>
                  <a:gdLst>
                    <a:gd name="textAreaLeft" fmla="*/ 0 w 236880"/>
                    <a:gd name="textAreaRight" fmla="*/ 237240 w 236880"/>
                    <a:gd name="textAreaTop" fmla="*/ 0 h 125280"/>
                    <a:gd name="textAreaBottom" fmla="*/ 125640 h 1252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2"/>
                <p:cNvSpPr/>
                <p:nvPr/>
              </p:nvSpPr>
              <p:spPr>
                <a:xfrm>
                  <a:off x="1009800" y="6567480"/>
                  <a:ext cx="169560" cy="198360"/>
                </a:xfrm>
                <a:custGeom>
                  <a:avLst/>
                  <a:gdLst>
                    <a:gd name="textAreaLeft" fmla="*/ 0 w 169560"/>
                    <a:gd name="textAreaRight" fmla="*/ 169920 w 16956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3"/>
                <p:cNvSpPr/>
                <p:nvPr/>
              </p:nvSpPr>
              <p:spPr>
                <a:xfrm>
                  <a:off x="1593720" y="5654520"/>
                  <a:ext cx="55800" cy="173160"/>
                </a:xfrm>
                <a:custGeom>
                  <a:avLst/>
                  <a:gdLst>
                    <a:gd name="textAreaLeft" fmla="*/ 0 w 55800"/>
                    <a:gd name="textAreaRight" fmla="*/ 56160 w 5580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4"/>
              <p:cNvSpPr/>
              <p:nvPr/>
            </p:nvSpPr>
            <p:spPr>
              <a:xfrm>
                <a:off x="120600" y="5924520"/>
                <a:ext cx="932040" cy="384120"/>
              </a:xfrm>
              <a:custGeom>
                <a:avLst/>
                <a:gdLst>
                  <a:gd name="textAreaLeft" fmla="*/ 0 w 932040"/>
                  <a:gd name="textAreaRight" fmla="*/ 932400 w 93204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2920" y="6168960"/>
                <a:ext cx="374400" cy="222480"/>
              </a:xfrm>
              <a:custGeom>
                <a:avLst/>
                <a:gdLst>
                  <a:gd name="textAreaLeft" fmla="*/ 0 w 374400"/>
                  <a:gd name="textAreaRight" fmla="*/ 374760 w 37440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896760" y="5842080"/>
                <a:ext cx="157320" cy="36504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71560" cy="1063440"/>
                <a:chOff x="7920" y="5540400"/>
                <a:chExt cx="1771560" cy="1063440"/>
              </a:xfrm>
            </p:grpSpPr>
            <p:sp>
              <p:nvSpPr>
                <p:cNvPr id="27" name="Freeform 28"/>
                <p:cNvSpPr/>
                <p:nvPr/>
              </p:nvSpPr>
              <p:spPr>
                <a:xfrm>
                  <a:off x="1062000" y="6426360"/>
                  <a:ext cx="106560" cy="12528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125280"/>
                    <a:gd name="textAreaBottom" fmla="*/ 125640 h 1252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29"/>
                <p:cNvSpPr/>
                <p:nvPr/>
              </p:nvSpPr>
              <p:spPr>
                <a:xfrm>
                  <a:off x="7920" y="5918040"/>
                  <a:ext cx="1324080" cy="685800"/>
                </a:xfrm>
                <a:custGeom>
                  <a:avLst/>
                  <a:gdLst>
                    <a:gd name="textAreaLeft" fmla="*/ 0 w 1324080"/>
                    <a:gd name="textAreaRight" fmla="*/ 1324440 w 1324080"/>
                    <a:gd name="textAreaTop" fmla="*/ 0 h 685800"/>
                    <a:gd name="textAreaBottom" fmla="*/ 686160 h 68580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0"/>
                <p:cNvSpPr/>
                <p:nvPr/>
              </p:nvSpPr>
              <p:spPr>
                <a:xfrm>
                  <a:off x="168120" y="5985000"/>
                  <a:ext cx="114480" cy="25236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252360"/>
                    <a:gd name="textAreaBottom" fmla="*/ 252720 h 2523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1"/>
                <p:cNvSpPr/>
                <p:nvPr/>
              </p:nvSpPr>
              <p:spPr>
                <a:xfrm>
                  <a:off x="712800" y="5540400"/>
                  <a:ext cx="498600" cy="930240"/>
                </a:xfrm>
                <a:custGeom>
                  <a:avLst/>
                  <a:gdLst>
                    <a:gd name="textAreaLeft" fmla="*/ 0 w 498600"/>
                    <a:gd name="textAreaRight" fmla="*/ 498960 w 49860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2"/>
                <p:cNvSpPr/>
                <p:nvPr/>
              </p:nvSpPr>
              <p:spPr>
                <a:xfrm>
                  <a:off x="917640" y="5794200"/>
                  <a:ext cx="139680" cy="38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387360"/>
                    <a:gd name="textAreaBottom" fmla="*/ 387720 h 38736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3"/>
                <p:cNvSpPr/>
                <p:nvPr/>
              </p:nvSpPr>
              <p:spPr>
                <a:xfrm>
                  <a:off x="520560" y="5762520"/>
                  <a:ext cx="297000" cy="20160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201600"/>
                    <a:gd name="textAreaBottom" fmla="*/ 201960 h 20160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4"/>
                <p:cNvSpPr/>
                <p:nvPr/>
              </p:nvSpPr>
              <p:spPr>
                <a:xfrm>
                  <a:off x="1044720" y="5616720"/>
                  <a:ext cx="734760" cy="323640"/>
                </a:xfrm>
                <a:custGeom>
                  <a:avLst/>
                  <a:gdLst>
                    <a:gd name="textAreaLeft" fmla="*/ 0 w 734760"/>
                    <a:gd name="textAreaRight" fmla="*/ 735120 w 734760"/>
                    <a:gd name="textAreaTop" fmla="*/ 0 h 323640"/>
                    <a:gd name="textAreaBottom" fmla="*/ 324000 h 3236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5"/>
                <p:cNvSpPr/>
                <p:nvPr/>
              </p:nvSpPr>
              <p:spPr>
                <a:xfrm>
                  <a:off x="1138320" y="5724360"/>
                  <a:ext cx="376200" cy="123840"/>
                </a:xfrm>
                <a:custGeom>
                  <a:avLst/>
                  <a:gdLst>
                    <a:gd name="textAreaLeft" fmla="*/ 0 w 376200"/>
                    <a:gd name="textAreaRight" fmla="*/ 376560 w 376200"/>
                    <a:gd name="textAreaTop" fmla="*/ 0 h 123840"/>
                    <a:gd name="textAreaBottom" fmla="*/ 124200 h 12384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80320" y="2116080"/>
            <a:ext cx="372960" cy="4295880"/>
            <a:chOff x="8680320" y="2116080"/>
            <a:chExt cx="372960" cy="4295880"/>
          </a:xfrm>
        </p:grpSpPr>
        <p:sp>
          <p:nvSpPr>
            <p:cNvPr id="36" name="Freeform 37"/>
            <p:cNvSpPr/>
            <p:nvPr/>
          </p:nvSpPr>
          <p:spPr>
            <a:xfrm flipH="1">
              <a:off x="8680320" y="4159080"/>
              <a:ext cx="311040" cy="225288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2252880"/>
                <a:gd name="textAreaBottom" fmla="*/ 2253240 h 22528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flipH="1">
              <a:off x="8742240" y="2116080"/>
              <a:ext cx="311040" cy="257976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2579760"/>
                <a:gd name="textAreaBottom" fmla="*/ 2580120 h 25797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1659240" y="-805680"/>
            <a:ext cx="13437360" cy="12872520"/>
            <a:chOff x="1659240" y="-805680"/>
            <a:chExt cx="13437360" cy="12872520"/>
          </a:xfrm>
        </p:grpSpPr>
        <p:grpSp>
          <p:nvGrpSpPr>
            <p:cNvPr id="39" name="Group 40"/>
            <p:cNvGrpSpPr/>
            <p:nvPr/>
          </p:nvGrpSpPr>
          <p:grpSpPr>
            <a:xfrm>
              <a:off x="1659240" y="-805680"/>
              <a:ext cx="13437360" cy="12872520"/>
              <a:chOff x="1659240" y="-805680"/>
              <a:chExt cx="13437360" cy="12872520"/>
            </a:xfrm>
          </p:grpSpPr>
          <p:sp>
            <p:nvSpPr>
              <p:cNvPr id="40" name="Freeform 41"/>
              <p:cNvSpPr/>
              <p:nvPr/>
            </p:nvSpPr>
            <p:spPr>
              <a:xfrm rot="18420000">
                <a:off x="8613720" y="1737000"/>
                <a:ext cx="85680" cy="44460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1659240" y="-805680"/>
                <a:ext cx="13437360" cy="12872520"/>
                <a:chOff x="1659240" y="-805680"/>
                <a:chExt cx="13437360" cy="12872520"/>
              </a:xfrm>
            </p:grpSpPr>
            <p:sp>
              <p:nvSpPr>
                <p:cNvPr id="42" name="Freeform 43"/>
                <p:cNvSpPr/>
                <p:nvPr/>
              </p:nvSpPr>
              <p:spPr>
                <a:xfrm rot="18420000">
                  <a:off x="5662440" y="-352080"/>
                  <a:ext cx="1569600" cy="974880"/>
                </a:xfrm>
                <a:custGeom>
                  <a:avLst/>
                  <a:gdLst>
                    <a:gd name="textAreaLeft" fmla="*/ 0 w 1569600"/>
                    <a:gd name="textAreaRight" fmla="*/ 1569960 w 1569600"/>
                    <a:gd name="textAreaTop" fmla="*/ 0 h 974880"/>
                    <a:gd name="textAreaBottom" fmla="*/ 975240 h 97488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4"/>
                <p:cNvSpPr/>
                <p:nvPr/>
              </p:nvSpPr>
              <p:spPr>
                <a:xfrm rot="18420000">
                  <a:off x="6179400" y="2795400"/>
                  <a:ext cx="2799360" cy="3506040"/>
                </a:xfrm>
                <a:custGeom>
                  <a:avLst/>
                  <a:gdLst>
                    <a:gd name="textAreaLeft" fmla="*/ 0 w 2799360"/>
                    <a:gd name="textAreaRight" fmla="*/ 2799720 w 2799360"/>
                    <a:gd name="textAreaTop" fmla="*/ 0 h 3506040"/>
                    <a:gd name="textAreaBottom" fmla="*/ 3506400 h 350604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5"/>
                <p:cNvSpPr/>
                <p:nvPr/>
              </p:nvSpPr>
              <p:spPr>
                <a:xfrm rot="18420000">
                  <a:off x="4361760" y="1781640"/>
                  <a:ext cx="5287320" cy="7224840"/>
                </a:xfrm>
                <a:custGeom>
                  <a:avLst/>
                  <a:gdLst>
                    <a:gd name="textAreaLeft" fmla="*/ 0 w 5287320"/>
                    <a:gd name="textAreaRight" fmla="*/ 5287680 w 5287320"/>
                    <a:gd name="textAreaTop" fmla="*/ 0 h 7224840"/>
                    <a:gd name="textAreaBottom" fmla="*/ 7225200 h 72248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6"/>
                <p:cNvSpPr/>
                <p:nvPr/>
              </p:nvSpPr>
              <p:spPr>
                <a:xfrm rot="18420000">
                  <a:off x="4398480" y="216360"/>
                  <a:ext cx="7958880" cy="10828080"/>
                </a:xfrm>
                <a:custGeom>
                  <a:avLst/>
                  <a:gdLst>
                    <a:gd name="textAreaLeft" fmla="*/ 0 w 7958880"/>
                    <a:gd name="textAreaRight" fmla="*/ 7959240 w 7958880"/>
                    <a:gd name="textAreaTop" fmla="*/ 0 h 10828080"/>
                    <a:gd name="textAreaBottom" fmla="*/ 10828440 h 1082808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7"/>
                <p:cNvSpPr/>
                <p:nvPr/>
              </p:nvSpPr>
              <p:spPr>
                <a:xfrm rot="18420000">
                  <a:off x="8311680" y="8386560"/>
                  <a:ext cx="1735560" cy="939600"/>
                </a:xfrm>
                <a:custGeom>
                  <a:avLst/>
                  <a:gdLst>
                    <a:gd name="textAreaLeft" fmla="*/ 0 w 1735560"/>
                    <a:gd name="textAreaRight" fmla="*/ 1735920 w 1735560"/>
                    <a:gd name="textAreaTop" fmla="*/ 0 h 939600"/>
                    <a:gd name="textAreaBottom" fmla="*/ 939960 h 93960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8"/>
                <p:cNvSpPr/>
                <p:nvPr/>
              </p:nvSpPr>
              <p:spPr>
                <a:xfrm rot="18420000">
                  <a:off x="7930440" y="7441920"/>
                  <a:ext cx="1871280" cy="1116720"/>
                </a:xfrm>
                <a:custGeom>
                  <a:avLst/>
                  <a:gdLst>
                    <a:gd name="textAreaLeft" fmla="*/ 0 w 1871280"/>
                    <a:gd name="textAreaRight" fmla="*/ 1871640 w 1871280"/>
                    <a:gd name="textAreaTop" fmla="*/ 0 h 1116720"/>
                    <a:gd name="textAreaBottom" fmla="*/ 1117080 h 111672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49"/>
                <p:cNvSpPr/>
                <p:nvPr/>
              </p:nvSpPr>
              <p:spPr>
                <a:xfrm rot="18420000">
                  <a:off x="5765400" y="1158120"/>
                  <a:ext cx="1871280" cy="1152000"/>
                </a:xfrm>
                <a:custGeom>
                  <a:avLst/>
                  <a:gdLst>
                    <a:gd name="textAreaLeft" fmla="*/ 0 w 1871280"/>
                    <a:gd name="textAreaRight" fmla="*/ 1871640 w 1871280"/>
                    <a:gd name="textAreaTop" fmla="*/ 0 h 1152000"/>
                    <a:gd name="textAreaBottom" fmla="*/ 1152360 h 115200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0"/>
                <p:cNvSpPr/>
                <p:nvPr/>
              </p:nvSpPr>
              <p:spPr>
                <a:xfrm rot="18420000">
                  <a:off x="5471640" y="415440"/>
                  <a:ext cx="1847520" cy="1075680"/>
                </a:xfrm>
                <a:custGeom>
                  <a:avLst/>
                  <a:gdLst>
                    <a:gd name="textAreaLeft" fmla="*/ 0 w 1847520"/>
                    <a:gd name="textAreaRight" fmla="*/ 1847880 w 1847520"/>
                    <a:gd name="textAreaTop" fmla="*/ 0 h 1075680"/>
                    <a:gd name="textAreaBottom" fmla="*/ 1076040 h 10756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54000" cy="13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1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1511280"/>
            <a:ext cx="638820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28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75A2F4-DA66-454A-851D-53D794F33DD2}" type="slidenum">
              <a: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195120" y="235080"/>
            <a:ext cx="3775320" cy="1765080"/>
            <a:chOff x="195120" y="235080"/>
            <a:chExt cx="3775320" cy="1765080"/>
          </a:xfrm>
        </p:grpSpPr>
        <p:sp>
          <p:nvSpPr>
            <p:cNvPr id="93" name="Freeform 7"/>
            <p:cNvSpPr/>
            <p:nvPr/>
          </p:nvSpPr>
          <p:spPr>
            <a:xfrm>
              <a:off x="281160" y="281160"/>
              <a:ext cx="3558960" cy="1601640"/>
            </a:xfrm>
            <a:custGeom>
              <a:avLst/>
              <a:gdLst>
                <a:gd name="textAreaLeft" fmla="*/ 0 w 3558960"/>
                <a:gd name="textAreaRight" fmla="*/ 3559320 w 3558960"/>
                <a:gd name="textAreaTop" fmla="*/ 0 h 1601640"/>
                <a:gd name="textAreaBottom" fmla="*/ 1602000 h 16016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8"/>
            <p:cNvSpPr/>
            <p:nvPr/>
          </p:nvSpPr>
          <p:spPr>
            <a:xfrm>
              <a:off x="263520" y="414360"/>
              <a:ext cx="3549600" cy="1585800"/>
            </a:xfrm>
            <a:custGeom>
              <a:avLst/>
              <a:gdLst>
                <a:gd name="textAreaLeft" fmla="*/ 0 w 3549600"/>
                <a:gd name="textAreaRight" fmla="*/ 3549960 w 3549600"/>
                <a:gd name="textAreaTop" fmla="*/ 0 h 1585800"/>
                <a:gd name="textAreaBottom" fmla="*/ 1586160 h 15858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9"/>
            <p:cNvSpPr/>
            <p:nvPr/>
          </p:nvSpPr>
          <p:spPr>
            <a:xfrm>
              <a:off x="752400" y="546120"/>
              <a:ext cx="2349720" cy="1446120"/>
            </a:xfrm>
            <a:custGeom>
              <a:avLst/>
              <a:gdLst>
                <a:gd name="textAreaLeft" fmla="*/ 0 w 2349720"/>
                <a:gd name="textAreaRight" fmla="*/ 2350080 w 2349720"/>
                <a:gd name="textAreaTop" fmla="*/ 0 h 1446120"/>
                <a:gd name="textAreaBottom" fmla="*/ 1446480 h 14461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Group 10"/>
            <p:cNvGrpSpPr/>
            <p:nvPr/>
          </p:nvGrpSpPr>
          <p:grpSpPr>
            <a:xfrm>
              <a:off x="195120" y="235080"/>
              <a:ext cx="3775320" cy="1703160"/>
              <a:chOff x="195120" y="235080"/>
              <a:chExt cx="3775320" cy="1703160"/>
            </a:xfrm>
          </p:grpSpPr>
          <p:sp>
            <p:nvSpPr>
              <p:cNvPr id="97" name="Freeform 11"/>
              <p:cNvSpPr/>
              <p:nvPr/>
            </p:nvSpPr>
            <p:spPr>
              <a:xfrm>
                <a:off x="3182760" y="1482840"/>
                <a:ext cx="324000" cy="32688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326880"/>
                  <a:gd name="textAreaBottom" fmla="*/ 326880 h 3268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2"/>
              <p:cNvSpPr/>
              <p:nvPr/>
            </p:nvSpPr>
            <p:spPr>
              <a:xfrm>
                <a:off x="195120" y="235080"/>
                <a:ext cx="3775320" cy="1703160"/>
              </a:xfrm>
              <a:custGeom>
                <a:avLst/>
                <a:gdLst>
                  <a:gd name="textAreaLeft" fmla="*/ 0 w 3775320"/>
                  <a:gd name="textAreaRight" fmla="*/ 3775680 w 3775320"/>
                  <a:gd name="textAreaTop" fmla="*/ 0 h 1703160"/>
                  <a:gd name="textAreaBottom" fmla="*/ 1703520 h 17031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3"/>
              <p:cNvSpPr/>
              <p:nvPr/>
            </p:nvSpPr>
            <p:spPr>
              <a:xfrm>
                <a:off x="514440" y="250920"/>
                <a:ext cx="2663640" cy="961920"/>
              </a:xfrm>
              <a:custGeom>
                <a:avLst/>
                <a:gdLst>
                  <a:gd name="textAreaLeft" fmla="*/ 0 w 2663640"/>
                  <a:gd name="textAreaRight" fmla="*/ 2664000 w 2663640"/>
                  <a:gd name="textAreaTop" fmla="*/ 0 h 961920"/>
                  <a:gd name="textAreaBottom" fmla="*/ 962280 h 9619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4"/>
              <p:cNvSpPr/>
              <p:nvPr/>
            </p:nvSpPr>
            <p:spPr>
              <a:xfrm>
                <a:off x="649440" y="398520"/>
                <a:ext cx="347400" cy="63828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638280"/>
                  <a:gd name="textAreaBottom" fmla="*/ 638640 h 6382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5"/>
              <p:cNvSpPr/>
              <p:nvPr/>
            </p:nvSpPr>
            <p:spPr>
              <a:xfrm>
                <a:off x="1343160" y="851040"/>
                <a:ext cx="1083960" cy="564840"/>
              </a:xfrm>
              <a:custGeom>
                <a:avLst/>
                <a:gdLst>
                  <a:gd name="textAreaLeft" fmla="*/ 0 w 1083960"/>
                  <a:gd name="textAreaRight" fmla="*/ 1084320 w 1083960"/>
                  <a:gd name="textAreaTop" fmla="*/ 0 h 564840"/>
                  <a:gd name="textAreaBottom" fmla="*/ 565200 h 56484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16"/>
          <p:cNvGrpSpPr/>
          <p:nvPr/>
        </p:nvGrpSpPr>
        <p:grpSpPr>
          <a:xfrm>
            <a:off x="6618240" y="3014640"/>
            <a:ext cx="3329280" cy="3749400"/>
            <a:chOff x="6618240" y="3014640"/>
            <a:chExt cx="3329280" cy="3749400"/>
          </a:xfrm>
        </p:grpSpPr>
        <p:sp>
          <p:nvSpPr>
            <p:cNvPr id="103" name="Freeform 17"/>
            <p:cNvSpPr/>
            <p:nvPr/>
          </p:nvSpPr>
          <p:spPr>
            <a:xfrm rot="7320000">
              <a:off x="7802280" y="4653000"/>
              <a:ext cx="986040" cy="452160"/>
            </a:xfrm>
            <a:custGeom>
              <a:avLst/>
              <a:gdLst>
                <a:gd name="textAreaLeft" fmla="*/ 0 w 986040"/>
                <a:gd name="textAreaRight" fmla="*/ 986400 w 98604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8"/>
            <p:cNvSpPr/>
            <p:nvPr/>
          </p:nvSpPr>
          <p:spPr>
            <a:xfrm rot="7320000">
              <a:off x="7782120" y="4631040"/>
              <a:ext cx="982800" cy="44748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9"/>
            <p:cNvSpPr/>
            <p:nvPr/>
          </p:nvSpPr>
          <p:spPr>
            <a:xfrm rot="7320000">
              <a:off x="7948800" y="4631400"/>
              <a:ext cx="648000" cy="407880"/>
            </a:xfrm>
            <a:custGeom>
              <a:avLst/>
              <a:gdLst>
                <a:gd name="textAreaLeft" fmla="*/ 0 w 648000"/>
                <a:gd name="textAreaRight" fmla="*/ 648360 w 6480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Group 20"/>
            <p:cNvGrpSpPr/>
            <p:nvPr/>
          </p:nvGrpSpPr>
          <p:grpSpPr>
            <a:xfrm>
              <a:off x="6618240" y="3014640"/>
              <a:ext cx="3329280" cy="3749400"/>
              <a:chOff x="6618240" y="3014640"/>
              <a:chExt cx="3329280" cy="3749400"/>
            </a:xfrm>
          </p:grpSpPr>
          <p:sp>
            <p:nvSpPr>
              <p:cNvPr id="107" name="Freeform 21"/>
              <p:cNvSpPr/>
              <p:nvPr/>
            </p:nvSpPr>
            <p:spPr>
              <a:xfrm rot="7320000">
                <a:off x="6891840" y="5373360"/>
                <a:ext cx="259560" cy="34452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2"/>
              <p:cNvSpPr/>
              <p:nvPr/>
            </p:nvSpPr>
            <p:spPr>
              <a:xfrm rot="7320000">
                <a:off x="6668280" y="3935160"/>
                <a:ext cx="3228840" cy="1908360"/>
              </a:xfrm>
              <a:custGeom>
                <a:avLst/>
                <a:gdLst>
                  <a:gd name="textAreaLeft" fmla="*/ 0 w 3228840"/>
                  <a:gd name="textAreaRight" fmla="*/ 3229200 w 3228840"/>
                  <a:gd name="textAreaTop" fmla="*/ 0 h 1908360"/>
                  <a:gd name="textAreaBottom" fmla="*/ 1908720 h 19083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3"/>
              <p:cNvSpPr/>
              <p:nvPr/>
            </p:nvSpPr>
            <p:spPr>
              <a:xfrm rot="7320000">
                <a:off x="7627680" y="4318560"/>
                <a:ext cx="2277360" cy="1066320"/>
              </a:xfrm>
              <a:custGeom>
                <a:avLst/>
                <a:gdLst>
                  <a:gd name="textAreaLeft" fmla="*/ 0 w 2277360"/>
                  <a:gd name="textAreaRight" fmla="*/ 2277720 w 2277360"/>
                  <a:gd name="textAreaTop" fmla="*/ 0 h 1066320"/>
                  <a:gd name="textAreaBottom" fmla="*/ 1066680 h 10663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24"/>
              <p:cNvSpPr/>
              <p:nvPr/>
            </p:nvSpPr>
            <p:spPr>
              <a:xfrm rot="7320000">
                <a:off x="9225000" y="3791880"/>
                <a:ext cx="281880" cy="70380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03800"/>
                  <a:gd name="textAreaBottom" fmla="*/ 704160 h 70380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 rot="7320000">
                <a:off x="7894440" y="4394880"/>
                <a:ext cx="916200" cy="618840"/>
              </a:xfrm>
              <a:custGeom>
                <a:avLst/>
                <a:gdLst>
                  <a:gd name="textAreaLeft" fmla="*/ 0 w 916200"/>
                  <a:gd name="textAreaRight" fmla="*/ 916560 w 916200"/>
                  <a:gd name="textAreaTop" fmla="*/ 0 h 618840"/>
                  <a:gd name="textAreaBottom" fmla="*/ 619200 h 61884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Freeform 26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7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6834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834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444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352680" y="6403680"/>
            <a:ext cx="288288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858000" y="6400440"/>
            <a:ext cx="15876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A58AF9-516A-4597-885C-B78148C916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6"/>
          <p:cNvGrpSpPr/>
          <p:nvPr/>
        </p:nvGrpSpPr>
        <p:grpSpPr>
          <a:xfrm>
            <a:off x="168120" y="228600"/>
            <a:ext cx="8810640" cy="6083280"/>
            <a:chOff x="168120" y="228600"/>
            <a:chExt cx="8810640" cy="6083280"/>
          </a:xfrm>
        </p:grpSpPr>
        <p:sp>
          <p:nvSpPr>
            <p:cNvPr id="157" name="AutoShape 7"/>
            <p:cNvSpPr/>
            <p:nvPr/>
          </p:nvSpPr>
          <p:spPr>
            <a:xfrm>
              <a:off x="168120" y="228600"/>
              <a:ext cx="8810640" cy="60832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8"/>
            <p:cNvSpPr/>
            <p:nvPr/>
          </p:nvSpPr>
          <p:spPr>
            <a:xfrm>
              <a:off x="762120" y="1709640"/>
              <a:ext cx="76834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7759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444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3352680" y="6391440"/>
            <a:ext cx="28828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858000" y="6391440"/>
            <a:ext cx="15876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095A0E-D34E-42FB-BDAC-5D825635B0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828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D67731-2D29-405E-81DD-415F6BDDCF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71040" y="5698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39920" y="2160360"/>
            <a:ext cx="64008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Один. Много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3780000" y="3600360"/>
            <a:ext cx="2700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https://im0-tub-ru.yandex.net/i?id=5e4a4c0c78c52a43971402af2b70f034&amp;n=33&amp;h=127&amp;w=300"/>
          <p:cNvPicPr/>
          <p:nvPr/>
        </p:nvPicPr>
        <p:blipFill>
          <a:blip r:embed="rId1"/>
          <a:stretch/>
        </p:blipFill>
        <p:spPr>
          <a:xfrm>
            <a:off x="571680" y="142920"/>
            <a:ext cx="81435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1"/>
          <p:cNvSpPr/>
          <p:nvPr/>
        </p:nvSpPr>
        <p:spPr>
          <a:xfrm>
            <a:off x="0" y="18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Спасибо за помощь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24000" y="5589720"/>
            <a:ext cx="856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omic Sans MS"/>
              </a:rPr>
              <a:t>До новых встреч!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1"/>
          <a:stretch/>
        </p:blipFill>
        <p:spPr>
          <a:xfrm>
            <a:off x="2502000" y="1440000"/>
            <a:ext cx="3797280" cy="40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525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Comic Sans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К нам в гости пришел …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3924360" y="537372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Помогите мне, ребята, разобраться: где один, а где много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2160720" y="1079640"/>
            <a:ext cx="3797280" cy="40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1" descr=""/>
          <p:cNvPicPr/>
          <p:nvPr/>
        </p:nvPicPr>
        <p:blipFill>
          <a:blip r:embed="rId1"/>
          <a:stretch/>
        </p:blipFill>
        <p:spPr>
          <a:xfrm>
            <a:off x="530280" y="1800360"/>
            <a:ext cx="3610080" cy="4319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"/>
          <p:cNvPicPr/>
          <p:nvPr/>
        </p:nvPicPr>
        <p:blipFill>
          <a:blip r:embed="rId2"/>
          <a:stretch/>
        </p:blipFill>
        <p:spPr>
          <a:xfrm>
            <a:off x="4680000" y="538200"/>
            <a:ext cx="3959280" cy="43210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3"/>
          <p:cNvSpPr/>
          <p:nvPr/>
        </p:nvSpPr>
        <p:spPr>
          <a:xfrm>
            <a:off x="1260360" y="720720"/>
            <a:ext cx="25196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Одн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5940360" y="5118120"/>
            <a:ext cx="2160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80"/>
                </a:solidFill>
                <a:latin typeface="Arial"/>
              </a:rPr>
              <a:t>Мног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1" descr=""/>
          <p:cNvPicPr/>
          <p:nvPr/>
        </p:nvPicPr>
        <p:blipFill>
          <a:blip r:embed="rId1"/>
          <a:stretch/>
        </p:blipFill>
        <p:spPr>
          <a:xfrm>
            <a:off x="4500720" y="2519280"/>
            <a:ext cx="4444920" cy="3959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360360" y="360360"/>
            <a:ext cx="3959280" cy="37800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3"/>
          <p:cNvSpPr/>
          <p:nvPr/>
        </p:nvSpPr>
        <p:spPr>
          <a:xfrm>
            <a:off x="900000" y="4484520"/>
            <a:ext cx="27003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2300dc"/>
                </a:solidFill>
                <a:latin typeface="Arial"/>
              </a:rPr>
              <a:t>Одн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5338800" y="720720"/>
            <a:ext cx="28573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ff00"/>
                </a:solidFill>
                <a:latin typeface="Arial"/>
              </a:rPr>
              <a:t>Много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360360" y="312840"/>
            <a:ext cx="3780000" cy="3467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4319640" y="3117960"/>
            <a:ext cx="4319640" cy="336204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539640" y="3959280"/>
            <a:ext cx="2700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Оди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5040360" y="1979640"/>
            <a:ext cx="2700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b80047"/>
                </a:solidFill>
                <a:latin typeface="Arial"/>
              </a:rPr>
              <a:t>Мног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863640" y="993600"/>
            <a:ext cx="7415280" cy="566604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2"/>
          <p:cNvSpPr/>
          <p:nvPr/>
        </p:nvSpPr>
        <p:spPr>
          <a:xfrm>
            <a:off x="720720" y="360360"/>
            <a:ext cx="75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О чем можно сказать один, а о чем мног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 кого одна нога,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Да и та без башмака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3862440" y="2879640"/>
            <a:ext cx="4599000" cy="35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https://im2-tub-ru.yandex.net/i?id=cfced577c5235efd6fa24db501a60343&amp;n=33&amp;h=215&amp;w=316"/>
          <p:cNvPicPr/>
          <p:nvPr/>
        </p:nvPicPr>
        <p:blipFill>
          <a:blip r:embed="rId1"/>
          <a:stretch/>
        </p:blipFill>
        <p:spPr>
          <a:xfrm>
            <a:off x="857160" y="500040"/>
            <a:ext cx="78580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http://cpd.yaroslavl.ru/portals/0/Images/poz/math13_001.jpg"/>
          <p:cNvPicPr/>
          <p:nvPr/>
        </p:nvPicPr>
        <p:blipFill>
          <a:blip r:embed="rId1"/>
          <a:stretch/>
        </p:blipFill>
        <p:spPr>
          <a:xfrm>
            <a:off x="714240" y="357120"/>
            <a:ext cx="7929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11:17:38Z</dcterms:created>
  <dc:creator>1</dc:creator>
  <dc:description/>
  <dc:language>en-US</dc:language>
  <cp:lastModifiedBy>Я</cp:lastModifiedBy>
  <dcterms:modified xsi:type="dcterms:W3CDTF">2016-11-14T16:37:59Z</dcterms:modified>
  <cp:revision>4</cp:revision>
  <dc:subject/>
  <dc:title>Больше. Меньше. Столько же.</dc:title>
</cp:coreProperties>
</file>