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81B-CAF4-430F-86DA-7276E884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5EA-2E51-4110-9416-EE41E26C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E8C-F4AA-49AB-B5F7-10E5D995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3B4-FCC8-4A32-8572-A6CB1B09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C5C1-826B-4C8C-B678-16482738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614-2ABB-4F86-AA76-3A95CAA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1ABB-81FA-4D56-BBE1-85A4B36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A7C0-9710-4204-AF29-0B9C4DD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2F4-CC1A-4D4E-B5EB-0FE17FB4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AA93-8375-4521-9B81-CB506900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0808-AB17-4006-BB2E-8B3061E7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F7B-610B-4D40-9067-7148D2C7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6FCA-EE69-48E8-A591-DCF8564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CF02-4EF5-4078-A6FB-A8A88B8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7F3D-FFED-4F25-85FE-98960D5E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715D-F846-452B-959C-D5D9702F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FDE7-210E-4723-98EB-A6A7C9FD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D4B22-E5CC-41D8-A9C2-BA1AEB41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1A10C-0CA7-4607-AC54-9077283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44F47-8953-4087-B899-37C908D5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64300-CBAC-431A-92CF-FF8E4391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FE4DD-581F-4E0B-8EA6-4319CE4A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FB4-BA23-45E9-A2D6-0C80AD3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D720C-6390-464F-AF46-DFCF11B0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4262E-70F3-4283-95F2-3E6D06E2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E697A-8090-4D99-81AF-BAEA647B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59478-0986-4E07-8C5E-55E6B72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B70B4-F6AA-4A37-91C3-5E2C9D16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E5331-D085-44E0-96AE-001B9C54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84E06-2547-4FA0-ACDD-01C3629C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8B3E-EF9E-40BA-8D9F-057E5FA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4FBC-AC3B-481C-9F98-903D649B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D1EE-4169-4D09-A921-C3E2FE5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6E8-7D62-41D9-85E5-F78CE81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A2737-8379-48DE-B7F0-CD94B37C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9169-E93B-4973-8F87-5AF3234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6FC1-804C-4942-A0DB-BB34B689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01BE-B48C-4D0C-AB82-CA723C7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0ED4-2CF5-4F3B-9504-F22D830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1960-4A95-4C6E-AA7C-B4FE434D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497C-E8E4-4592-851A-BC72A266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3504-13AC-40FB-B85F-B79AB2C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663D4-C195-4B45-9AAF-CA44CC71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22E-700D-4E33-8721-3BA3DE02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490-5883-48D6-8FA8-088C9638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C59-D371-48CD-BFAA-7C99CBC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337-669D-4220-8579-5E56907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855-6E53-4A68-BDD0-2E905B3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04CC-03EF-4977-8CC8-D171B497B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AAC2-0D68-4AC5-B280-5E918E3605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AA0A-20F2-4C82-894F-801590D06B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4AC-5DCB-41A6-BB9C-04237C7ED2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79280" y="0"/>
            <a:ext cx="8964720" cy="685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292720" y="3933720"/>
            <a:ext cx="2843280" cy="2684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20768400">
            <a:off x="971280" y="1844280"/>
            <a:ext cx="641016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фициально-делов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и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ПРАВКА</a:t>
            </a:r>
            <a:br>
              <a:rPr sz="4400"/>
            </a:b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Дана Бармалею в том, что он больше не ест маленьких детей, а ест только мармелад и шоколад.</a:t>
            </a: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Справка дана для предъявления при входе в цирк. </a:t>
            </a:r>
            <a:br>
              <a:rPr sz="3600"/>
            </a:b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                  Африканский совет.</a:t>
            </a:r>
            <a:br>
              <a:rPr sz="3600"/>
            </a:b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835280" y="907920"/>
            <a:ext cx="5545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Шутка-мину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890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ОБЪЯСНИТЕЛЬНАЯ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Я, Кощей Бессмертный, 32.13.1993 не пришел на Совет Нечистых Сил в связи с тем, что у меня болел зуб.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33.13.1993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Кощей Бессмертный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835280" y="765000"/>
            <a:ext cx="59767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Шутка-мину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580000" y="4344840"/>
            <a:ext cx="25210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Расшифруй запись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стиль: 1-1, н/о, 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стиль: 1-много, о/о, воздействие   на воображение, на чув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…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стиль: 1-много, о/о, сообщ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Солнце. Диск ровный без лучей и ореола, но слепит невозможно… А небо при этом очень звездное, звезды и внизу, и вверху. Солнечная ночь! Или звездный день?.. Плыву и слышу в наушниках торжественный голос Павла: «Я – «Алмаз»! Человек вышел в космическое пространство! Находится в свободном плавании!» Никак не соображу сначала: кто же это такой туда вышел?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4778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Объявление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, - я, ср. … 2. Извещение о чем-нибудь, напечатанное или вывешенное где-нибудь.</a:t>
            </a:r>
            <a:br>
              <a:rPr sz="4000"/>
            </a:br>
            <a:r>
              <a:rPr b="0" i="1" lang="en-US" sz="4000" spc="-1" strike="noStrike">
                <a:solidFill>
                  <a:srgbClr val="420000"/>
                </a:solidFill>
                <a:latin typeface="Times New Roman"/>
              </a:rPr>
              <a:t>Газетное объявление. Повесить объявление. Дать объявление в газету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0671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562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              </a:t>
            </a: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«Уважаемое привиде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        </a:t>
            </a: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По ряду причин в следующую пятницу перед заходом  солнца состоится собрание приведений. Все жалобы принимаются во в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        </a:t>
            </a: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Королевская вольная кол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        </a:t>
            </a: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Примечание: Никаких цепей с собой не брать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(Янсон Туве. Му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00"/>
                </a:solidFill>
                <a:latin typeface="Monotype Corsiva"/>
              </a:rPr>
              <a:t>«Инженер М.С.Лось приглашает желающих лететь с ним 18 августа на планету Марс, явиться для личных переговоров от 6 до 8 вечера. Ждановская набережная, дом 11, во дворе.»                   (А.Н.Толст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983280" y="4724280"/>
            <a:ext cx="21607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Укажи: где правильн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4038840" cy="2609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79432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868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Укажи: где правильн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670120" cy="430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84720" y="1844640"/>
            <a:ext cx="2849760" cy="4408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425760" y="3860640"/>
            <a:ext cx="21448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СПРАВКА</a:t>
            </a:r>
            <a:br>
              <a:rPr sz="4400"/>
            </a:b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Дана Бабе Яге в том, что она приобретает временное право на пользование ступой №123 на срок шесть месяцев.</a:t>
            </a:r>
            <a:br>
              <a:rPr sz="3600"/>
            </a:b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   Кладовщица Кикимо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63640" y="907920"/>
            <a:ext cx="5545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Шутка-мину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376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8:14:50Z</dcterms:created>
  <dc:creator>User</dc:creator>
  <dc:description/>
  <dc:language>en-US</dc:language>
  <cp:lastModifiedBy>Елена Козенко</cp:lastModifiedBy>
  <dcterms:modified xsi:type="dcterms:W3CDTF">2013-12-15T07:32:19Z</dcterms:modified>
  <cp:revision>11</cp:revision>
  <dc:subject/>
  <dc:title>Слайд 1</dc:title>
</cp:coreProperties>
</file>