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389-C3B8-465C-8254-ED99990D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335-686E-46D5-9F55-E1DD313C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B6A-5AB3-487F-B1A3-941E171A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5B9-FF66-490A-BED9-92382C0B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89B5-1479-4CDA-AF41-BE10DC56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810B-0EDB-43FB-845F-B123DA29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F2B4-767D-4DA1-84A1-8CB0D2BA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970F-8AD0-40F1-AA2A-2ECE1888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CB9B-3741-40F2-99FB-1D3E1994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6BB7-A4EF-46A7-9585-4D2BFC73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581A-3E5F-4531-8056-EB05E51A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D95-A8B7-40B7-9D5E-EE353BBA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8B8D-4E59-4D60-A85D-37E60DA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D963-4BB9-4C17-B6E8-8C7EF92D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2850-7218-42E3-98D4-1C6A8EA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5F27-F1A7-4FEE-99B6-2D2F12A5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CBA3-F6AD-4B53-AEB8-7857753B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48641-ED84-41E6-A5A5-868B2822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18E73-317C-4836-8397-AD7BDDF7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8F710-12E7-4B99-AE01-1DB9BAEA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C71F1-7EE7-452A-8CA5-5E09B08C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FA162-379C-4084-B9B0-5D03C38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72B-580E-449D-A17D-104D48A6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DD78C-7BF8-46BA-AC4C-A044238E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2C3C3-EA85-44EB-A435-D2F08B13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A2CAB-A17B-47AE-AFE2-14F183C3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F62B9-B580-48BB-B0BF-C48D32B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EB719-F69F-435A-958F-8D5CF90A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DCB70-49C2-4CE8-8E75-30C9F089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F72A6-B4A8-4B7B-B511-60981329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EEAD-E8DD-4C9C-8761-BE1F151B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3C69-3D71-4A31-A3F0-157C202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C01B-89FB-459D-BAA8-D288121A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0BE-4997-4895-B202-133C680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25B1B-8306-4449-9983-9EBA7E2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5E03-975E-42DB-B2DA-0C34CA34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9D4E-3CB6-4328-B19B-1590F683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3FA8-D899-4F4A-A462-1307E1C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59812-859A-4010-9442-18C21E1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41C2-EC71-419F-B0EE-9801139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917C-CA07-4AD4-A0B4-032EDA1C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D12F5-24F8-429C-85EF-D30D928F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5238-1970-49AF-935C-6FE5A1AD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F8A16-96E8-4A5E-A9BC-524E3904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268-B52F-4BBE-B034-AAD7A7DD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B0AF5-3858-4E4E-91A8-16AB804C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94091-B0F7-4E40-983F-B4C13BB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120CD-9C57-4302-A08D-A75CC874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6B647-8B76-4026-8931-BD3E189A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3B716-063C-477B-BB40-D004B8F0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933BD-B87B-4C47-ACE2-FF37A0A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A1542-0160-4158-ADB3-FEBA7F6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1413E-77EC-4039-8AF7-AF00C62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DFD8F-F37D-4804-9084-892E842A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944CA-AEBD-4625-B3E7-08B9583F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DBB-A877-4377-88D1-A3AF9222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660D3-E939-4028-935E-EE28D644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91472-73FD-4F88-947A-27F2BAF9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1C96A-CA6D-41AE-957E-B9549D80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6C8F6-6580-4D34-AA65-2A184F3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3E979-E3BD-4C12-89DE-634E17E1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480E8-4606-49EE-94BF-D76FB418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43E1C-BA83-4068-9660-9983E525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5AE99-C258-4AC7-95B0-6439D65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FF5F0-CDD1-463B-A696-88F2E02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AA3D3-D532-4D5D-A9BD-F4A100DE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482-3AFD-4664-A350-AA8A910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724BB-E472-4B3D-8873-8656F3F8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3378C-A2A9-4178-9E5C-609F6A0E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5ADCE-68ED-4E71-8ECC-37F30D29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67411-177D-4331-B3A2-2D0D8A28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CD1DF-F2FB-4478-8931-A32F0399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CDA33-592C-46D4-825C-BE7F0A83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479E3-E272-4648-97CD-333DF7D4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6DB77-AD3D-4C86-9B8F-2B90C55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70241-8837-4F46-85A2-82C2F23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26165-9BF0-493D-B5E3-C6CC050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8B2-F573-4B69-989E-214F2E37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4590E-9FE6-427B-9E6A-4AAE16F7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A664A-3B51-4C73-8633-140E80B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B65AE-7967-44FA-ADB9-AF82D9E1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C9FE9-9898-4029-8D82-F91EC1AC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0C65F-A622-4432-B282-7FCA469D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0E6-AD59-4F80-8945-7BAD162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615-0B3D-495A-BF34-105B80C7F8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076-9441-479B-920C-619EA8EA86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DC4-40A8-4348-8963-7C8C2CD7BD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2B96-5063-4B05-81F2-17EBD150B9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2B50-77EB-46F3-881A-BDA5E51865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627C-95B2-438D-AB4C-AFB78CB2E1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B994-2C96-41BB-A5BA-18BB5622FA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836280"/>
            <a:ext cx="6100920" cy="53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МКОУ для обучающихся с ограниченными возможностями здоровья Старогородковская общеобразовательная школа «Гармрния» </a:t>
            </a:r>
            <a:br>
              <a:rPr sz="1400"/>
            </a:br>
            <a:br>
              <a:rPr sz="2600"/>
            </a:br>
            <a:r>
              <a:rPr b="1" lang="ru-RU" sz="3200" spc="-1" strike="noStrike">
                <a:solidFill>
                  <a:srgbClr val="4f271c"/>
                </a:solidFill>
                <a:latin typeface="Arial"/>
              </a:rPr>
              <a:t>ОСТОРОЖНО – ЭЛЕКТРОПРИБОРЫ!!!</a:t>
            </a: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 </a:t>
            </a:r>
            <a:br>
              <a:rPr sz="4400"/>
            </a:br>
            <a:br>
              <a:rPr sz="1100"/>
            </a:br>
            <a:r>
              <a:rPr b="1" lang="ru-RU" sz="1100" spc="-1" strike="noStrike">
                <a:solidFill>
                  <a:srgbClr val="4f271c"/>
                </a:solidFill>
                <a:latin typeface="Arial"/>
              </a:rPr>
              <a:t>                                                              </a:t>
            </a:r>
            <a:r>
              <a:rPr b="1" lang="ru-RU" sz="1600" spc="-1" strike="noStrike">
                <a:solidFill>
                  <a:srgbClr val="4f271c"/>
                </a:solidFill>
                <a:latin typeface="Arial"/>
              </a:rPr>
              <a:t>Выполнила: КАСЫМОВА  Н.Л.          </a:t>
            </a:r>
            <a:br>
              <a:rPr sz="1600"/>
            </a:br>
            <a:r>
              <a:rPr b="1" lang="ru-RU" sz="1600" spc="-1" strike="noStrike">
                <a:solidFill>
                  <a:srgbClr val="10253f"/>
                </a:solidFill>
                <a:latin typeface="Arial"/>
              </a:rPr>
              <a:t>                                           </a:t>
            </a:r>
            <a:r>
              <a:rPr b="1" lang="en-US" sz="16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2016</a:t>
            </a:r>
            <a:br>
              <a:rPr sz="1800"/>
            </a:br>
            <a:endParaRPr b="0" lang="en-US" sz="1800" spc="-1" strike="noStrike">
              <a:solidFill>
                <a:srgbClr val="4f27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460836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гости к нам пришла сосед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резвились с ней полдн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ицу вставили в розет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розетки – столб огн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 соседкой еле-ел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ыгнуть в сторону усп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па мой, большой знат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м сказал: “В розетке – т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м розетку эту 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огать не совету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юги и прово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хватайте никогд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к невидимый без ру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с ударить может вдруг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8940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0e5e"/>
                </a:solidFill>
                <a:latin typeface="Arial"/>
              </a:rPr>
              <a:t>Чтоб не случилась с тобою беда</a:t>
            </a:r>
            <a:br>
              <a:rPr sz="2800"/>
            </a:br>
            <a:r>
              <a:rPr b="1" lang="ru-RU" sz="2800" spc="-1" strike="noStrike">
                <a:solidFill>
                  <a:srgbClr val="120e5e"/>
                </a:solidFill>
                <a:latin typeface="Arial"/>
              </a:rPr>
              <a:t>Правила эти помни всегда!!!</a:t>
            </a:r>
            <a:endParaRPr b="0" lang="en-US" sz="28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4" name="Picture 4" descr="22222"/>
          <p:cNvPicPr/>
          <p:nvPr/>
        </p:nvPicPr>
        <p:blipFill>
          <a:blip r:embed="rId1"/>
          <a:stretch/>
        </p:blipFill>
        <p:spPr>
          <a:xfrm>
            <a:off x="2484360" y="1557360"/>
            <a:ext cx="3657600" cy="3556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1280" y="5444640"/>
            <a:ext cx="76327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заливай водой горящие электроприб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4f271c"/>
                </a:solidFill>
                <a:latin typeface="Tahoma"/>
              </a:rPr>
              <a:t>Не играй с розетками!!!</a:t>
            </a:r>
            <a:endParaRPr b="0" lang="en-US" sz="35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7" name="Picture 4" descr="5555"/>
          <p:cNvPicPr/>
          <p:nvPr/>
        </p:nvPicPr>
        <p:blipFill>
          <a:blip r:embed="rId1"/>
          <a:stretch/>
        </p:blipFill>
        <p:spPr>
          <a:xfrm>
            <a:off x="1979640" y="1989000"/>
            <a:ext cx="4416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Не дотрагивайся до проводов и электроприборов мокрыми руками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9" name="Picture 4" descr="111141"/>
          <p:cNvPicPr/>
          <p:nvPr/>
        </p:nvPicPr>
        <p:blipFill>
          <a:blip r:embed="rId1"/>
          <a:stretch/>
        </p:blipFill>
        <p:spPr>
          <a:xfrm>
            <a:off x="2124000" y="1989000"/>
            <a:ext cx="441648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Не оставляйте без присмотра включенные электроприборы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1" name="Picture 4" descr="3333333"/>
          <p:cNvPicPr/>
          <p:nvPr/>
        </p:nvPicPr>
        <p:blipFill>
          <a:blip r:embed="rId1"/>
          <a:stretch/>
        </p:blipFill>
        <p:spPr>
          <a:xfrm>
            <a:off x="1982880" y="1889280"/>
            <a:ext cx="44164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Если все приборы разом</a:t>
            </a:r>
            <a:br>
              <a:rPr sz="2900"/>
            </a:b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Ты в одну розетку включишь,</a:t>
            </a:r>
            <a:br>
              <a:rPr sz="2900"/>
            </a:b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То пожар проводки сразу</a:t>
            </a:r>
            <a:br>
              <a:rPr sz="2900"/>
            </a:b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В этой комнате получишь!!!</a:t>
            </a:r>
            <a:endParaRPr b="0" lang="en-US" sz="29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3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4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В розетку ни в коем случае нельзя втыкать посторонние предметы (особенно металлические)!!!</a:t>
            </a:r>
            <a:endParaRPr b="0" lang="en-US" sz="29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5" name="Picture 4" descr="kids2"/>
          <p:cNvPicPr/>
          <p:nvPr/>
        </p:nvPicPr>
        <p:blipFill>
          <a:blip r:embed="rId1"/>
          <a:stretch/>
        </p:blipFill>
        <p:spPr>
          <a:xfrm>
            <a:off x="2124000" y="2565360"/>
            <a:ext cx="4321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137440" cy="19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Нельзя тянуть </a:t>
            </a:r>
            <a:br>
              <a:rPr sz="2900"/>
            </a:b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за электрический провод. </a:t>
            </a:r>
            <a:br>
              <a:rPr sz="2900"/>
            </a:b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Выключая электроприбор, </a:t>
            </a:r>
            <a:br>
              <a:rPr sz="2900"/>
            </a:br>
            <a:r>
              <a:rPr b="1" lang="ru-RU" sz="2900" spc="-1" strike="noStrike">
                <a:solidFill>
                  <a:srgbClr val="4f271c"/>
                </a:solidFill>
                <a:latin typeface="Tahoma"/>
              </a:rPr>
              <a:t>возьмись за вилку!</a:t>
            </a:r>
            <a:endParaRPr b="0" lang="en-US" sz="29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7" name="Picture 4" descr="kids3"/>
          <p:cNvPicPr/>
          <p:nvPr/>
        </p:nvPicPr>
        <p:blipFill>
          <a:blip r:embed="rId1"/>
          <a:stretch/>
        </p:blipFill>
        <p:spPr>
          <a:xfrm>
            <a:off x="2050920" y="2997360"/>
            <a:ext cx="4392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35344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Tahoma"/>
              </a:rPr>
              <a:t>Внимание!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Tahoma"/>
              </a:rPr>
              <a:t>Соблюдайте правил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4f271c"/>
                </a:solidFill>
                <a:latin typeface="Tahoma"/>
              </a:rPr>
              <a:t>чтоб не было возгорания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Загадки об электроприборах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лый шкаф стоит в углу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шей кухни на пол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нем немало льда и снег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нем всегда мороз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жет быть, снег белый с неб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то-нибудь принес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десь морозно даже летом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то мне скажет, что же это?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657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Ток бежит по проводам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Свет несёт в квартиру на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Чтоб работали приборы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Холодильник, монитор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Кофемолки, пылесос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Ток энергию принёс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ть у меня в квартире р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 него огромный х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юбит робот чисто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гудит, как лайнер "ТУ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н охотно пыль глотае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 болеет, не чихае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то говорить – не солнце 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 освещать уме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ня лишь включите, друзь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станет жизнь светлее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 будет времени для сна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гда, когда я включен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"/>
          <a:srcRect l="35567" t="36106" r="36312" b="35669"/>
          <a:stretch/>
        </p:blipFill>
        <p:spPr>
          <a:xfrm>
            <a:off x="4932360" y="549360"/>
            <a:ext cx="2157480" cy="2303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519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8876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7705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и важен, я и нужен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шь включите вы мен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только захочу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ипяточку вскипяч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вас чаем на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хотите, вы, ребят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песенку с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песню не хотите 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сказку расскаж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11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2195640" cy="244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240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4360" y="620640"/>
            <a:ext cx="7991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лько я, только 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на кухне главна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з меня, как ни трудите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ез обеда насидитесь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 столе я нахожу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ам, ребята, пригожу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ня вечером включ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огда читать вы захотит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9" descr=""/>
          <p:cNvPicPr/>
          <p:nvPr/>
        </p:nvPicPr>
        <p:blipFill>
          <a:blip r:embed="rId1"/>
          <a:srcRect l="68528" t="39168" r="2384" b="35754"/>
          <a:stretch/>
        </p:blipFill>
        <p:spPr>
          <a:xfrm>
            <a:off x="4859280" y="260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"/>
          <p:cNvPicPr/>
          <p:nvPr/>
        </p:nvPicPr>
        <p:blipFill>
          <a:blip r:embed="rId2"/>
          <a:stretch/>
        </p:blipFill>
        <p:spPr>
          <a:xfrm>
            <a:off x="1258920" y="3195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 сатиновому по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рейс пошел электро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н плывет, с волнами спор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 назад, а то вперед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ам, где он оставил след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и одной морщинки нет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от так дом 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дно ок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ждый ден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окне кино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595680" cy="2773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2"/>
          <a:srcRect l="3246" t="36389" r="67482" b="36682"/>
          <a:stretch/>
        </p:blipFill>
        <p:spPr>
          <a:xfrm>
            <a:off x="4859280" y="333360"/>
            <a:ext cx="287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0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 поле и ле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ется голос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 бежит по проводам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ажешь зде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слышно 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мотри на бо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мне вертится волч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 кого он не бьё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то всё собьё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2995920" cy="2244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"/>
          <p:cNvPicPr/>
          <p:nvPr/>
        </p:nvPicPr>
        <p:blipFill>
          <a:blip r:embed="rId2"/>
          <a:srcRect l="4906" t="11640" r="66545" b="63964"/>
          <a:stretch/>
        </p:blipFill>
        <p:spPr>
          <a:xfrm>
            <a:off x="755640" y="3213000"/>
            <a:ext cx="2879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46784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f271c"/>
                </a:solidFill>
                <a:latin typeface="Arial"/>
              </a:rPr>
              <a:t>Игра с мячом «Для чего это нужно?».</a:t>
            </a:r>
            <a:endParaRPr b="0" lang="en-US" sz="23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вайте вместе вспомним, какие действия совершают разными электроприбор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югом – гладят бель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ксером – взбивают кр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ом – сушат волос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мпой – освещают книг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лесосом – пылесосят ковр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нтилятором – охлаждают возду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холодильнике – хранят продук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икроволновке – разогреваю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айнике – кипятят во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электроплите – готовя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лефону – звоня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магнитофоне – слушают музы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b2a"/>
                </a:solidFill>
                <a:latin typeface="Tahoma"/>
              </a:rPr>
              <a:t>Главное правило пользования электроприборами для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Нельзя включать электроприборы без разрешения взросл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Tahoma"/>
              </a:rPr>
              <a:t>и в их отсутств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83b2a"/>
                </a:solidFill>
                <a:latin typeface="Tahoma"/>
              </a:rPr>
              <a:t>И если вы будете соблюдать все эти правила, то электричество будет  всегда вашим друг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7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ти, будьте бдительны!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чень заняты ваши родители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мните о своей безопасности –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круг не мал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асностей!</a:t>
            </a:r>
            <a:br>
              <a:rPr sz="2600"/>
            </a:b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78" name="Picture 4" descr="kids4"/>
          <p:cNvPicPr/>
          <p:nvPr/>
        </p:nvPicPr>
        <p:blipFill>
          <a:blip r:embed="rId1"/>
          <a:stretch/>
        </p:blipFill>
        <p:spPr>
          <a:xfrm>
            <a:off x="2124000" y="2421000"/>
            <a:ext cx="3657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Жизнь опасна если рядом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Зажигалки, спички, ток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Не бери их в руки, детка,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Вот тогда и будет толк</a:t>
            </a:r>
            <a:r>
              <a:rPr b="0" lang="ru-RU" sz="30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905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Газ на кухне, пылесос,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Телевизор, тостер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Пусть включает взрослый.</a:t>
            </a:r>
            <a:r>
              <a:rPr b="0" lang="ru-RU" sz="23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1936800" y="1916280"/>
            <a:ext cx="45082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И девочка, и мальчик,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Не суй в розетку пальчик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В розетке круглый год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Живет опасный ток!</a:t>
            </a:r>
            <a:endParaRPr b="0" lang="en-US" sz="27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5356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Нельзя играться с утюгом,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Утюг бывает тоже злом!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Не приключиться чтоб беде,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Утюг нельзя включать тебе!!!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6" name="Picture 4" descr="0001"/>
          <p:cNvPicPr/>
          <p:nvPr/>
        </p:nvPicPr>
        <p:blipFill>
          <a:blip r:embed="rId1"/>
          <a:stretch/>
        </p:blipFill>
        <p:spPr>
          <a:xfrm>
            <a:off x="1403280" y="2637000"/>
            <a:ext cx="60134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6113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Если ты включил утюг,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Убегать не надо вдруг.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Закрывая в доме дверь, </a:t>
            </a:r>
            <a:br>
              <a:rPr sz="2700"/>
            </a:br>
            <a:r>
              <a:rPr b="1" lang="ru-RU" sz="2700" spc="-1" strike="noStrike">
                <a:solidFill>
                  <a:srgbClr val="4f271c"/>
                </a:solidFill>
                <a:latin typeface="Arial"/>
              </a:rPr>
              <a:t>Все ли выключил, проверь.</a:t>
            </a:r>
            <a:r>
              <a:rPr b="0" lang="ru-RU" sz="23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8" name="Picture 5" descr="4444"/>
          <p:cNvPicPr/>
          <p:nvPr/>
        </p:nvPicPr>
        <p:blipFill>
          <a:blip r:embed="rId1"/>
          <a:stretch/>
        </p:blipFill>
        <p:spPr>
          <a:xfrm>
            <a:off x="1979640" y="2246400"/>
            <a:ext cx="50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77080" cy="20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Вот докрасна утюг раскалился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Хозяин ушел, а пожар приключился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Скажем, друзья вам, дружно и ясно: </a:t>
            </a:r>
            <a:br>
              <a:rPr sz="3000"/>
            </a:br>
            <a:r>
              <a:rPr b="1" lang="ru-RU" sz="3000" spc="-1" strike="noStrike">
                <a:solidFill>
                  <a:srgbClr val="4f271c"/>
                </a:solidFill>
                <a:latin typeface="Arial"/>
              </a:rPr>
              <a:t>Утюг и розетку трогать опасно.</a:t>
            </a:r>
            <a:r>
              <a:rPr b="0" lang="ru-RU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895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20:05:32Z</dcterms:created>
  <dc:creator>Admin</dc:creator>
  <dc:description/>
  <dc:language>en-US</dc:language>
  <cp:lastModifiedBy>Пользователь</cp:lastModifiedBy>
  <dcterms:modified xsi:type="dcterms:W3CDTF">2016-10-19T17:02:03Z</dcterms:modified>
  <cp:revision>35</cp:revision>
  <dc:subject/>
  <dc:title>Огонь в картинках и загадках.</dc:title>
</cp:coreProperties>
</file>