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FEF-CBD4-4C52-A31E-7024B795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D97-38DB-46C3-8D06-AD76D850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4AA-FA40-4B92-816F-F9F56BC0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0C7-9986-4078-8BE3-B4B9E1A9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EA4-B412-4484-BC2D-6A0F0E33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53E-9B31-4703-A7CE-A79FEDCD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E28-2F8B-4898-8B4E-A3036355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FD60-3CCD-40AB-A478-EB68AEE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E64D-B57D-4ED5-B836-5DF1CB5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95A9-734D-494B-AFD0-2732D95F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CE9C-8573-4BB6-88BC-8349917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2E1-7C54-467A-94F7-C1F4EE8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A8C9-A98D-4FE0-86A1-DF8B52D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DA93-07DC-43FD-BED7-F341A63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A82-6E6F-48F6-8727-A8A4BA4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92C9-10B5-43A7-A144-1A1B9830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E9A-4473-473C-AF80-9167D2BE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DEF9-156D-4D3F-8606-3256117E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8F60-44E9-4066-BEB7-8ED1A5D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A785-DD88-4572-A09B-7899C03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7D6A-FEA3-4313-8618-3E16CF7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7F60-0531-42A5-B63D-14890CB4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A8C-11FD-476F-9C6E-374C2C9B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CE10-B6C5-47EE-91C0-BFBFEB89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7888-1087-4F5F-8F74-E876E00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C22F-A8D1-45FF-814E-F671E3C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C21E-F21A-4825-B5A6-C120EF9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BBC8-A54D-4762-8DE4-64650AA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5DAF-A6B7-414B-9EA8-0A969633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0E8B-C638-41D0-B2A2-7B2585A2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1639-EC54-43B6-AD7D-60F4D2BE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F43D-14D5-43A8-BF5B-DE26CDD3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DB3D-608E-44F8-975D-D376262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55B-ED8B-4188-BF1B-C15ED67E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2BE4-A6F6-493F-ADD1-872EAD4A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D423-68AB-4629-8C2F-ABF4151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6837-058E-4B08-96A9-AD319874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65BE-D363-413F-A781-1B080CE0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6026-FE9C-4591-96C8-02013AF7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48E1-C11F-4FEB-AB52-240F62BE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5D7F-25D1-4EDE-815D-54BF7BB8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408F-C93B-4BC1-9B26-C9FF016D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5511-54A7-426D-ADC9-3D5E54D0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83B-45DE-435B-8680-83524D08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4E4-C054-4941-97D5-E624012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934-3DC5-4569-BB19-6AE00E0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EC9-A9E1-43BB-9B13-701CA80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9F7-9371-4596-ABD2-9E73BE0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F91B8D-96F4-4578-AA29-4D032B164E7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5DDD1C-94FA-46FD-88A0-45409ACE87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877915-F10B-41BF-88A3-5E0EF9127B5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a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6AAA37-AF7B-4402-8D91-0379A0EABC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17859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уть хлеба: </a:t>
            </a:r>
            <a:br>
              <a:rPr sz="4400"/>
            </a:br>
            <a:r>
              <a:rPr b="1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«От зёрнышка до каравая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icture 10"/>
          <p:cNvSpPr/>
          <p:nvPr/>
        </p:nvSpPr>
        <p:spPr>
          <a:xfrm>
            <a:off x="5214960" y="3714840"/>
            <a:ext cx="1760760" cy="12855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icture 5"/>
          <p:cNvSpPr/>
          <p:nvPr/>
        </p:nvSpPr>
        <p:spPr>
          <a:xfrm>
            <a:off x="1000080" y="3857760"/>
            <a:ext cx="1461600" cy="1142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1882800" y="214200"/>
            <a:ext cx="53136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ВНЕУРОЧНОЕ МЕРО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ЦИКЛ БЕСЕД О ХЛ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404040"/>
                </a:solidFill>
                <a:latin typeface="Calibri"/>
              </a:rPr>
              <a:t>БЕСЕД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6373440" y="6334920"/>
            <a:ext cx="249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f2e2b"/>
                </a:solidFill>
                <a:latin typeface="Calibri"/>
              </a:rPr>
              <a:t>Захарова М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148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алее муку везут на хлебозавод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специальных машина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одержимое 3"/>
          <p:cNvSpPr/>
          <p:nvPr/>
        </p:nvSpPr>
        <p:spPr>
          <a:xfrm>
            <a:off x="3357720" y="1928880"/>
            <a:ext cx="2356920" cy="13852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 уж на заводе пекут хлеб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одержимое 3"/>
          <p:cNvSpPr/>
          <p:nvPr/>
        </p:nvSpPr>
        <p:spPr>
          <a:xfrm>
            <a:off x="285840" y="1071720"/>
            <a:ext cx="3392280" cy="25714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Рисунок 4"/>
          <p:cNvSpPr/>
          <p:nvPr/>
        </p:nvSpPr>
        <p:spPr>
          <a:xfrm>
            <a:off x="5658840" y="2857320"/>
            <a:ext cx="3226680" cy="27856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0680" cy="1428480"/>
          </a:xfrm>
          <a:prstGeom prst="rect">
            <a:avLst/>
          </a:prstGeom>
          <a:solidFill>
            <a:srgbClr val="fe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 вот и магазин, там м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упаем наш хлебуше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одержимое 3"/>
          <p:cNvSpPr/>
          <p:nvPr/>
        </p:nvSpPr>
        <p:spPr>
          <a:xfrm>
            <a:off x="4091760" y="2000160"/>
            <a:ext cx="2380320" cy="13568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8292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чего всё начинается?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3"/>
          <p:cNvSpPr/>
          <p:nvPr/>
        </p:nvSpPr>
        <p:spPr>
          <a:xfrm>
            <a:off x="1428840" y="1928880"/>
            <a:ext cx="2873880" cy="17143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5715000" y="2143080"/>
            <a:ext cx="1656000" cy="1152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icture 2"/>
          <p:cNvSpPr/>
          <p:nvPr/>
        </p:nvSpPr>
        <p:spPr>
          <a:xfrm>
            <a:off x="2928960" y="1428840"/>
            <a:ext cx="3536640" cy="22143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сев  зер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ход  за посевам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и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icture 3"/>
          <p:cNvSpPr/>
          <p:nvPr/>
        </p:nvSpPr>
        <p:spPr>
          <a:xfrm>
            <a:off x="928800" y="2357280"/>
            <a:ext cx="2292840" cy="15714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icture 6"/>
          <p:cNvSpPr/>
          <p:nvPr/>
        </p:nvSpPr>
        <p:spPr>
          <a:xfrm>
            <a:off x="5357880" y="2286000"/>
            <a:ext cx="1906920" cy="13910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723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лебное поле – большое и красивое. Говорят: «Золотая нива!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одержимое 5"/>
          <p:cNvSpPr/>
          <p:nvPr/>
        </p:nvSpPr>
        <p:spPr>
          <a:xfrm>
            <a:off x="5000760" y="2357280"/>
            <a:ext cx="2071440" cy="1390320"/>
          </a:xfrm>
          <a:prstGeom prst="round2DiagRect">
            <a:avLst>
              <a:gd name="adj1" fmla="val 11903"/>
              <a:gd name="adj2" fmla="val 681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eeece1">
                <a:lumMod val="60000"/>
                <a:lumOff val="40000"/>
              </a:srgbClr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cture 2"/>
          <p:cNvSpPr/>
          <p:nvPr/>
        </p:nvSpPr>
        <p:spPr>
          <a:xfrm>
            <a:off x="1071360" y="2286000"/>
            <a:ext cx="1874160" cy="12996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4"/>
          <p:cNvSpPr/>
          <p:nvPr/>
        </p:nvSpPr>
        <p:spPr>
          <a:xfrm>
            <a:off x="500040" y="214200"/>
            <a:ext cx="8000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шла пора убирать урожай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поле выходят комба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Рисунок 5"/>
          <p:cNvSpPr/>
          <p:nvPr/>
        </p:nvSpPr>
        <p:spPr>
          <a:xfrm>
            <a:off x="3286080" y="2357280"/>
            <a:ext cx="2318760" cy="14284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3"/>
          <p:cNvSpPr/>
          <p:nvPr/>
        </p:nvSpPr>
        <p:spPr>
          <a:xfrm>
            <a:off x="428760" y="214200"/>
            <a:ext cx="84294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УТРА И ДО ГЛУБОКОЙ НОЧ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ДЁТ УБОРКА ХЛЕ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НЕ ПОТЕРЯТЬ НИ ЗЁРНЫ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одержимое 6"/>
          <p:cNvSpPr/>
          <p:nvPr/>
        </p:nvSpPr>
        <p:spPr>
          <a:xfrm>
            <a:off x="2247840" y="1714320"/>
            <a:ext cx="1610640" cy="1142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5500800" y="1857240"/>
            <a:ext cx="1999800" cy="14284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"/>
          <p:cNvSpPr/>
          <p:nvPr/>
        </p:nvSpPr>
        <p:spPr>
          <a:xfrm>
            <a:off x="785880" y="214200"/>
            <a:ext cx="771480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везти на элев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icture 2"/>
          <p:cNvSpPr/>
          <p:nvPr/>
        </p:nvSpPr>
        <p:spPr>
          <a:xfrm>
            <a:off x="2071800" y="3357720"/>
            <a:ext cx="3928680" cy="24285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714240" y="1143000"/>
            <a:ext cx="783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Что такое элева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хранилище с механическ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рудованием  для приёма, очист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шки, отгрузки з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ставить на мельниц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4"/>
          <p:cNvSpPr/>
          <p:nvPr/>
        </p:nvSpPr>
        <p:spPr>
          <a:xfrm>
            <a:off x="1643040" y="2714760"/>
            <a:ext cx="2499840" cy="17499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одержимое 5"/>
          <p:cNvSpPr/>
          <p:nvPr/>
        </p:nvSpPr>
        <p:spPr>
          <a:xfrm>
            <a:off x="6429240" y="2857320"/>
            <a:ext cx="2033280" cy="15202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642960" y="1214280"/>
            <a:ext cx="82864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ше путь зерна лежит на мельницу, там зерно перемалывают в м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1">
      <a:dk1>
        <a:srgbClr val="000000"/>
      </a:dk1>
      <a:lt1>
        <a:srgbClr val="ffffff"/>
      </a:lt1>
      <a:dk2>
        <a:srgbClr val="fe66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e36c09"/>
      </a:hlink>
      <a:folHlink>
        <a:srgbClr val="548d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1">
      <a:dk1>
        <a:srgbClr val="000000"/>
      </a:dk1>
      <a:lt1>
        <a:srgbClr val="ffffff"/>
      </a:lt1>
      <a:dk2>
        <a:srgbClr val="fe66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e36c09"/>
      </a:hlink>
      <a:folHlink>
        <a:srgbClr val="548d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1">
      <a:dk1>
        <a:srgbClr val="000000"/>
      </a:dk1>
      <a:lt1>
        <a:srgbClr val="ffffff"/>
      </a:lt1>
      <a:dk2>
        <a:srgbClr val="fe66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e36c09"/>
      </a:hlink>
      <a:folHlink>
        <a:srgbClr val="548d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Другая 1">
      <a:dk1>
        <a:srgbClr val="000000"/>
      </a:dk1>
      <a:lt1>
        <a:srgbClr val="ffffff"/>
      </a:lt1>
      <a:dk2>
        <a:srgbClr val="fe66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e36c09"/>
      </a:hlink>
      <a:folHlink>
        <a:srgbClr val="548d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  <Words>113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3:25:59Z</dcterms:created>
  <dc:creator>Роман</dc:creator>
  <dc:description/>
  <dc:language>en-US</dc:language>
  <cp:lastModifiedBy>учитель</cp:lastModifiedBy>
  <dcterms:modified xsi:type="dcterms:W3CDTF">2016-11-21T13:49:30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