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7C9-7E11-4587-9C21-793B3F0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380-90A6-43EC-8AC0-D8FA6A1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788-CDF8-4CEA-9780-B8F2AE83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949-8DE1-4A1C-8F20-644D2C3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E10-A783-434D-A40B-C7020AEC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67C5-4B70-4B9C-A6ED-66F0072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DA2-A271-40C5-9966-9802DAC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33D8-F18C-4A12-A489-88B88EA7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BAB-1AA0-4999-9AF2-0721B1C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39B-65E1-4F61-A5B7-AC5332E2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2455-CB14-4D84-BD9B-489BC26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D79-D0C9-4D4D-B7EE-7A98AE0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EE2-B37B-4839-92FD-8EA8BE8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51AE-1CDC-4A8B-9A32-6C4745C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DDEC-62D0-4874-BFD7-FBCDBDC9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181D-A0ED-4D16-B09E-1000948F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AD2-B89F-4E6A-8342-E1333BB4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8BA7-00B0-41E1-B9E3-895343CC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1DA5-C36D-4FE1-BB1A-C29618FD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D524-584F-473A-891B-F11F147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4916-4564-4CAA-B850-B99C1DE8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00A2-6D66-4E27-B41E-F7C5DC9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2CC-39D1-4026-9AC0-B309475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92F9-AE92-4604-A90F-892C82CB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E5C2-C134-40B6-B08D-922A95CE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4C6E-B2B0-4672-BD7C-47133E0A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29FD-96A7-4CBB-89A3-391DEFB2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59A8-1595-4091-B8A1-33182196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D7E5-673F-4237-95A9-04368808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530A-73FB-45FC-9359-87EDA384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20BF3-585C-4B94-A63D-907DDC17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078AE-33D3-45DF-98C1-A6DE4C1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FE36-0604-45A1-972A-05F8656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D87-1ECF-4772-B924-71C3A8BB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6145-25F1-4047-B430-7593453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4F26-53F7-4C0F-A75A-C83631F8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8D5C-E8EA-47EF-BE20-1763474D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18C7-7FA7-4B6A-B671-55912E8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225A-A37F-4DD5-952F-BDFF2C0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6120-57AA-4CD2-93AC-8EFBE17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F80F-9F39-4236-B3D1-773B57D6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037AC-A4C7-445C-8F21-D5C60DAD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F79B-BD14-44A4-8AAF-954DC7A7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98DF4-10B7-431D-8375-6AC39DCC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EED-1F9E-47C0-8F68-3638ACA4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4F56-EA51-4F1F-AC5A-6A6594C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467E-37FA-4457-B88E-D15F1472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352D-85BD-4AF5-934D-06D7321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9CE9-8A3A-484E-B5F5-7D2A28F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C489-B6BD-43F1-B28D-9FE55DA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1DBF5-915C-41D2-A611-B7793C04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E3E6-C8D4-48A4-89A3-BA50ACB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918B-3FDE-4142-9149-EA58E14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265D-21C3-444B-AD9E-76E3EEC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F284-1460-4267-9EBF-F057F38F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19F-9A70-4342-B18F-D33B837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0F2A-6355-4A67-9F2E-FA84EA1C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17E2-9388-4BA3-AE75-6BA2778A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3FB9-AC8C-48E8-86EC-073300D1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CFF8-9B98-4DB6-961C-D8C2425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13531-C308-43D8-8969-F50B2275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D301-56EA-405E-B226-3CBD3D6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25E6-8BFA-411C-8283-20707E1C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8C72-A47D-44D5-83E3-2CC4B6F0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A6C3-0792-4462-8DB1-64E31E0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DA95-E579-4D9B-9E15-47AC9265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D93-3946-4CB7-8E2D-109FA08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BB43-8133-48E3-92BE-2FA29AAB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D183-5429-4181-AA65-756AE8D8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96C0-C147-48B1-A076-718409C8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9E12-B9F7-4DF5-BAB9-5897BA69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D8F2-DA47-4ECF-9992-09424557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33C2-6F92-4E8D-8AC0-97EC17FD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541E5-7660-4F0A-8ED5-7E6C21F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CB632-A24C-4347-8ABA-D87CF7D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4B79-0DED-423C-A914-433DA0E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C187-EC55-4692-BF69-A02E056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958-B571-4ECB-81F7-DE44050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73162-5F1F-4313-94C9-8D69D43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694A-58EA-4AC4-8ACE-36C39BB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8F91-7E93-4D7D-8B4D-F108916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05AAB-C511-4828-B874-2FA4FB7C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9306-B25B-4CB3-949A-21285D50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7645-7A45-4EA1-9B5C-2BFE0A61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E80B-7919-4FF2-B617-673D9F53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87F0-754B-41FA-9C68-402BF05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8EF4-F1C9-489C-86AC-39510CD6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72FF7-C2C5-4F8A-8727-32C0EE7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C55-FFB9-4C0E-A0CD-80062FA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6ECB-C626-40B0-B518-C2E057DC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A343F-8DE4-49AE-8FF0-D5E5CFE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72A17-2F8E-48D6-A5AA-3A233EA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CA60-129F-49B5-A448-48A4A84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4EF7-8301-4840-8C25-F8FA70F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B0A3C-8C88-4C49-A8A6-EEA00C71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F2B7-4193-4F61-9EF5-EEFC5F88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82AC-8C32-420A-8FB0-ACBB874E690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BCF-490C-4794-A675-D786F49B1E1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F7B3-4D57-4A42-813A-4FE67C7D274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DBC0-8DAA-4DC1-8F29-CA51E646F49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A572-146B-4DF7-B93D-8C8A824FA63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6D28-F67A-4627-8580-13D62A24984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9CC7-5596-418E-AC1D-9A628306734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458-3266-4673-BCD6-FDA2DB8760A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image" Target="../media/image2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3.wmf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1763640" y="2421000"/>
            <a:ext cx="60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64653"/>
                </a:solidFill>
                <a:latin typeface="Arial"/>
              </a:rPr>
              <a:t>«Площадь трапеци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6465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64653"/>
                </a:solidFill>
                <a:latin typeface="Arial"/>
              </a:rPr>
              <a:t>8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64653"/>
              </a:solidFill>
              <a:latin typeface="Arial"/>
              <a:ea typeface="Arial"/>
            </a:endParaRPr>
          </a:p>
        </p:txBody>
      </p:sp>
      <p:pic>
        <p:nvPicPr>
          <p:cNvPr id="353" name="Нижний колонтитул 1" descr=""/>
          <p:cNvPicPr/>
          <p:nvPr/>
        </p:nvPicPr>
        <p:blipFill>
          <a:blip r:embed="rId1"/>
          <a:stretch/>
        </p:blipFill>
        <p:spPr>
          <a:xfrm>
            <a:off x="4925880" y="4230720"/>
            <a:ext cx="3748320" cy="927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C:\Documents and Settings\Admin\Мои документы\Мои рисунки\Организатор клипов (Microsoft)\j0434810.png"/>
          <p:cNvPicPr/>
          <p:nvPr/>
        </p:nvPicPr>
        <p:blipFill>
          <a:blip r:embed="rId2"/>
          <a:stretch/>
        </p:blipFill>
        <p:spPr>
          <a:xfrm>
            <a:off x="2411280" y="3789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11" descr=""/>
          <p:cNvPicPr/>
          <p:nvPr/>
        </p:nvPicPr>
        <p:blipFill>
          <a:blip r:embed="rId3"/>
          <a:stretch/>
        </p:blipFill>
        <p:spPr>
          <a:xfrm>
            <a:off x="828720" y="324000"/>
            <a:ext cx="7199280" cy="766440"/>
          </a:xfrm>
          <a:prstGeom prst="rect">
            <a:avLst/>
          </a:prstGeom>
          <a:ln w="0">
            <a:noFill/>
          </a:ln>
        </p:spPr>
      </p:pic>
      <p:pic>
        <p:nvPicPr>
          <p:cNvPr id="356" name="Нижний колонтитул 1" descr=""/>
          <p:cNvPicPr/>
          <p:nvPr/>
        </p:nvPicPr>
        <p:blipFill>
          <a:blip r:embed="rId4"/>
          <a:stretch/>
        </p:blipFill>
        <p:spPr>
          <a:xfrm>
            <a:off x="2627280" y="5462640"/>
            <a:ext cx="45957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3"/>
          <p:cNvSpPr/>
          <p:nvPr/>
        </p:nvSpPr>
        <p:spPr>
          <a:xfrm rot="10800000">
            <a:off x="539280" y="2780640"/>
            <a:ext cx="4032360" cy="2160360"/>
          </a:xfrm>
          <a:custGeom>
            <a:avLst/>
            <a:gdLst>
              <a:gd name="textAreaLeft" fmla="*/ 870840 w 4032360"/>
              <a:gd name="textAreaRight" fmla="*/ 3161520 w 4032360"/>
              <a:gd name="textAreaTop" fmla="*/ 466560 h 2160360"/>
              <a:gd name="textAreaBottom" fmla="*/ 16938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31" y="21600"/>
                </a:lnTo>
                <a:lnTo>
                  <a:pt x="1586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4"/>
          <p:cNvSpPr/>
          <p:nvPr/>
        </p:nvSpPr>
        <p:spPr>
          <a:xfrm>
            <a:off x="1619280" y="278136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AutoShape 5"/>
          <p:cNvSpPr/>
          <p:nvPr/>
        </p:nvSpPr>
        <p:spPr>
          <a:xfrm rot="10800000">
            <a:off x="3492000" y="2781000"/>
            <a:ext cx="1079640" cy="2160360"/>
          </a:xfrm>
          <a:prstGeom prst="rtTriangle">
            <a:avLst/>
          </a:prstGeom>
          <a:solidFill>
            <a:srgbClr val="46465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AutoShape 6"/>
          <p:cNvSpPr/>
          <p:nvPr/>
        </p:nvSpPr>
        <p:spPr>
          <a:xfrm flipH="1" rot="10815600">
            <a:off x="538920" y="2781000"/>
            <a:ext cx="1079640" cy="2160360"/>
          </a:xfrm>
          <a:prstGeom prst="rtTriangle">
            <a:avLst/>
          </a:prstGeom>
          <a:solidFill>
            <a:srgbClr val="46465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835280" y="342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18108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1810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140508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3349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4573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4573800" y="49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2407680" y="5089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4572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140360" y="393372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AKE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ab - ½cb - ½bd = b(a – 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2 –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2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8"/>
              <p:cNvSpPr txBox="1"/>
              <p:nvPr/>
            </p:nvSpPr>
            <p:spPr>
              <a:xfrm>
                <a:off x="5292720" y="4508640"/>
                <a:ext cx="31701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-c-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19"/>
          <p:cNvSpPr/>
          <p:nvPr/>
        </p:nvSpPr>
        <p:spPr>
          <a:xfrm>
            <a:off x="248436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176364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Rectangle 21"/>
          <p:cNvSpPr/>
          <p:nvPr/>
        </p:nvSpPr>
        <p:spPr>
          <a:xfrm>
            <a:off x="1619280" y="4797360"/>
            <a:ext cx="144360" cy="144360"/>
          </a:xfrm>
          <a:prstGeom prst="rect">
            <a:avLst/>
          </a:prstGeom>
          <a:solidFill>
            <a:srgbClr val="727ca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385308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901440" y="234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4932360" y="2421000"/>
            <a:ext cx="397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KE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B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ED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0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7016760" cy="1652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2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1"/>
          <p:cNvSpPr/>
          <p:nvPr/>
        </p:nvSpPr>
        <p:spPr>
          <a:xfrm>
            <a:off x="421344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284508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500544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510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3278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414180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30"/>
          <p:cNvSpPr/>
          <p:nvPr/>
        </p:nvSpPr>
        <p:spPr>
          <a:xfrm>
            <a:off x="2700360" y="5084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3"/>
          <p:cNvSpPr/>
          <p:nvPr/>
        </p:nvSpPr>
        <p:spPr>
          <a:xfrm>
            <a:off x="1979640" y="4653000"/>
            <a:ext cx="53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одобен треугольнику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DB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ленное на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вно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BF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ленно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F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ленное на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вно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ленное на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f+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этого следует, что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b5680"/>
                </a:solidFill>
                <a:latin typeface="Comic Sans MS"/>
              </a:rPr>
              <a:t>bf = a (f + 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35"/>
          <p:cNvSpPr/>
          <p:nvPr/>
        </p:nvSpPr>
        <p:spPr>
          <a:xfrm>
            <a:off x="32029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AutoShape 41"/>
          <p:cNvSpPr/>
          <p:nvPr/>
        </p:nvSpPr>
        <p:spPr>
          <a:xfrm rot="10800000">
            <a:off x="3203280" y="3213000"/>
            <a:ext cx="2305080" cy="936720"/>
          </a:xfrm>
          <a:custGeom>
            <a:avLst/>
            <a:gdLst>
              <a:gd name="textAreaLeft" fmla="*/ 480240 w 2305080"/>
              <a:gd name="textAreaRight" fmla="*/ 1824840 w 230508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AutoShape 42"/>
          <p:cNvSpPr/>
          <p:nvPr/>
        </p:nvSpPr>
        <p:spPr>
          <a:xfrm>
            <a:off x="3780000" y="2349360"/>
            <a:ext cx="1152360" cy="863640"/>
          </a:xfrm>
          <a:prstGeom prst="triangle">
            <a:avLst>
              <a:gd name="adj" fmla="val 50000"/>
            </a:avLst>
          </a:prstGeom>
          <a:solidFill>
            <a:srgbClr val="e3f3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43"/>
          <p:cNvSpPr/>
          <p:nvPr/>
        </p:nvSpPr>
        <p:spPr>
          <a:xfrm>
            <a:off x="4356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45"/>
          <p:cNvSpPr/>
          <p:nvPr/>
        </p:nvSpPr>
        <p:spPr>
          <a:xfrm>
            <a:off x="4078440" y="3213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6"/>
          <p:cNvSpPr/>
          <p:nvPr/>
        </p:nvSpPr>
        <p:spPr>
          <a:xfrm>
            <a:off x="4304520" y="26370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47"/>
          <p:cNvSpPr/>
          <p:nvPr/>
        </p:nvSpPr>
        <p:spPr>
          <a:xfrm>
            <a:off x="3704760" y="31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48"/>
          <p:cNvSpPr/>
          <p:nvPr/>
        </p:nvSpPr>
        <p:spPr>
          <a:xfrm>
            <a:off x="4281480" y="350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7" name="Прямоугольник 1" descr=""/>
          <p:cNvPicPr/>
          <p:nvPr/>
        </p:nvPicPr>
        <p:blipFill>
          <a:blip r:embed="rId1"/>
          <a:stretch/>
        </p:blipFill>
        <p:spPr>
          <a:xfrm>
            <a:off x="1530360" y="171360"/>
            <a:ext cx="60660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421344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84508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500544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510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3278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14180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32029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AutoShape 11"/>
          <p:cNvSpPr/>
          <p:nvPr/>
        </p:nvSpPr>
        <p:spPr>
          <a:xfrm rot="10800000">
            <a:off x="3203280" y="3213000"/>
            <a:ext cx="2305080" cy="936720"/>
          </a:xfrm>
          <a:custGeom>
            <a:avLst/>
            <a:gdLst>
              <a:gd name="textAreaLeft" fmla="*/ 480240 w 2305080"/>
              <a:gd name="textAreaRight" fmla="*/ 1824840 w 230508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AutoShape 12"/>
          <p:cNvSpPr/>
          <p:nvPr/>
        </p:nvSpPr>
        <p:spPr>
          <a:xfrm>
            <a:off x="3780000" y="2349360"/>
            <a:ext cx="1152360" cy="863640"/>
          </a:xfrm>
          <a:prstGeom prst="triangle">
            <a:avLst>
              <a:gd name="adj" fmla="val 50000"/>
            </a:avLst>
          </a:prstGeom>
          <a:solidFill>
            <a:srgbClr val="e3f3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4356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4078440" y="3213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4304520" y="26370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3704760" y="31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17"/>
          <p:cNvSpPr/>
          <p:nvPr/>
        </p:nvSpPr>
        <p:spPr>
          <a:xfrm>
            <a:off x="4281480" y="350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3543480" y="482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19"/>
          <p:cNvSpPr/>
          <p:nvPr/>
        </p:nvSpPr>
        <p:spPr>
          <a:xfrm>
            <a:off x="3534480" y="4797360"/>
            <a:ext cx="1812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ABC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½b (f + 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4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76280"/>
            <a:ext cx="7162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421344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84508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500544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510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327852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414180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029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12"/>
          <p:cNvSpPr/>
          <p:nvPr/>
        </p:nvSpPr>
        <p:spPr>
          <a:xfrm rot="10800000">
            <a:off x="3203280" y="3213000"/>
            <a:ext cx="2305080" cy="936720"/>
          </a:xfrm>
          <a:custGeom>
            <a:avLst/>
            <a:gdLst>
              <a:gd name="textAreaLeft" fmla="*/ 480240 w 2305080"/>
              <a:gd name="textAreaRight" fmla="*/ 1824840 w 230508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3780000" y="2349360"/>
            <a:ext cx="1152360" cy="863640"/>
          </a:xfrm>
          <a:prstGeom prst="triangle">
            <a:avLst>
              <a:gd name="adj" fmla="val 50000"/>
            </a:avLst>
          </a:prstGeom>
          <a:solidFill>
            <a:srgbClr val="e3f3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4356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4078440" y="3213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4304520" y="26370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3704760" y="31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4281480" y="350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9"/>
          <p:cNvSpPr/>
          <p:nvPr/>
        </p:nvSpPr>
        <p:spPr>
          <a:xfrm>
            <a:off x="3568680" y="48211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DBE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= ½a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0" name="Прямоугольник 1" descr=""/>
          <p:cNvPicPr/>
          <p:nvPr/>
        </p:nvPicPr>
        <p:blipFill>
          <a:blip r:embed="rId1"/>
          <a:stretch/>
        </p:blipFill>
        <p:spPr>
          <a:xfrm>
            <a:off x="1096920" y="165240"/>
            <a:ext cx="65530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4"/>
          <p:cNvSpPr/>
          <p:nvPr/>
        </p:nvSpPr>
        <p:spPr>
          <a:xfrm>
            <a:off x="1951560" y="4797360"/>
            <a:ext cx="65282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ADEC = </a:t>
            </a:r>
            <a:r>
              <a:rPr b="0" lang="en-US" sz="24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ABC – </a:t>
            </a:r>
            <a:r>
              <a:rPr b="0" lang="en-US" sz="24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DBE = ½b (f + h) - ½af = ½ (bf + bh – af)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½ (a (f + h) + bh – af) = ½ (</a:t>
            </a:r>
            <a:r>
              <a:rPr b="0" lang="en-US" sz="1800" spc="-1" strike="noStrike">
                <a:solidFill>
                  <a:srgbClr val="6b5680"/>
                </a:solidFill>
                <a:latin typeface="Comic Sans MS"/>
              </a:rPr>
              <a:t>af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+ ah + bh </a:t>
            </a:r>
            <a:r>
              <a:rPr b="0" lang="en-US" sz="1800" spc="-1" strike="noStrike">
                <a:solidFill>
                  <a:srgbClr val="6b568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b5680"/>
                </a:solidFill>
                <a:latin typeface="Comic Sans MS"/>
              </a:rPr>
              <a:t>af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) = ½ (ah + bh ) 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6b5680"/>
                </a:solidFill>
                <a:latin typeface="Comic Sans MS"/>
              </a:rPr>
              <a:t>½h (a + 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306072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52"/>
          <p:cNvSpPr/>
          <p:nvPr/>
        </p:nvSpPr>
        <p:spPr>
          <a:xfrm>
            <a:off x="442944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522288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55"/>
          <p:cNvSpPr/>
          <p:nvPr/>
        </p:nvSpPr>
        <p:spPr>
          <a:xfrm>
            <a:off x="5726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349596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57"/>
          <p:cNvSpPr/>
          <p:nvPr/>
        </p:nvSpPr>
        <p:spPr>
          <a:xfrm>
            <a:off x="435960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420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59"/>
          <p:cNvSpPr/>
          <p:nvPr/>
        </p:nvSpPr>
        <p:spPr>
          <a:xfrm rot="10800000">
            <a:off x="3420720" y="3213000"/>
            <a:ext cx="2305080" cy="936720"/>
          </a:xfrm>
          <a:custGeom>
            <a:avLst/>
            <a:gdLst>
              <a:gd name="textAreaLeft" fmla="*/ 480240 w 2305080"/>
              <a:gd name="textAreaRight" fmla="*/ 1824840 w 230508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60"/>
          <p:cNvSpPr/>
          <p:nvPr/>
        </p:nvSpPr>
        <p:spPr>
          <a:xfrm>
            <a:off x="3997440" y="2349360"/>
            <a:ext cx="1152360" cy="863640"/>
          </a:xfrm>
          <a:prstGeom prst="triangle">
            <a:avLst>
              <a:gd name="adj" fmla="val 50000"/>
            </a:avLst>
          </a:prstGeom>
          <a:solidFill>
            <a:srgbClr val="e3f3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Line 61"/>
          <p:cNvSpPr/>
          <p:nvPr/>
        </p:nvSpPr>
        <p:spPr>
          <a:xfrm>
            <a:off x="457344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2"/>
          <p:cNvSpPr/>
          <p:nvPr/>
        </p:nvSpPr>
        <p:spPr>
          <a:xfrm>
            <a:off x="4295880" y="32130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63"/>
          <p:cNvSpPr/>
          <p:nvPr/>
        </p:nvSpPr>
        <p:spPr>
          <a:xfrm>
            <a:off x="4521960" y="26370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3922200" y="31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65"/>
          <p:cNvSpPr/>
          <p:nvPr/>
        </p:nvSpPr>
        <p:spPr>
          <a:xfrm>
            <a:off x="4498920" y="3500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6" name="Прямоугольник 1" descr=""/>
          <p:cNvPicPr/>
          <p:nvPr/>
        </p:nvPicPr>
        <p:blipFill>
          <a:blip r:embed="rId1"/>
          <a:stretch/>
        </p:blipFill>
        <p:spPr>
          <a:xfrm>
            <a:off x="1146240" y="324000"/>
            <a:ext cx="65595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4"/>
          <p:cNvSpPr/>
          <p:nvPr/>
        </p:nvSpPr>
        <p:spPr>
          <a:xfrm>
            <a:off x="3276720" y="2852640"/>
            <a:ext cx="3240000" cy="1008000"/>
          </a:xfrm>
          <a:prstGeom prst="parallelogram">
            <a:avLst>
              <a:gd name="adj" fmla="val 80357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AutoShape 5"/>
          <p:cNvSpPr/>
          <p:nvPr/>
        </p:nvSpPr>
        <p:spPr>
          <a:xfrm rot="10800000">
            <a:off x="2771640" y="2852640"/>
            <a:ext cx="2952720" cy="1008000"/>
          </a:xfrm>
          <a:custGeom>
            <a:avLst/>
            <a:gdLst>
              <a:gd name="textAreaLeft" fmla="*/ 614880 w 2952720"/>
              <a:gd name="textAreaRight" fmla="*/ 2337840 w 2952720"/>
              <a:gd name="textAreaTop" fmla="*/ 209880 h 1008000"/>
              <a:gd name="textAreaBottom" fmla="*/ 7981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920760" y="2565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5435280" y="2565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5724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5700600" y="30211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11"/>
          <p:cNvSpPr/>
          <p:nvPr/>
        </p:nvSpPr>
        <p:spPr>
          <a:xfrm>
            <a:off x="3492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489120" y="3213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85056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2486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27852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6516720" y="256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572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478980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962160" y="472428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ABCD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= hb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2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231840"/>
            <a:ext cx="70531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21"/>
          <p:cNvSpPr/>
          <p:nvPr/>
        </p:nvSpPr>
        <p:spPr>
          <a:xfrm>
            <a:off x="3276720" y="2852640"/>
            <a:ext cx="3240000" cy="1008000"/>
          </a:xfrm>
          <a:prstGeom prst="parallelogram">
            <a:avLst>
              <a:gd name="adj" fmla="val 80357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22"/>
          <p:cNvSpPr/>
          <p:nvPr/>
        </p:nvSpPr>
        <p:spPr>
          <a:xfrm rot="10800000">
            <a:off x="2771640" y="2852640"/>
            <a:ext cx="2952720" cy="1008000"/>
          </a:xfrm>
          <a:custGeom>
            <a:avLst/>
            <a:gdLst>
              <a:gd name="textAreaLeft" fmla="*/ 614880 w 2952720"/>
              <a:gd name="textAreaRight" fmla="*/ 2337840 w 2952720"/>
              <a:gd name="textAreaTop" fmla="*/ 209880 h 1008000"/>
              <a:gd name="textAreaBottom" fmla="*/ 7981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3920760" y="2565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5435280" y="2565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Line 25"/>
          <p:cNvSpPr/>
          <p:nvPr/>
        </p:nvSpPr>
        <p:spPr>
          <a:xfrm flipV="1">
            <a:off x="5724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5700600" y="30211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3492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3489120" y="3213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385056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2486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327852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6516720" y="256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572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78980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 Box 49"/>
          <p:cNvSpPr/>
          <p:nvPr/>
        </p:nvSpPr>
        <p:spPr>
          <a:xfrm>
            <a:off x="3903840" y="46054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ECD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½e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8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390600"/>
            <a:ext cx="69310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15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5"/>
          <p:cNvSpPr/>
          <p:nvPr/>
        </p:nvSpPr>
        <p:spPr>
          <a:xfrm>
            <a:off x="3276720" y="2852640"/>
            <a:ext cx="3240000" cy="1008000"/>
          </a:xfrm>
          <a:prstGeom prst="parallelogram">
            <a:avLst>
              <a:gd name="adj" fmla="val 80357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6"/>
          <p:cNvSpPr/>
          <p:nvPr/>
        </p:nvSpPr>
        <p:spPr>
          <a:xfrm rot="10800000">
            <a:off x="2771640" y="2852640"/>
            <a:ext cx="2952720" cy="1008000"/>
          </a:xfrm>
          <a:custGeom>
            <a:avLst/>
            <a:gdLst>
              <a:gd name="textAreaLeft" fmla="*/ 614880 w 2952720"/>
              <a:gd name="textAreaRight" fmla="*/ 2337840 w 2952720"/>
              <a:gd name="textAreaTop" fmla="*/ 209880 h 1008000"/>
              <a:gd name="textAreaBottom" fmla="*/ 7981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3920760" y="2565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5435280" y="25653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5724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700600" y="30211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349236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489120" y="3213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385056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2486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327852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6516720" y="256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2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78980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2383200" y="4460760"/>
            <a:ext cx="51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ABED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 = 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ABCD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– S</a:t>
            </a:r>
            <a:r>
              <a:rPr b="0" lang="en-US" sz="1200" spc="-1" strike="noStrike">
                <a:solidFill>
                  <a:srgbClr val="464653"/>
                </a:solidFill>
                <a:latin typeface="Comic Sans MS"/>
              </a:rPr>
              <a:t>ECD </a:t>
            </a: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hb - ½eh = h (a + e) - ½eh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ah + eh - ½eh = ah + ½eh = ½h ( 2a + e)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omic Sans MS"/>
              </a:rPr>
              <a:t>= ½h ( 2a + (b – a)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6b5680"/>
                </a:solidFill>
                <a:latin typeface="Comic Sans MS"/>
              </a:rPr>
              <a:t>= ½h (a + 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4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311040"/>
            <a:ext cx="69328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1695600"/>
            <a:ext cx="7918560" cy="275400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2" descr=""/>
          <p:cNvPicPr/>
          <p:nvPr/>
        </p:nvPicPr>
        <p:blipFill>
          <a:blip r:embed="rId2"/>
          <a:stretch/>
        </p:blipFill>
        <p:spPr>
          <a:xfrm>
            <a:off x="2219400" y="158760"/>
            <a:ext cx="4125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165240"/>
            <a:ext cx="8783640" cy="1120680"/>
          </a:xfrm>
          <a:prstGeom prst="rect">
            <a:avLst/>
          </a:prstGeom>
          <a:ln w="0">
            <a:noFill/>
          </a:ln>
        </p:spPr>
      </p:pic>
      <p:sp>
        <p:nvSpPr>
          <p:cNvPr id="360" name="Трапеция 2"/>
          <p:cNvSpPr/>
          <p:nvPr/>
        </p:nvSpPr>
        <p:spPr>
          <a:xfrm>
            <a:off x="1928880" y="1857240"/>
            <a:ext cx="5643360" cy="3786480"/>
          </a:xfrm>
          <a:custGeom>
            <a:avLst/>
            <a:gdLst/>
            <a:ahLst/>
            <a:rect l="l" t="t" r="r" b="b"/>
            <a:pathLst>
              <a:path w="5643602" h="3786214">
                <a:moveTo>
                  <a:pt x="0" y="3786214"/>
                </a:moveTo>
                <a:lnTo>
                  <a:pt x="946554" y="0"/>
                </a:lnTo>
                <a:lnTo>
                  <a:pt x="4697049" y="0"/>
                </a:lnTo>
                <a:lnTo>
                  <a:pt x="5643602" y="3786214"/>
                </a:lnTo>
                <a:lnTo>
                  <a:pt x="0" y="3786214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285920" y="52149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2214720" y="14288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6786720" y="142884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7643880" y="52149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Прямая соединительная линия 7" descr=""/>
          <p:cNvPicPr/>
          <p:nvPr/>
        </p:nvPicPr>
        <p:blipFill>
          <a:blip r:embed="rId2"/>
          <a:stretch/>
        </p:blipFill>
        <p:spPr>
          <a:xfrm>
            <a:off x="2786040" y="1828800"/>
            <a:ext cx="4863960" cy="39387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ая соединительная линия 8" descr=""/>
          <p:cNvPicPr/>
          <p:nvPr/>
        </p:nvPicPr>
        <p:blipFill>
          <a:blip r:embed="rId3"/>
          <a:stretch/>
        </p:blipFill>
        <p:spPr>
          <a:xfrm>
            <a:off x="1852560" y="1828800"/>
            <a:ext cx="4865760" cy="39387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ая соединительная линия 9" descr=""/>
          <p:cNvPicPr/>
          <p:nvPr/>
        </p:nvPicPr>
        <p:blipFill>
          <a:blip r:embed="rId4"/>
          <a:stretch/>
        </p:blipFill>
        <p:spPr>
          <a:xfrm>
            <a:off x="2779560" y="1835280"/>
            <a:ext cx="158760" cy="3919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10"/>
          <p:cNvSpPr/>
          <p:nvPr/>
        </p:nvSpPr>
        <p:spPr>
          <a:xfrm>
            <a:off x="2428920" y="5786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TextBox 11" descr=""/>
          <p:cNvPicPr/>
          <p:nvPr/>
        </p:nvPicPr>
        <p:blipFill>
          <a:blip r:embed="rId5"/>
          <a:stretch/>
        </p:blipFill>
        <p:spPr>
          <a:xfrm>
            <a:off x="4200480" y="2371680"/>
            <a:ext cx="1066680" cy="11271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2"/>
          <p:cNvSpPr/>
          <p:nvPr/>
        </p:nvSpPr>
        <p:spPr>
          <a:xfrm>
            <a:off x="4357800" y="1143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4572000" y="571500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Box 14"/>
          <p:cNvSpPr/>
          <p:nvPr/>
        </p:nvSpPr>
        <p:spPr>
          <a:xfrm>
            <a:off x="1857240" y="321480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Box 15"/>
          <p:cNvSpPr/>
          <p:nvPr/>
        </p:nvSpPr>
        <p:spPr>
          <a:xfrm>
            <a:off x="7215120" y="30718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4" name="TextBox 16" descr=""/>
          <p:cNvPicPr/>
          <p:nvPr/>
        </p:nvPicPr>
        <p:blipFill>
          <a:blip r:embed="rId6"/>
          <a:stretch/>
        </p:blipFill>
        <p:spPr>
          <a:xfrm>
            <a:off x="3200400" y="3157560"/>
            <a:ext cx="1274760" cy="112860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17" descr=""/>
          <p:cNvPicPr/>
          <p:nvPr/>
        </p:nvPicPr>
        <p:blipFill>
          <a:blip r:embed="rId7"/>
          <a:stretch/>
        </p:blipFill>
        <p:spPr>
          <a:xfrm>
            <a:off x="5126040" y="3011400"/>
            <a:ext cx="1519200" cy="11271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8"/>
          <p:cNvSpPr/>
          <p:nvPr/>
        </p:nvSpPr>
        <p:spPr>
          <a:xfrm>
            <a:off x="2643120" y="5429160"/>
            <a:ext cx="214560" cy="21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" descr=""/>
          <p:cNvPicPr/>
          <p:nvPr/>
        </p:nvPicPr>
        <p:blipFill>
          <a:blip r:embed="rId1"/>
          <a:stretch/>
        </p:blipFill>
        <p:spPr>
          <a:xfrm>
            <a:off x="189000" y="92160"/>
            <a:ext cx="9333000" cy="5443560"/>
          </a:xfrm>
          <a:prstGeom prst="rect">
            <a:avLst/>
          </a:prstGeom>
          <a:ln w="0">
            <a:noFill/>
          </a:ln>
        </p:spPr>
      </p:pic>
      <p:sp>
        <p:nvSpPr>
          <p:cNvPr id="378" name="Равнобедренный треугольник 2"/>
          <p:cNvSpPr/>
          <p:nvPr/>
        </p:nvSpPr>
        <p:spPr>
          <a:xfrm rot="1766400">
            <a:off x="1412640" y="1596960"/>
            <a:ext cx="1357200" cy="1457280"/>
          </a:xfrm>
          <a:prstGeom prst="triangle">
            <a:avLst>
              <a:gd name="adj" fmla="val 92056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Равнобедренный треугольник 3"/>
          <p:cNvSpPr/>
          <p:nvPr/>
        </p:nvSpPr>
        <p:spPr>
          <a:xfrm rot="20593200">
            <a:off x="2103480" y="2050920"/>
            <a:ext cx="1012680" cy="1113120"/>
          </a:xfrm>
          <a:prstGeom prst="triangle">
            <a:avLst>
              <a:gd name="adj" fmla="val 100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Равнобедренный треугольник 4"/>
          <p:cNvSpPr/>
          <p:nvPr/>
        </p:nvSpPr>
        <p:spPr>
          <a:xfrm rot="20184600">
            <a:off x="2955600" y="1696680"/>
            <a:ext cx="1219320" cy="1106640"/>
          </a:xfrm>
          <a:prstGeom prst="triangle">
            <a:avLst>
              <a:gd name="adj" fmla="val 11352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Прямоугольник 5" descr=""/>
          <p:cNvPicPr/>
          <p:nvPr/>
        </p:nvPicPr>
        <p:blipFill>
          <a:blip r:embed="rId2"/>
          <a:stretch/>
        </p:blipFill>
        <p:spPr>
          <a:xfrm>
            <a:off x="4632480" y="1889280"/>
            <a:ext cx="2963880" cy="1560240"/>
          </a:xfrm>
          <a:prstGeom prst="rect">
            <a:avLst/>
          </a:prstGeom>
          <a:ln w="0">
            <a:noFill/>
          </a:ln>
        </p:spPr>
      </p:pic>
      <p:sp>
        <p:nvSpPr>
          <p:cNvPr id="382" name="Трапеция 6"/>
          <p:cNvSpPr/>
          <p:nvPr/>
        </p:nvSpPr>
        <p:spPr>
          <a:xfrm>
            <a:off x="2714760" y="5143680"/>
            <a:ext cx="2714400" cy="1428480"/>
          </a:xfrm>
          <a:custGeom>
            <a:avLst/>
            <a:gdLst/>
            <a:ahLst/>
            <a:rect l="l" t="t" r="r" b="b"/>
            <a:pathLst>
              <a:path w="2714644" h="1428760">
                <a:moveTo>
                  <a:pt x="0" y="1428760"/>
                </a:moveTo>
                <a:lnTo>
                  <a:pt x="631512" y="0"/>
                </a:lnTo>
                <a:lnTo>
                  <a:pt x="2083132" y="0"/>
                </a:lnTo>
                <a:lnTo>
                  <a:pt x="2714644" y="1428760"/>
                </a:lnTo>
                <a:lnTo>
                  <a:pt x="0" y="1428760"/>
                </a:lnTo>
                <a:close/>
              </a:path>
            </a:pathLst>
          </a:custGeom>
          <a:solidFill>
            <a:srgbClr val="727ca3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Прямая соединительная линия 7"/>
          <p:cNvSpPr/>
          <p:nvPr/>
        </p:nvSpPr>
        <p:spPr>
          <a:xfrm flipH="1">
            <a:off x="4785840" y="5143680"/>
            <a:ext cx="1800" cy="14284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Правая фигурная скобка 8"/>
          <p:cNvSpPr/>
          <p:nvPr/>
        </p:nvSpPr>
        <p:spPr>
          <a:xfrm>
            <a:off x="5643720" y="514368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5" name="Стрелка влево 9" descr=""/>
          <p:cNvPicPr/>
          <p:nvPr/>
        </p:nvPicPr>
        <p:blipFill>
          <a:blip r:embed="rId3"/>
          <a:stretch/>
        </p:blipFill>
        <p:spPr>
          <a:xfrm>
            <a:off x="6492960" y="5425920"/>
            <a:ext cx="2260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3" descr=""/>
          <p:cNvPicPr/>
          <p:nvPr/>
        </p:nvPicPr>
        <p:blipFill>
          <a:blip r:embed="rId1"/>
          <a:stretch/>
        </p:blipFill>
        <p:spPr>
          <a:xfrm>
            <a:off x="384120" y="907920"/>
            <a:ext cx="7924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"/>
          <p:cNvSpPr/>
          <p:nvPr/>
        </p:nvSpPr>
        <p:spPr>
          <a:xfrm>
            <a:off x="1214280" y="5929200"/>
            <a:ext cx="2000520" cy="714600"/>
          </a:xfrm>
          <a:prstGeom prst="rect">
            <a:avLst/>
          </a:prstGeom>
          <a:solidFill>
            <a:srgbClr val="9fb8cd">
              <a:alpha val="14000"/>
            </a:srgbClr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3359160" y="-12600"/>
            <a:ext cx="5424480" cy="29876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2"/>
          <a:stretch/>
        </p:blipFill>
        <p:spPr>
          <a:xfrm>
            <a:off x="0" y="457200"/>
            <a:ext cx="11448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3" descr=""/>
          <p:cNvPicPr/>
          <p:nvPr/>
        </p:nvPicPr>
        <p:blipFill>
          <a:blip r:embed="rId3"/>
          <a:stretch/>
        </p:blipFill>
        <p:spPr>
          <a:xfrm>
            <a:off x="0" y="847800"/>
            <a:ext cx="219240" cy="26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Объект 6"/>
          <p:cNvGraphicFramePr/>
          <p:nvPr/>
        </p:nvGraphicFramePr>
        <p:xfrm>
          <a:off x="6572160" y="2071800"/>
          <a:ext cx="285840" cy="73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3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72160" y="2071800"/>
                    <a:ext cx="285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Заголовок 1" descr=""/>
          <p:cNvPicPr/>
          <p:nvPr/>
        </p:nvPicPr>
        <p:blipFill>
          <a:blip r:embed="rId6"/>
          <a:stretch/>
        </p:blipFill>
        <p:spPr>
          <a:xfrm>
            <a:off x="895320" y="2401920"/>
            <a:ext cx="8566200" cy="39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6"/>
          <p:cNvGraphicFramePr/>
          <p:nvPr/>
        </p:nvGraphicFramePr>
        <p:xfrm>
          <a:off x="2143080" y="5072040"/>
          <a:ext cx="285840" cy="7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5072040"/>
                    <a:ext cx="28584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7"/>
          <p:cNvGraphicFramePr/>
          <p:nvPr/>
        </p:nvGraphicFramePr>
        <p:xfrm>
          <a:off x="3786120" y="5072040"/>
          <a:ext cx="285840" cy="73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6120" y="5072040"/>
                    <a:ext cx="28584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8"/>
          <p:cNvGraphicFramePr/>
          <p:nvPr/>
        </p:nvGraphicFramePr>
        <p:xfrm>
          <a:off x="1928880" y="4572000"/>
          <a:ext cx="285840" cy="738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28880" y="4572000"/>
                    <a:ext cx="28584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9"/>
          <p:cNvGraphicFramePr/>
          <p:nvPr/>
        </p:nvGraphicFramePr>
        <p:xfrm>
          <a:off x="4572000" y="4500720"/>
          <a:ext cx="285840" cy="73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0" y="4500720"/>
                    <a:ext cx="285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0"/>
          <p:cNvGraphicFramePr/>
          <p:nvPr/>
        </p:nvGraphicFramePr>
        <p:xfrm>
          <a:off x="5643720" y="5072040"/>
          <a:ext cx="285480" cy="73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43720" y="5072040"/>
                    <a:ext cx="2854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Объект 13"/>
          <p:cNvGraphicFramePr/>
          <p:nvPr/>
        </p:nvGraphicFramePr>
        <p:xfrm>
          <a:off x="2693880" y="5859360"/>
          <a:ext cx="1928880" cy="85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93880" y="5859360"/>
                    <a:ext cx="19288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Трапеция 14"/>
          <p:cNvSpPr/>
          <p:nvPr/>
        </p:nvSpPr>
        <p:spPr>
          <a:xfrm>
            <a:off x="642960" y="714240"/>
            <a:ext cx="2428920" cy="1571760"/>
          </a:xfrm>
          <a:custGeom>
            <a:avLst/>
            <a:gdLst/>
            <a:ahLst/>
            <a:rect l="l" t="t" r="r" b="b"/>
            <a:pathLst>
              <a:path w="2428892" h="1571636">
                <a:moveTo>
                  <a:pt x="0" y="1571636"/>
                </a:moveTo>
                <a:lnTo>
                  <a:pt x="465330" y="0"/>
                </a:lnTo>
                <a:lnTo>
                  <a:pt x="1963562" y="0"/>
                </a:lnTo>
                <a:lnTo>
                  <a:pt x="2428892" y="1571636"/>
                </a:lnTo>
                <a:lnTo>
                  <a:pt x="0" y="1571636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TextBox 15" descr=""/>
          <p:cNvPicPr/>
          <p:nvPr/>
        </p:nvPicPr>
        <p:blipFill>
          <a:blip r:embed="rId19"/>
          <a:stretch/>
        </p:blipFill>
        <p:spPr>
          <a:xfrm>
            <a:off x="219240" y="2066760"/>
            <a:ext cx="731520" cy="79236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16" descr=""/>
          <p:cNvPicPr/>
          <p:nvPr/>
        </p:nvPicPr>
        <p:blipFill>
          <a:blip r:embed="rId20"/>
          <a:stretch/>
        </p:blipFill>
        <p:spPr>
          <a:xfrm>
            <a:off x="2932200" y="1994040"/>
            <a:ext cx="738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TextBox 17" descr=""/>
          <p:cNvPicPr/>
          <p:nvPr/>
        </p:nvPicPr>
        <p:blipFill>
          <a:blip r:embed="rId21"/>
          <a:stretch/>
        </p:blipFill>
        <p:spPr>
          <a:xfrm>
            <a:off x="646200" y="139680"/>
            <a:ext cx="712800" cy="793800"/>
          </a:xfrm>
          <a:prstGeom prst="rect">
            <a:avLst/>
          </a:prstGeom>
          <a:ln w="0">
            <a:noFill/>
          </a:ln>
        </p:spPr>
      </p:pic>
      <p:pic>
        <p:nvPicPr>
          <p:cNvPr id="411" name="TextBox 18" descr=""/>
          <p:cNvPicPr/>
          <p:nvPr/>
        </p:nvPicPr>
        <p:blipFill>
          <a:blip r:embed="rId22"/>
          <a:stretch/>
        </p:blipFill>
        <p:spPr>
          <a:xfrm>
            <a:off x="2219400" y="139680"/>
            <a:ext cx="706320" cy="7938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 flipH="1">
            <a:off x="1141560" y="714240"/>
            <a:ext cx="1440" cy="157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Прямая соединительная линия 20"/>
          <p:cNvSpPr/>
          <p:nvPr/>
        </p:nvSpPr>
        <p:spPr>
          <a:xfrm flipH="1">
            <a:off x="3071880" y="714240"/>
            <a:ext cx="1440" cy="157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4" name="TextBox 21" descr=""/>
          <p:cNvPicPr/>
          <p:nvPr/>
        </p:nvPicPr>
        <p:blipFill>
          <a:blip r:embed="rId23"/>
          <a:stretch/>
        </p:blipFill>
        <p:spPr>
          <a:xfrm>
            <a:off x="1006560" y="2139840"/>
            <a:ext cx="749160" cy="79236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ая соединительная линия 22"/>
          <p:cNvSpPr/>
          <p:nvPr/>
        </p:nvSpPr>
        <p:spPr>
          <a:xfrm>
            <a:off x="2571840" y="714240"/>
            <a:ext cx="714240" cy="18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Прямоугольник 23"/>
          <p:cNvSpPr/>
          <p:nvPr/>
        </p:nvSpPr>
        <p:spPr>
          <a:xfrm>
            <a:off x="928800" y="2071800"/>
            <a:ext cx="21420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Прямоугольник 24"/>
          <p:cNvSpPr/>
          <p:nvPr/>
        </p:nvSpPr>
        <p:spPr>
          <a:xfrm>
            <a:off x="2857680" y="714240"/>
            <a:ext cx="214200" cy="21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TextBox 25" descr=""/>
          <p:cNvPicPr/>
          <p:nvPr/>
        </p:nvPicPr>
        <p:blipFill>
          <a:blip r:embed="rId24"/>
          <a:stretch/>
        </p:blipFill>
        <p:spPr>
          <a:xfrm>
            <a:off x="3078000" y="493560"/>
            <a:ext cx="963720" cy="79236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ая соединительная линия 26"/>
          <p:cNvSpPr/>
          <p:nvPr/>
        </p:nvSpPr>
        <p:spPr>
          <a:xfrm>
            <a:off x="1143000" y="714240"/>
            <a:ext cx="1928880" cy="157176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360360" y="165240"/>
            <a:ext cx="8783640" cy="1120680"/>
          </a:xfrm>
          <a:prstGeom prst="rect">
            <a:avLst/>
          </a:prstGeom>
          <a:ln w="0">
            <a:noFill/>
          </a:ln>
        </p:spPr>
      </p:pic>
      <p:sp>
        <p:nvSpPr>
          <p:cNvPr id="421" name="Трапеция 2"/>
          <p:cNvSpPr/>
          <p:nvPr/>
        </p:nvSpPr>
        <p:spPr>
          <a:xfrm>
            <a:off x="1928880" y="1857240"/>
            <a:ext cx="2714400" cy="1785960"/>
          </a:xfrm>
          <a:custGeom>
            <a:avLst/>
            <a:gdLst/>
            <a:ahLst/>
            <a:rect l="l" t="t" r="r" b="b"/>
            <a:pathLst>
              <a:path w="2714644" h="1785950">
                <a:moveTo>
                  <a:pt x="0" y="1785950"/>
                </a:moveTo>
                <a:lnTo>
                  <a:pt x="446488" y="0"/>
                </a:lnTo>
                <a:lnTo>
                  <a:pt x="2268157" y="0"/>
                </a:lnTo>
                <a:lnTo>
                  <a:pt x="2714644" y="1785950"/>
                </a:lnTo>
                <a:lnTo>
                  <a:pt x="0" y="1785950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2" name="TextBox 3" descr=""/>
          <p:cNvPicPr/>
          <p:nvPr/>
        </p:nvPicPr>
        <p:blipFill>
          <a:blip r:embed="rId2"/>
          <a:stretch/>
        </p:blipFill>
        <p:spPr>
          <a:xfrm>
            <a:off x="981000" y="3224160"/>
            <a:ext cx="1042920" cy="1128600"/>
          </a:xfrm>
          <a:prstGeom prst="rect">
            <a:avLst/>
          </a:prstGeom>
          <a:ln w="0">
            <a:noFill/>
          </a:ln>
        </p:spPr>
      </p:pic>
      <p:pic>
        <p:nvPicPr>
          <p:cNvPr id="423" name="TextBox 4" descr=""/>
          <p:cNvPicPr/>
          <p:nvPr/>
        </p:nvPicPr>
        <p:blipFill>
          <a:blip r:embed="rId3"/>
          <a:stretch/>
        </p:blipFill>
        <p:spPr>
          <a:xfrm>
            <a:off x="1627200" y="1225440"/>
            <a:ext cx="987480" cy="112716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5" descr=""/>
          <p:cNvPicPr/>
          <p:nvPr/>
        </p:nvPicPr>
        <p:blipFill>
          <a:blip r:embed="rId4"/>
          <a:stretch/>
        </p:blipFill>
        <p:spPr>
          <a:xfrm>
            <a:off x="4127400" y="1225440"/>
            <a:ext cx="981000" cy="112716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6" descr=""/>
          <p:cNvPicPr/>
          <p:nvPr/>
        </p:nvPicPr>
        <p:blipFill>
          <a:blip r:embed="rId5"/>
          <a:stretch/>
        </p:blipFill>
        <p:spPr>
          <a:xfrm>
            <a:off x="4552920" y="3224160"/>
            <a:ext cx="1036800" cy="11286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ая соединительная линия 7"/>
          <p:cNvSpPr/>
          <p:nvPr/>
        </p:nvSpPr>
        <p:spPr>
          <a:xfrm>
            <a:off x="2357280" y="1857240"/>
            <a:ext cx="0" cy="1785960"/>
          </a:xfrm>
          <a:prstGeom prst="line">
            <a:avLst/>
          </a:prstGeom>
          <a:ln w="936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7" name="TextBox 8" descr=""/>
          <p:cNvPicPr/>
          <p:nvPr/>
        </p:nvPicPr>
        <p:blipFill>
          <a:blip r:embed="rId6"/>
          <a:stretch/>
        </p:blipFill>
        <p:spPr>
          <a:xfrm>
            <a:off x="2193840" y="3584520"/>
            <a:ext cx="1062000" cy="11271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9"/>
          <p:cNvSpPr/>
          <p:nvPr/>
        </p:nvSpPr>
        <p:spPr>
          <a:xfrm>
            <a:off x="4429080" y="2500200"/>
            <a:ext cx="5716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Прямоугольник 10"/>
          <p:cNvSpPr/>
          <p:nvPr/>
        </p:nvSpPr>
        <p:spPr>
          <a:xfrm>
            <a:off x="2143080" y="3429000"/>
            <a:ext cx="21420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TextBox 11" descr=""/>
          <p:cNvPicPr/>
          <p:nvPr/>
        </p:nvPicPr>
        <p:blipFill>
          <a:blip r:embed="rId7"/>
          <a:stretch/>
        </p:blipFill>
        <p:spPr>
          <a:xfrm>
            <a:off x="798480" y="4535640"/>
            <a:ext cx="7839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7"/>
          <p:cNvSpPr/>
          <p:nvPr/>
        </p:nvSpPr>
        <p:spPr>
          <a:xfrm rot="10800000">
            <a:off x="539280" y="2780640"/>
            <a:ext cx="4032360" cy="2160360"/>
          </a:xfrm>
          <a:custGeom>
            <a:avLst/>
            <a:gdLst>
              <a:gd name="textAreaLeft" fmla="*/ 870840 w 4032360"/>
              <a:gd name="textAreaRight" fmla="*/ 3161520 w 4032360"/>
              <a:gd name="textAreaTop" fmla="*/ 466560 h 2160360"/>
              <a:gd name="textAreaBottom" fmla="*/ 16938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31" y="21600"/>
                </a:lnTo>
                <a:lnTo>
                  <a:pt x="1586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9"/>
          <p:cNvSpPr/>
          <p:nvPr/>
        </p:nvSpPr>
        <p:spPr>
          <a:xfrm rot="10800000">
            <a:off x="3492000" y="2781000"/>
            <a:ext cx="1079640" cy="216036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10"/>
          <p:cNvSpPr/>
          <p:nvPr/>
        </p:nvSpPr>
        <p:spPr>
          <a:xfrm flipH="1" rot="10815600">
            <a:off x="538920" y="2781000"/>
            <a:ext cx="1079640" cy="2160360"/>
          </a:xfrm>
          <a:prstGeom prst="rtTriangle">
            <a:avLst/>
          </a:prstGeom>
          <a:solidFill>
            <a:srgbClr val="727ca3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5867280" y="342900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ABCD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</a:t>
            </a:r>
            <a:r>
              <a:rPr b="1" lang="ru-RU" sz="1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18108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13"/>
          <p:cNvSpPr/>
          <p:nvPr/>
        </p:nvSpPr>
        <p:spPr>
          <a:xfrm>
            <a:off x="1810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140508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3349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4573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4573800" y="49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407680" y="5089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19"/>
          <p:cNvSpPr/>
          <p:nvPr/>
        </p:nvSpPr>
        <p:spPr>
          <a:xfrm>
            <a:off x="4572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09440"/>
            <a:ext cx="747216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4653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342108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90980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493416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644544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651852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190980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2557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57996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518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165400" y="458136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B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½c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5753160" y="4581360"/>
            <a:ext cx="162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D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½d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utoShape 21"/>
          <p:cNvSpPr/>
          <p:nvPr/>
        </p:nvSpPr>
        <p:spPr>
          <a:xfrm flipH="1" rot="10815600">
            <a:off x="2267640" y="1989000"/>
            <a:ext cx="1079640" cy="2160720"/>
          </a:xfrm>
          <a:prstGeom prst="rtTriangle">
            <a:avLst/>
          </a:prstGeom>
          <a:solidFill>
            <a:srgbClr val="4646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utoShape 22"/>
          <p:cNvSpPr/>
          <p:nvPr/>
        </p:nvSpPr>
        <p:spPr>
          <a:xfrm rot="10800000">
            <a:off x="5292360" y="1989000"/>
            <a:ext cx="1079640" cy="2160720"/>
          </a:xfrm>
          <a:prstGeom prst="rtTriangle">
            <a:avLst/>
          </a:prstGeom>
          <a:solidFill>
            <a:srgbClr val="4646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8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7626240" cy="1652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7:36:49Z</dcterms:created>
  <dc:creator>Jana</dc:creator>
  <dc:description/>
  <dc:language>en-US</dc:language>
  <cp:lastModifiedBy>Jana</cp:lastModifiedBy>
  <cp:lastPrinted>2016-11-18T12:31:31Z</cp:lastPrinted>
  <dcterms:modified xsi:type="dcterms:W3CDTF">2016-11-18T12:33:21Z</dcterms:modified>
  <cp:revision>15</cp:revision>
  <dc:subject/>
  <dc:title>Слайд 1</dc:title>
</cp:coreProperties>
</file>