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07E-9A01-47F4-AB10-09BDFB1A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CDF-6368-4DE2-9A63-9EEC4AB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944-C803-41D5-89AA-7A2978AD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E6F-C416-4FA2-ABC0-CB1FE684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926-6A39-494B-85DA-8D0FBDFB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95C1-20FC-47B7-A921-FF1EED23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6FF-14FA-4E28-AC4A-D63A6A06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09C-07DF-4AAF-8728-99298C74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F83B-4C91-4E29-BA58-BEF60F31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1A74-A421-4669-AD05-A27C0F4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40D1-10E3-4B5C-9198-61ECE79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A2A-46C3-44EA-866F-328F3AA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77B3-F494-4B12-9F34-3599311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37A-FE86-4FAD-B21B-E04FD222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947-22C2-4705-B24C-786C3355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BA9B-9F1B-46A1-A67F-714AA6B6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670-82CF-450B-B310-996B290C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2FEE-705B-4A1C-B53B-8C7965E8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D382-D46A-43B1-9EC8-595C2C3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A020-2994-42F3-8C83-2D098A8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4129-056A-41EF-89D9-3D16334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8C95-C787-4185-B06C-20FE15B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C98-17C0-4DE3-B282-214BB42F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9537-0311-472D-8B80-9058458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4340-EF50-4D12-AE28-AF26961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A7A7-D0B6-4BDF-9D65-B9A3A2A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2CE1-2C08-4E3C-A47C-90F7EFD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1E5F-CB85-4047-942E-2E3194E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CB93-F6BB-4B2D-99E3-EE2413DB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1E5E-146C-4B8D-A2FA-DB846E8D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43E-29F2-41F0-B8AF-78AE461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020-88D8-458D-A755-70B3975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513-1655-4F44-9133-62387BD1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FAE-E7A1-4BC7-8D2F-B2709E3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6A3-0A54-4991-A504-7C29A9A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176-87CB-4962-A520-ED80A35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0ED-122F-4A3A-A743-6FAB7339C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1A8F-79B7-456D-89BC-2647D954AB89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0889-9D29-4A5E-8541-71226A587428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24000" y="764640"/>
            <a:ext cx="8820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УПРАВЛЕНИЕ ДОПОЛНИТЕЛЬНОГО ПРОФЕССИОН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ИТОГОВАЯ РАБОТА СЛУШ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курсов повышения квалификации по програм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«Основные направления региональной образовательной политики в контексте модернизации российского образо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(модуль инвариантной части повышения квалификации по именному образовательному чек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срок обучения: с 15.04.2013 г. по 08.05.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тема: ПУТИ ФОРМИРОВАНИЯ У ДЕТЕЙ 6-7 ЛЕТ ПРЕДСТАВЛ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О ЗДОРОВОМ ПИТАНИИ КАК КОМПОНЕНТЕ ЗОЖ В УСЛОВИЯХ РЕАЛИЗАЦИИ ФГ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Талькова Н.А., воспитатель д</a:t>
            </a: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/c</a:t>
            </a:r>
            <a:r>
              <a:rPr b="1" i="1" lang="ru-RU" sz="1400" spc="-1" strike="noStrike">
                <a:solidFill>
                  <a:srgbClr val="660066"/>
                </a:solidFill>
                <a:latin typeface="Arial"/>
              </a:rPr>
              <a:t> № 99 «Капелька», АНО До «Планета детства «Лад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Тольятти,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едеральное государственное бюджет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ысшего профессионально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«Тольяттинский государственный университ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907920"/>
          <a:ext cx="8280360" cy="36720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хнологический компон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м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. «По страницам Конвенции о правах ребенка (детский сад и семья)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«Здоровое питание дома. Правила здорового питания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«Праздники в детском саду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«Неделя здорового питания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«Дары природы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« О здоровье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«Как преподнести ребенку кашу, чтобы он захотел ее съесть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ак не надо кормить ребенка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«Наша пища должна быть целебным средством»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«Я готовлю вместе с мам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Консуль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Папка - передви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Обсуждение подготовки к празднику, «Сладкий сто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Мастер-класс, рецепты здорового питания, изгото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нгазеты, дегустация блю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Выставка из природного материала (совместное 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тей и родите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Анкет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Встреча с врачом – педиат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Семейный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48" name="Picture 28" descr="podelki-iz-ovowej"/>
          <p:cNvPicPr/>
          <p:nvPr/>
        </p:nvPicPr>
        <p:blipFill>
          <a:blip r:embed="rId1"/>
          <a:stretch/>
        </p:blipFill>
        <p:spPr>
          <a:xfrm>
            <a:off x="4211640" y="4653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87512380_Poleznyesovetydljadoma"/>
          <p:cNvPicPr/>
          <p:nvPr/>
        </p:nvPicPr>
        <p:blipFill>
          <a:blip r:embed="rId2"/>
          <a:stretch/>
        </p:blipFill>
        <p:spPr>
          <a:xfrm>
            <a:off x="468360" y="4653000"/>
            <a:ext cx="338436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2" descr="Поделки 1"/>
          <p:cNvPicPr/>
          <p:nvPr/>
        </p:nvPicPr>
        <p:blipFill>
          <a:blip r:embed="rId3"/>
          <a:stretch/>
        </p:blipFill>
        <p:spPr>
          <a:xfrm>
            <a:off x="6588000" y="4581360"/>
            <a:ext cx="2411640" cy="17114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6"/>
          <p:cNvSpPr txBox="1"/>
          <p:nvPr/>
        </p:nvSpPr>
        <p:spPr>
          <a:xfrm>
            <a:off x="4859280" y="595008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ры природ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зультативный компон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ебёнок имеет представления о рацион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питании, его правилах и значимости для здоровья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имеет эмоционально-положительное отношение к рациональному пит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-  сформированы умения и навыки осознанног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амостоятельного применения знани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проблемно-игровых и жизненных ситуаци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умение регулировать своё поведение на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правил здорового питани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СЛОВИЯ, ОБЕСПЕЧИВАЮЩИЕ ДОСТИЖЕНИЕ НОВЫХ ОБРАЗОВАТЕЛЬНЫХ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1. Кадровые условия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оспитатели старших гру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мощник воспит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Музыкальный руково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оспитатель - эс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Заместитель заведующего по У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2. Научно-методические услов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т рождения до школы. Примерная основная общеобразовательная программа дошкольного образования / под ред. Н.Е. Вераксы, М.А. Васильевой, Т.С. Комаровой. – М. : «Мозаика-Синтез»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Успех: Примерная основная общеобразовательная программа дошкольного образования / Н.О. Березина, И.А. Бурлакова, Е.Н. Герасимова и др.; науч. рук. А.Г. Асмолов; рук. авт. коллектива Н.В. Федина). – М.: Просвещение, 2011,- 30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3. Материально-технические условия:</a:t>
            </a:r>
            <a:br>
              <a:rPr sz="13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иобрести нагляд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материал для дидактических 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иобрести художественную литера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одобрать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иобрести аудио- и  видеоматериалы по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иобрести расходные материалы (цветная бумага, кисти, краски, клей, цветные мелки, гл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риобрести фотоаль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Изображение 022"/>
          <p:cNvPicPr/>
          <p:nvPr/>
        </p:nvPicPr>
        <p:blipFill>
          <a:blip r:embed="rId1"/>
          <a:srcRect l="-2328" t="37887" r="54902" b="21145"/>
          <a:stretch/>
        </p:blipFill>
        <p:spPr>
          <a:xfrm rot="187200">
            <a:off x="6084720" y="1196640"/>
            <a:ext cx="194328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4. Нормативно-правов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Федеральный закон от 29.12.2012 года № 273 – ФЗ «Об образовании в Российской Федера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Федеральные государственные требования к структуре ООП ДО (2009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Федеральные государственные требования к условиям реализации ООП ДО (201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Типовое положение о ДОУ (201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АН Пин (201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5. Информацион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1. Алямовская, В.Г. Как воспитать здорового ребёнка/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Алямовская. – М. : Аркти, 1993. – 13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2. Атрощенко С.Н. Реализация образовательной области «Здоров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на примере дидактической единицы «Рациональное питание»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.Н. Атрощенко, Н.В. Казакова // Проблемы до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образования на современном этапе: сб. науч. статей. Выпуск 10;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2 – х частях. /под ред. Дыбиной О.В. (и др.). – Ульяновск,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3. Безруких, М.М. Разговор о правильном питании. Рабочая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ля школьников / М.М. Безруких, Т.А. Филиппова. – М., 1999. – 7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4. Ефремов, О.В. Еда без вреда! Как распознать вредные продук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итаться безопасно / О.В. Ефремов– СПб. : Вектор, 2011. – 160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5. Новикова, И.М. Формирование представлений о здоровом обр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жизни у дошкольников. Для работы с детьми 5-7 лет. /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Новикова. – М. : Мозаика – Синтез, 2010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6. Ошкина, А.А. Формирование у дошкольников здорового 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жизни (элемент – рациональное питание): учебно-метод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особие. / А.А. Ошкина [и др.]. – Ульяновск, 2012. – 10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7. Швецов, А.Г. Формирование здоровья детей в дошк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учреждениях / А.Г. Швецов. – М. : Владос, 2006. – 176 с.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рганизационные услов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Разработать конспект НОД «Чтобы быть здоровым, надо правильно питаться», викторину «Как быть здоровы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Организовать предметно-развивающую сре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оздать картотеку дидактических иг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оздать картотеку пословиц и загад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добрать художественную литературу по тем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«Здоровое пита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оздать альбом фотографий «Дары природ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Создать портфолио «Мое здоровь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добрать материал для родителей по данной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Подобрать материал для газ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Разработать сценарии совместных досу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30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ерспективы развития модели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1. Представленная нами модель по формированию у детей старшего дошкольного возраста представлений о здоровом питании в условиях введения ФГТ может быть адаптирована для детей с ограниченными возможностями здоровья.</a:t>
            </a:r>
            <a:br>
              <a:rPr sz="900"/>
            </a:br>
            <a:br>
              <a:rPr sz="20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2. Представленная нами модель у детей старшего дошкольного возраста представлений о здоровом питании в условиях введения ФГТ может быть использована для разработки и создания модели по формированию здорового питания для часто болеющих детей.</a:t>
            </a:r>
            <a:br>
              <a:rPr sz="9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3. В рамках представленной модели формирования у детей старшего дошкольного возраста представлений о здоровом питании в условиях введения ФГТ возможно разработать интеграцию содержания таких образовательных областей, как «Социализация», «Познание», «Музыка», «Труд», «Безопасность», «Чтение художественной литературы», «Художественное творчество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3040" cy="52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ерспективы решения проблемы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Хороший аппетит зависит от эстетики оформления блюд, использования техники карвинга, красивой сервировки. Эту сторону мы не затрагивали в нашей работе. Считаем, что внедрение ее в перспективе будет способствовать мотивации детей к здоровому питанию и более эффективному решению проблемы.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214800" y="401796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5"/>
          <p:cNvSpPr txBox="1"/>
          <p:nvPr/>
        </p:nvSpPr>
        <p:spPr>
          <a:xfrm>
            <a:off x="250920" y="189000"/>
            <a:ext cx="8642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01160" cy="607212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" descr=""/>
          <p:cNvPicPr/>
          <p:nvPr/>
        </p:nvPicPr>
        <p:blipFill>
          <a:blip r:embed="rId2"/>
          <a:stretch/>
        </p:blipFill>
        <p:spPr>
          <a:xfrm>
            <a:off x="573120" y="5645160"/>
            <a:ext cx="843120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999720"/>
            <a:ext cx="821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Здоровье человека занимает важ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место в общечеловеческой культуре, так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любой стране нужны личности здоров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активные, творческие, гармонично разви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охранение и укрепление здоровь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едущая задача концепции модер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оссийского образования, в том числе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ервой ступени – дошкольного.  Это отражено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бразовательной области «Здоровье», 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задаче: формирование нач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едставлений о здоровом образе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(далее - ЗОЖ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отивореч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меж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необходимостью реализации ФГТ к структуре ООП ДО (2009) и не разработанностью методик и технологий осуществления процесса формирования здорового питания у детей старш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необходимостью реализации модели воспитательно-образовательного процесса «Взаимодействие с семьей» и недостат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осведомлённостью родителей в вопросах формирования у детей старшего дошкольного возраста здорового питания, отсутствием взрослого положительного примера  культуры здорового питания.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фессиональная 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000" y="155736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Каковы пути формирования у детей 6-7 лет представлений о здоровом питании как компоненте ЗОЖ в условиях реализации ФГ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25193_650x390"/>
          <p:cNvPicPr/>
          <p:nvPr/>
        </p:nvPicPr>
        <p:blipFill>
          <a:blip r:embed="rId1"/>
          <a:stretch/>
        </p:blipFill>
        <p:spPr>
          <a:xfrm>
            <a:off x="2627280" y="3357720"/>
            <a:ext cx="46814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.Обозначить пути формирования  представлений о здоровом питании как компоненте ЗОЖ у детей стар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. Определить содержание образовательной области «Здоровье» для реализации механизма формирования представлений о здоровом питании как компоненте ЗОЖ у детей старшего дошкольного возраста в условиях реализации ФГ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3. Разработать методы, средства, приемы и формы работы по формированию у детей старшего дошкольного возраста представлений о здоровом питании как компоненте ЗО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4. Определить интегративные качества, которые будут сформированы в ходе реализации разработанного мех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МОДЕЛЬ ФОРМИРОВАНИЯ У ДЕТЕЙ 6-7 ЛЕТ ПРЕДСТАВЛЕНИЙ </a:t>
            </a:r>
            <a:br>
              <a:rPr sz="2000"/>
            </a:b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О ЗДОРОВОМ ПИТАНИИ КАК КОМПОНЕНТЕ ЗОЖ В УСЛОВИЯХ РЕАЛИЗАЦИИ ФГ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99"/>
                </a:solidFill>
                <a:latin typeface="Arial"/>
              </a:rPr>
              <a:t>Целевой компонент</a:t>
            </a:r>
            <a:r>
              <a:rPr b="0" lang="ru-RU" sz="24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. Формировать у детей старшего дошкольного возраста нач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едставления о значимости правильного питания для 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 Создать условия для успешного овладения детьми стар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школьного возраста нормами и правилами здорового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 Формировать эмоционально-положительное отношение детей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доровому 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. Повысить компетентность родителей в вопрос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. Формировать у детей старшего дошкольного возраста ум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ализовывать представления и знания о здоровом питании в св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85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овательная работа в рамках образовательной области 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714240"/>
          <a:ext cx="8229600" cy="5794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держ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1872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хнологический компон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нтеграция образовательных обла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ормы и 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ема: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«Чтобы быть здоровым, надо правильно питаться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ь: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формировать представление детей о пользе продуктов для здоровья человека, гигиене пита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, «С», «К», «ЧХЛ»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Бесе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Дидактическая игра «Азбука правильного питания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Рассматривание иллюстративного материал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Стихотворение М.Яснов «Обжора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Разработка пакета рекомендаций о здоровом питании для сказочного геро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96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ема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«Каша - еда наша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ь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формировать представление о принципах рационального питания; о значении разных каш для организма человек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, «С», «К», «ЧХЛ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Художественное сл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Расска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Народная мудрость  о каше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Загадки о круп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Дидактическая игра «Что из чего?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Поисково-исследовательская деятельнос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Дидактические игры «Угадай на вкус»,  «Золушк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03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ема: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итамины - это таблетки, которые растут на ветке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ь: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закрепить знания детей о пользе овощей, фруктов и ягод для здоровья человека; познакомить с правилами обработки продуктов питания; закрепить правила гигиен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, «С», «К», «ЧХЛ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Загадк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Песня«Морковка»сл. З.Петрова, муз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.Островск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Этюд «Узнай по описанию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Детские флеш – игры «Фруктов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уговерть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ема: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навательная викторина «Чтобы быть здоровыми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ль: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формировать потребность в здоровом образе жизни, здоровом питан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, «С», «К», «ЧХЛ», «М», «ХТ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Интервью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Блиц-турнир: «Как я воспринимаю окружающий мир», «Витаминная азбука», «Зернотерапия» -музыкальная размин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Игровые ситуа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Подведение итог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Частушк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местная деятельность педагога и детей в режимные момен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549360"/>
          <a:ext cx="8229600" cy="596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хнологический компон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748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Утр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мы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 «Полезные и вредные продукты» (К, П, С, ЧХЛ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 «Как правильно есть» (К,  П, С, ЧХЛ, Б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«Удивительные превращения пирожка» (П, ЧХЛ, ХТ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 «Из чего варят каши и как сделать кашу вкусной?» (П,К, ЧХЛ,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, Б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«Каша – радость наша» (ЧХЛ, П, К,С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«Плох обед, если хлеба нет» (ЧХЛ, П, С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«На вкус и цвет товарища нет» (С, П, М, ХТ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«Овощи, ягоды и фрукты – самые витамин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дукты» (П, ЧХЛ, ХТ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«Каждому овощу – свое время» (П,ЧХЛ, К)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«Уголок правильного питания» (П, З, К, С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«Гигиена питания»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«Витаминная грядка» (Т, П, С, Б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Утр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Дидактическая игра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Инсцениров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Просмотр слайд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.Наблюд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Обсуждение пословиц и поговор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Отгадывание загад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Игра-рассужд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Продуктивная деятельность (изготовление разрезных картинок для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ладшей группы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Маршрутная игра – экспеди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Сте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Алгоритм, сх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Трудовые поручения 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Прогу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мы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« Варим борщ» (ФК, П, Б, ЧХЛ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«Съедобное – несъедобное» (ФК, П, К)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«Кто быстрее соберет урожай?» (ФК, П, С, Б)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итаминная семья» (Ф, С, Б, П)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«Трудовой десант» (Т, Б, С, К)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« Рисунки на асфальте» (ХТ, П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«Фруктовый магазин» (С, К, П)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Прогу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Подвижная иг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Малоподвижная иг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Игры-эстафе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Трудовая деятельность (труд в природ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Продуктивная деятельность (рисовани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Сюжетно-ролевая игр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Веч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мы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«Угадай, что это?» (К, ЧХЛ, С, П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«Как утолить жажду?» (К, П, Б,ЧХЛ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«Что из чего?» (П, К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«Меню космонавта» (И, П, ХТ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«Хочу быть здоровым» (К, П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Коллекция колосьев и круп (П, К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«Опиши – мы отгадаем» (К, П, ЧХЛ, ФК, С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«Каша из топора» (ЧХЛ, П), А.Маркуша «Что где растет?» (ЧХЛ, П, К);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Дж.Родарри «Приключения Чипполино» (ЧХТ, С, П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Выставка: «Дары природы» (ХТ ,КП, С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«Молочные продукты» (П, ХТ, Б)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«Пирамида здоровья» (П, ХТ, К, С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Веч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Загадки, ребусы пословиц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Чт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Дидактическая иг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Сюжетно-ролевая иг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Радиожурна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Коллекцион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Дидактическая иг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Чтение и обсужде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Просмотр мультфиль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 Ручной труд (совместное творчество детей и родителе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Апплик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Коллаж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стоятельная деятельность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84280"/>
          <a:ext cx="8229600" cy="49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держатель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хнологически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5760">
                      <a:solidFill>
                        <a:srgbClr val="ccff99"/>
                      </a:solidFill>
                    </a:lnT>
                    <a:lnB w="18720">
                      <a:solidFill>
                        <a:srgbClr val="ccff99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фотоальбом «Приятного аппети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сюжетные картинки с изображением полезных и вредных продук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аудио-видеоматериалы о здоровом пит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краски, цветные карандаши, цветные мелки, фломаст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атрибуты для обыгрывания ситуаций (посуда, муляжи продуктов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портфолио на тему: «Мое здоров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побуждение к совместному рассматриванию, обсуждению, составлению рассказов и сказок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постановка проблемных ситу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туативный разгово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дидактическая игра, упражн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буждение к изготовлению атрибутов и материалов для сюжетно-ролевой иг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побуждение к изображению полученных впечатлений (того, что увидели, что запомнили, что понравилось больше всего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99"/>
                      </a:solidFill>
                    </a:lnL>
                    <a:lnR w="5760">
                      <a:solidFill>
                        <a:srgbClr val="ccff99"/>
                      </a:solidFill>
                    </a:lnR>
                    <a:lnT w="18720">
                      <a:solidFill>
                        <a:srgbClr val="ccff99"/>
                      </a:solidFill>
                    </a:lnT>
                    <a:lnB w="5760">
                      <a:solidFill>
                        <a:srgbClr val="ccff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ok</cp:lastModifiedBy>
  <dcterms:modified xsi:type="dcterms:W3CDTF">2016-11-21T16:35:19Z</dcterms:modified>
  <cp:revision>152</cp:revision>
  <dc:subject/>
  <dc:title>Слайд 1</dc:title>
</cp:coreProperties>
</file>