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84A-B923-44EC-A88B-D8E060C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40E-A9B0-426B-9AD1-0F7B814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B25-2983-4CC9-8EB1-DC1B29FF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EEB-F4FE-4813-B1F2-FC02EA5D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1DCE-6FF4-4BE5-B5A7-67F08E05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2D32-D5AD-4C2C-8543-E2D75D7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FCC1-F422-4176-B43B-1042DF6F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50F8-8BF5-4678-8550-010A96BA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8B94-3B31-474A-AB9E-F6D3B4A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38BC-733A-4A34-8638-EE2215C0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6403-3E81-4794-9AAA-BAA3828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4DD-B78E-4C0C-83BA-3AF50B3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1EF-133E-4A4B-9C54-1A1DA1C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7279-951A-40D7-B375-415AE29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EDAC-F120-40FF-A188-0227B29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CB77-3A48-44A6-B56C-7DAFB753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50FC-907E-4139-8870-B1AFE721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4B25-1606-48BD-BE95-4D447EF7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46C1-5240-420D-BEB6-71C6D24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9CF0-CBD4-4EB1-B0F3-CF16ABC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3A9D-93D0-4629-94A5-FFB5B0F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AE87-55B8-479E-863A-96AEC02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872-55B7-41DD-A27D-F5771D1B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F17D-64EA-409D-947E-572AF656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63A6-F3DF-4807-8C8F-D9A1B13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8F71-B3DF-449F-B43A-915BAA4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F3B0-6990-48D6-B3DF-F996C7C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2296-17B3-4F25-8980-EB677F91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807E-595E-4AF5-9C81-3D233213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AA0A-D4B3-40B2-AB34-3E58DD76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E59-DF8C-4608-A837-5732C61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5C2-2E0A-4888-901E-C170C16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AD4-5B7D-4CAC-80CB-D3D31B6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9F2-DD26-48FD-BA67-29813E3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F4D-7632-417D-9842-5C3596C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2A1-E713-4086-95FF-A8867BB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546-D1F9-49D0-A337-0DC7E7FF8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9C87-E1DD-4E09-8D6F-4ABC7F5E7E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353-BA07-40A2-A475-6C5904E6B5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3 феврал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нь освобожд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овошахтинска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0641"/>
          <p:cNvPicPr/>
          <p:nvPr/>
        </p:nvPicPr>
        <p:blipFill>
          <a:blip r:embed="rId1"/>
          <a:stretch/>
        </p:blipFill>
        <p:spPr>
          <a:xfrm>
            <a:off x="1547640" y="2205000"/>
            <a:ext cx="5905800" cy="44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09_20.MPG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12000" cy="49878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392840" y="27792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лгожданная встре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84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09_28.MPG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58160" cy="51544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934920" y="22536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лгожданная встреч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освобождения города на окраине Новошахтинска в балке Бугултай было обнаружено 29 рвов с трупами расстрелянных 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рогой ценой заплатили новошахтинцы за победу над врагом. 3200 жителей города не вернулись с поля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ни защищали Родин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Герои Советского Союза г.Новошахтинск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6870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364000" y="2924280"/>
            <a:ext cx="389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едо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коф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55640" y="79200"/>
            <a:ext cx="4827600" cy="6778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796000" y="299736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Серг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ер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803840" cy="6711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3256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36720" y="3274920"/>
            <a:ext cx="289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Миха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Григор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Ерох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706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219640" y="2924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Констан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Ион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Корш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0440" cy="6870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194080" y="2916360"/>
            <a:ext cx="27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икол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Григор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стрю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1800" cy="69246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5419440" y="2867040"/>
            <a:ext cx="302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Леон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Леонт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тром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2 июня 1941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еликой Отечественн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04_03.MPG" descr=""/>
          <p:cNvPicPr/>
          <p:nvPr/>
        </p:nvPicPr>
        <p:blipFill>
          <a:blip r:embed="rId1"/>
          <a:stretch/>
        </p:blipFill>
        <p:spPr>
          <a:xfrm>
            <a:off x="1476360" y="1792440"/>
            <a:ext cx="6192720" cy="5065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0034"/>
          <p:cNvPicPr/>
          <p:nvPr/>
        </p:nvPicPr>
        <p:blipFill>
          <a:blip r:embed="rId2"/>
          <a:stretch/>
        </p:blipFill>
        <p:spPr>
          <a:xfrm>
            <a:off x="0" y="1773360"/>
            <a:ext cx="9036000" cy="50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73760" cy="6870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275440" y="2673360"/>
            <a:ext cx="301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Васил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Ив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моля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97360" cy="68706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932360" y="2997360"/>
            <a:ext cx="33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Тимоф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Федо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И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7720" cy="68706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5455440" y="3225960"/>
            <a:ext cx="338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И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ернигор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Через года, через ве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Помните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 тех, кто уже не придет никогда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Пожалуйста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Помните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0962"/>
          <p:cNvPicPr/>
          <p:nvPr/>
        </p:nvPicPr>
        <p:blipFill>
          <a:blip r:embed="rId1"/>
          <a:stretch/>
        </p:blipFill>
        <p:spPr>
          <a:xfrm>
            <a:off x="684360" y="23493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0683"/>
          <p:cNvPicPr/>
          <p:nvPr/>
        </p:nvPicPr>
        <p:blipFill>
          <a:blip r:embed="rId2"/>
          <a:stretch/>
        </p:blipFill>
        <p:spPr>
          <a:xfrm>
            <a:off x="4091040" y="0"/>
            <a:ext cx="5052960" cy="37861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0174.jpg"/>
          <p:cNvPicPr/>
          <p:nvPr/>
        </p:nvPicPr>
        <p:blipFill>
          <a:blip r:embed="rId3"/>
          <a:stretch/>
        </p:blipFill>
        <p:spPr>
          <a:xfrm>
            <a:off x="214200" y="0"/>
            <a:ext cx="3857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2232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2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й ожи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2178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юня 1942 го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мецкие части вошли в Новошахтинск. Они грабили, пытали, расстреливали, заживо сжигали мирных жителей. Не щадили даже младен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месяцы оккупации было расстреля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 тыся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ирных жителей (в том числе – население близлежащих сел и хутор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верства фашис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05_09.MPG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6404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2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05_11.MPG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481800" cy="5301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2268360" y="250920"/>
            <a:ext cx="58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верства фаши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6337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Новошахтинска фашисты  насильно увезли 6 партий юношей и девушек., даже детей, всего свыше 3 тысяч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здании школы № 1 был размещен лагерь для военнопленных. З а колючую проволоку было брошено около 400 человек. От избиения, холода, болезней ежедневно умирало от 2 до 10 человек. К середине января 1943 года из 400 человек в живых осталось 30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вобождени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09_16.MPG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976720" cy="43624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61963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04:54Z</dcterms:created>
  <dc:creator>Zver</dc:creator>
  <dc:description/>
  <dc:language>en-US</dc:language>
  <cp:lastModifiedBy>DNA7 X86</cp:lastModifiedBy>
  <dcterms:modified xsi:type="dcterms:W3CDTF">2012-02-12T19:29:14Z</dcterms:modified>
  <cp:revision>15</cp:revision>
  <dc:subject/>
  <dc:title>2006 дней ожидания.</dc:title>
</cp:coreProperties>
</file>