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F2F-2BE8-42CA-B22E-C33A2B93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15F1-02EA-4F16-B3B5-22BA1FFC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E2A8-836F-4B8E-B67B-531460C2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ADC6-CC56-472D-BE47-31308C1C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4131-7014-4A92-B0BB-D14494B6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D665-656B-46D0-B374-CC7A128E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801C-EA93-41F1-BB89-23CC958C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6848-FDB3-49C2-A917-5ED60DE4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81BF-8454-4B84-A296-6ED8B298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854A-2E3E-46D7-BE51-526A5781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73BD-7CD0-4C38-942E-F215DBB6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2D83-1F91-41BD-B2C0-4C1AFD0C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2AEF-2952-4202-9990-A569549D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FB7E-14BF-44AA-A53D-460BA2C4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9C4C-A047-4A1A-9A05-D715A8E7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6C7A-9AD1-472B-9BED-3AFDE173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06BA-D9C6-49E4-AA64-6E8C3356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A1F4E-FDB9-4F6F-ABDE-02DAF441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45B99-EEC6-4B67-AB5F-C01E8554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862AB-A5F8-4DEF-97E7-FFFCDEE0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0B7D1-1299-4434-8A33-438E655C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59684-CDDE-46E3-B90A-B800C792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B02-56F8-481E-A0FD-049395F0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17A93-6F9B-421E-B0CA-C079A0FE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7557F-92D5-4036-B646-8A87952D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BB18B-4AD1-47EE-9DC3-6469C7AE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E8EE2-3CA9-4A43-B803-3A2F61A5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5410E-29DB-49DE-B13B-C541CF36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28A7F-1EF8-4D36-AB13-C3DF7694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C1769-D1E0-480D-AA70-8AD5FA57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8AA66-EC4D-4425-909B-0FD594D6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BAB05-B5FA-49F0-A31E-89FEB797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26D04-8C96-4344-AB08-D28E48DC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42C7-3FB1-40E3-AB09-C922F7AA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0F158-BD44-4011-AE30-3F088A09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4AD93-8F1B-4EF2-9C78-9D2861DD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56E5D-9D88-4989-AB48-AE955017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FF6E0-E8E6-403E-9B9E-94EB0F0A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6BE6A-A1D8-481B-81F4-350820F7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A3793-7FF2-4C86-87A9-4689D3F9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B4511-0C07-4585-97E6-32445B4A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8003D-01D8-4D3D-B833-338D11C4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AA9F9-7998-4495-8F14-84135AEB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6E992-57C9-4562-BC96-E14F8F76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D5FF-E531-4D54-924E-ACFA8FEE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E674F-17C4-4EB8-9A65-E4D342B4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8C541-F874-402B-A995-25C6A9C9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35C4A-C9FD-49E8-A7F1-7EED4263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90374-9E84-4B40-8875-3C2D9D4A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AA920-BBA4-4245-9162-40FD5604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EB0F5-0D14-4B5D-A351-E716C0F4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9815D-CEC2-47C6-A380-AD4F9AE5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6EEBF-670C-46D3-A86F-6D9EC2FF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D510A-8D5B-4A36-958C-B5D77F26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080AD-785D-4CC4-8F36-AA7410C2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654D-F6E6-489D-81B7-90A825F0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C6973-568E-4838-B22E-98BF2B83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9EED3-0211-4A66-B931-61BDF615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7442A-9C93-4C13-A7E1-BC56668E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DBA6D-632E-49E2-AE1F-249181C4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1088E-9D8E-4FFA-8B1B-973AFB10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04513-2080-4C35-8B35-E62F82EE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91AC0-55A2-4B6B-89E8-7A1FA2C5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1148D-F470-4E0C-96E8-B358B50F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75356-6066-4116-BB00-74BBB57C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9A918-4D17-4598-A6EA-63A71442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0993-1AC1-4E6E-9E15-31C680EF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98865-9DD1-4B56-AF0D-37BBB21F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24A6D-7157-4C7E-B3FF-46D90046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9E0A6-31A6-401F-9A8E-A268A5BB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F11F6-CBA4-4B8D-9C78-A9FAA36A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80575-952F-4B0B-A8A5-5F60480F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C662D-B345-4BCC-8AE0-673E70D2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53C3E-22D6-470E-A439-F974146B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A7EC6-F254-4024-88B6-941B22EC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F0193-90FC-447C-BBD1-34CDE4AF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A330F-25B9-44F1-B505-20A14104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6C53-46CF-41A2-B224-8D45304F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DD11C-BCF9-4CE2-9E0A-A155D7FE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1A96C-A20E-4221-9FFA-92A29758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1DC0F-1EF2-4BB9-9B9E-C4F4B430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E288A-5CC0-46B8-88F2-B3A65D86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2705A-3707-4589-B51A-08054630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307-B671-4CF5-B1FA-DA5B928E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4BB0-CD5E-425B-9C17-6C5E2FF12CA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C78D-31DF-4496-94AE-54B035CB1BD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927B-F2FF-441D-96EA-9ECC4F1D93D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3619-B975-423A-AA5C-81390D24460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19C8-26DB-4B13-8118-76A67E6F6C9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C14E-E6DD-40A5-977D-0847A263F48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298D-73B1-4EDC-A322-141F35D87FF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680" y="22860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8000"/>
                </a:solidFill>
                <a:latin typeface="Monotype Corsiva"/>
              </a:rPr>
              <a:t>Просветительская работа с родителями по здоровьесбережению детей в начальной школе</a:t>
            </a:r>
            <a:br>
              <a:rPr sz="4900"/>
            </a:br>
            <a:endParaRPr b="0" lang="en-US" sz="4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971800" y="49525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Monotype Corsiva"/>
              </a:rPr>
              <a:t>Подготовил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Monotype Corsiva"/>
              </a:rPr>
              <a:t>    </a:t>
            </a:r>
            <a:r>
              <a:rPr b="1" lang="ru-RU" sz="2000" spc="-1" strike="noStrike">
                <a:solidFill>
                  <a:srgbClr val="008000"/>
                </a:solidFill>
                <a:latin typeface="Monotype Corsiva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Monotype Corsiva"/>
              </a:rPr>
              <a:t>МОБУ СОШ №35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Monotype Corsiva"/>
              </a:rPr>
              <a:t>Копистко В.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Рисунок 3" descr="karaa.jpg"/>
          <p:cNvPicPr/>
          <p:nvPr/>
        </p:nvPicPr>
        <p:blipFill>
          <a:blip r:embed="rId1"/>
          <a:stretch/>
        </p:blipFill>
        <p:spPr>
          <a:xfrm>
            <a:off x="1023840" y="3975120"/>
            <a:ext cx="406584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294920" y="2971800"/>
            <a:ext cx="7497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оздать условия для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формирования у детей представления о ценности здоровья и необходимости бережного отношения к нем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профилактика  заболеваний, укрепление здоровья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поддержание высокой работоспособности ученик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повышение двигательной активности младших школьников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формирование навыков физической культуры и личной гигиены, как жизненной необходимост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Rectangle 5"/>
          <p:cNvSpPr/>
          <p:nvPr/>
        </p:nvSpPr>
        <p:spPr>
          <a:xfrm flipV="1" rot="10800000">
            <a:off x="1294920" y="36648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От здоровой школы к здоровой семь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 здоровому городу, к здоровой стра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Рисунок 6" descr="zdor_w150_h162.jpg"/>
          <p:cNvPicPr/>
          <p:nvPr/>
        </p:nvPicPr>
        <p:blipFill>
          <a:blip r:embed="rId1"/>
          <a:stretch/>
        </p:blipFill>
        <p:spPr>
          <a:xfrm>
            <a:off x="6886440" y="152280"/>
            <a:ext cx="2257560" cy="243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143000" y="144792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- Отношение к здоровью детей как главной ценности семейного воспитан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-эффективная работа педагогов и родителей (законных представителей) по проведению спортивных соревнований, дней здоровья, занятий по профилактике вредных привычек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-Включение родителей (законных представителей) в здоровьесберегающую и здоровьеукрепляющую деятельность школ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Rectangle 4"/>
          <p:cNvSpPr/>
          <p:nvPr/>
        </p:nvSpPr>
        <p:spPr>
          <a:xfrm flipV="1" rot="10800000">
            <a:off x="1371240" y="5688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  <a:ea typeface="Times New Roman"/>
              </a:rPr>
              <a:t>Просветительская работа с родителями (законными представителя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Рисунок 4" descr="s04955400.jpg"/>
          <p:cNvPicPr/>
          <p:nvPr/>
        </p:nvPicPr>
        <p:blipFill>
          <a:blip r:embed="rId1"/>
          <a:stretch/>
        </p:blipFill>
        <p:spPr>
          <a:xfrm>
            <a:off x="5157720" y="3346560"/>
            <a:ext cx="3565440" cy="643716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5" descr="zdorove.png"/>
          <p:cNvPicPr/>
          <p:nvPr/>
        </p:nvPicPr>
        <p:blipFill>
          <a:blip r:embed="rId2"/>
          <a:stretch/>
        </p:blipFill>
        <p:spPr>
          <a:xfrm>
            <a:off x="5919840" y="1212840"/>
            <a:ext cx="2041560" cy="3998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Monotype Corsiva"/>
              </a:rPr>
              <a:t>Требования к уровню подготовки выпускника начальной школы.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066320" y="1371600"/>
            <a:ext cx="57913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Предметно-информационная составляющая образованности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Деятельностно - коммуникативная составляющая образованности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Ценностно-ориентационная составляющая образованно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Рисунок 3" descr="image (9).jpg"/>
          <p:cNvPicPr/>
          <p:nvPr/>
        </p:nvPicPr>
        <p:blipFill>
          <a:blip r:embed="rId1"/>
          <a:stretch/>
        </p:blipFill>
        <p:spPr>
          <a:xfrm>
            <a:off x="2362320" y="3352680"/>
            <a:ext cx="4952880" cy="3302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3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оутбук</dc:creator>
  <dc:description/>
  <dc:language>en-US</dc:language>
  <cp:lastModifiedBy>Ноутбук</cp:lastModifiedBy>
  <dcterms:modified xsi:type="dcterms:W3CDTF">2016-11-21T07:41:12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