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407-B222-430E-9E07-E6E9019F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93C-BF03-4FAD-A247-9EDAD5D7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CEE-4DB0-42F3-ACF5-29614553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B61-A8E1-44F5-AAAC-E1153329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8FBD-93D3-44DC-81C0-E012F266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CC6A-2D80-4398-A1C5-DEF522BA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F213-34E3-4C10-A2B4-E9380B09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9C9D-6C7E-4E9F-BCCF-8A32E7A1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7A42-FFF5-47D7-92D3-855A3A3B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D659-8C23-481E-8C24-6DC17093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D82-1379-4C52-8B94-FC5EEDAF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22B-E394-4F65-994B-5E450566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B6B7-1477-4D9B-948F-A27C67CD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9633-AFC1-4E46-8DB5-DE1F04F2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BF07-F75B-42E7-BC57-2AECB0EF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F966-EB99-4AB8-B03F-DF172DB0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9AB5-78B8-466B-BD03-0F425B0C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812F-E72D-498E-8FF0-CF1B3C05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7D70-C13F-45DF-9F98-1C101F40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B987-1C60-42E7-A888-C1170946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19F6-AD67-4594-B4D9-DBC6329B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A967-51E7-47DC-9112-B636E718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1CF-8A3F-451E-B330-E45EB69B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0BC4-E510-4B09-9A27-A18F3582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A546-071E-45CA-A78F-10B954D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692A-C1D1-4114-930F-6022AA84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7DC4-0397-46E5-B22B-22C23944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F52E-51CF-4513-8701-3B28E1C6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B68E-9372-4FB7-A574-D83576B4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5DE6-394D-4E9F-9AAD-86AE82FD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EB7B-699F-45D2-864D-2E791059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4BE5F-CA1C-420D-A2A5-813629BE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A2F0-5CB7-4C01-ADA6-347A736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B24-69C4-403C-8057-5452487F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414D-B13C-4969-B441-F8CF7B0D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3BB0-029F-4DF0-8585-6A4E8508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87AA-0EF7-4F6B-83F8-3C3D9351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A1C5-4DA9-403D-9B28-531AE02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24AE-4ADF-4AF9-82A7-90C2A339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817F-89BF-4A21-8F12-8BBC6100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4C25-83C9-41B3-8867-719FB302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8E204-53B4-4A73-B3A2-B8780558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F169-6F78-42E5-BCAE-EF3240D8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0518F-A9E3-4333-8490-AAE3B570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284-FDB2-426B-8968-796BCDAD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50388-54F6-4EF5-BE10-1BE2A3DA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C8065-5A7A-46E0-BF1F-1155A5CC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600B4-9892-46EE-8DA8-70CF0DAA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B121B-52E5-4A27-BCBC-AF8B25FF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6E39-1516-456B-8AA0-0D256847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E5CF9-B906-48D4-893B-AFFFCF30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6E806-0813-42F4-AED8-32B07C64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0C60-04EB-42FB-B55B-3E7907FE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85CD-3882-43F4-AE45-3711CD1E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98996-8B26-4AF1-B52C-8CB57C58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0EB-6BAF-42CE-BD1F-5DDC678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34A62-A3FA-486B-83B2-63B87703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7945D-3447-4A87-8F2F-D8B0BC83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8897E-11D7-4089-856C-CE31E3C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90B7-F95E-4B01-8652-BEE03CCA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1D41C-236F-43D8-8ECA-BF7999EF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5A7D-41E1-4739-B2FF-6E89A3B3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2DE12-8DCD-4AA2-9B4B-235D54F6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F75C8-92E6-4882-AC7C-F0096C15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45DB1-0904-4AC4-AD4A-BAC0157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4FB6E-A57E-4384-9EBF-0F69855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D56-8B90-4907-AEEF-91BBAD4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1E45D-F38A-42A7-BAA1-E7034D26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912CB-2C38-46B3-818C-0E2B48B9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E3902-0AF0-4C4C-81C5-32F075D6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27F-FBD9-4FEC-9954-184B96BB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7F8-323E-4001-BDB5-E380C72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2B76-8627-4340-8DDC-29BF094D5F6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1384-1602-4143-A132-7862227EE96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B94B-F222-41E0-830C-0147093E798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E781-6E76-4676-BCA5-59F533AF62A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4BBA-415E-499E-AE9E-AA3160D335B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F22F-B047-4210-AC63-F09A7DF8133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3720"/>
            <a:ext cx="792504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6760" y="714240"/>
            <a:ext cx="85726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Тема: «Пушистое золото тайг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Ученика 2 класса «Б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МБОУ АР «СОШ №2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Берестнева Григо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г. Алда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2015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06640"/>
            <a:ext cx="746748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13840" y="99972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Book Antiqua"/>
              </a:rPr>
              <a:t>      </a:t>
            </a:r>
            <a:r>
              <a:rPr b="1" lang="ru-RU" sz="3000" spc="-1" strike="noStrike">
                <a:solidFill>
                  <a:srgbClr val="ffc000"/>
                </a:solidFill>
                <a:latin typeface="Book Antiqua"/>
              </a:rPr>
              <a:t>Из соболя шили шапки, шубы, рукавицы. Изделия из соболя считались предметами роскоши и богатств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Book Antiqua"/>
              </a:rPr>
              <a:t>    </a:t>
            </a:r>
            <a:r>
              <a:rPr b="1" lang="ru-RU" sz="3000" spc="-1" strike="noStrike">
                <a:solidFill>
                  <a:srgbClr val="ffc000"/>
                </a:solidFill>
                <a:latin typeface="Palatino Linotype"/>
              </a:rPr>
              <a:t>Державный символ России - шапка Мономаха отделана тоже собольим мех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Palatino Linotype"/>
              </a:rPr>
              <a:t>    </a:t>
            </a:r>
            <a:r>
              <a:rPr b="1" lang="ru-RU" sz="3000" spc="-1" strike="noStrike">
                <a:solidFill>
                  <a:srgbClr val="ffc000"/>
                </a:solidFill>
                <a:latin typeface="Palatino Linotype"/>
              </a:rPr>
              <a:t>Я узнал что , и сейчас из шкур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Palatino Linotype"/>
              </a:rPr>
              <a:t>    </a:t>
            </a:r>
            <a:r>
              <a:rPr b="1" lang="ru-RU" sz="3000" spc="-1" strike="noStrike">
                <a:solidFill>
                  <a:srgbClr val="ffc000"/>
                </a:solidFill>
                <a:latin typeface="Palatino Linotype"/>
              </a:rPr>
              <a:t>соболя шьют шуб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Palatino Linotype"/>
              </a:rPr>
              <a:t>                 </a:t>
            </a:r>
            <a:r>
              <a:rPr b="0" lang="ru-RU" sz="6000" spc="-1" strike="noStrike">
                <a:solidFill>
                  <a:srgbClr val="ffc000"/>
                </a:solidFill>
                <a:latin typeface="Palatino Linotype"/>
              </a:rPr>
              <a:t>Зач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57365046" descr="http://biser.do.am/_ph/10/2/57365046.jpg"/>
          <p:cNvPicPr/>
          <p:nvPr/>
        </p:nvPicPr>
        <p:blipFill>
          <a:blip r:embed="rId1"/>
          <a:stretch/>
        </p:blipFill>
        <p:spPr>
          <a:xfrm>
            <a:off x="7196040" y="3500280"/>
            <a:ext cx="192888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99360"/>
            <a:ext cx="746748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14200" y="142560"/>
            <a:ext cx="8715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Book Antiqua"/>
              </a:rPr>
              <a:t>    </a:t>
            </a:r>
            <a:r>
              <a:rPr b="1" lang="ru-RU" sz="4000" spc="-1" strike="noStrike">
                <a:solidFill>
                  <a:srgbClr val="ffc000"/>
                </a:solidFill>
                <a:latin typeface="Book Antiqua"/>
              </a:rPr>
              <a:t>Шуба из соболя легкая, теплая и прочная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Book Antiqua"/>
              </a:rPr>
              <a:t>А можно ли обойтись без мех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http://www.ohoter.ru/uploads/posts/2013-02/thumbs/1361107595_1330119562_sobol.jpg"/>
          <p:cNvPicPr/>
          <p:nvPr/>
        </p:nvPicPr>
        <p:blipFill>
          <a:blip r:embed="rId1"/>
          <a:stretch/>
        </p:blipFill>
        <p:spPr>
          <a:xfrm>
            <a:off x="4857840" y="3500280"/>
            <a:ext cx="4286160" cy="318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28680" y="274320"/>
            <a:ext cx="5000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Зима на севере с особыми морозами и пронзительными ветрами. Поэтому женщины и мужчины носят шубы из натурального меха. Но мало, кто задумывался :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560" y="3286080"/>
            <a:ext cx="3732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Book Antiqua"/>
              </a:rPr>
              <a:t>Сколько шкурок нужно на шуб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ttp://smotret-mir.ru/wp-content/uploads/2012/07/%D0%A1%D0%BE%D0%B1%D0%BE%D0%BB%D1%8C-%D0%B7%D0%B2%D0%B5%D1%80%D0%B5%D0%BA.jpg"/>
          <p:cNvPicPr/>
          <p:nvPr/>
        </p:nvPicPr>
        <p:blipFill>
          <a:blip r:embed="rId1"/>
          <a:stretch/>
        </p:blipFill>
        <p:spPr>
          <a:xfrm>
            <a:off x="142920" y="185760"/>
            <a:ext cx="3732120" cy="2986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http://img1.liveinternet.ru/images/attach/c/6/93/718/93718073_4737592_yasv2.jpg"/>
          <p:cNvPicPr/>
          <p:nvPr/>
        </p:nvPicPr>
        <p:blipFill>
          <a:blip r:embed="rId2"/>
          <a:stretch/>
        </p:blipFill>
        <p:spPr>
          <a:xfrm>
            <a:off x="3929040" y="3286080"/>
            <a:ext cx="5000760" cy="3333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48000" y="189000"/>
            <a:ext cx="3816360" cy="27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Для пошива одной шубы нужно убить от 40 до 80 соболей!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Задумайтесь!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8000" y="2707920"/>
            <a:ext cx="34322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Book Antiqua"/>
              </a:rPr>
              <a:t>Я думаю, что это жестоко по отношению к такому симпатичному зверьку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5" descr="http://ferret.ru/articles/must/kunical4.jpg"/>
          <p:cNvPicPr/>
          <p:nvPr/>
        </p:nvPicPr>
        <p:blipFill>
          <a:blip r:embed="rId1"/>
          <a:stretch/>
        </p:blipFill>
        <p:spPr>
          <a:xfrm>
            <a:off x="285840" y="0"/>
            <a:ext cx="4714920" cy="3098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http://img.viptrophy.com/2013/02/13/5878.jpg"/>
          <p:cNvPicPr/>
          <p:nvPr/>
        </p:nvPicPr>
        <p:blipFill>
          <a:blip r:embed="rId2"/>
          <a:stretch/>
        </p:blipFill>
        <p:spPr>
          <a:xfrm>
            <a:off x="3540240" y="3124080"/>
            <a:ext cx="560376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7920" y="115920"/>
            <a:ext cx="4186080" cy="354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Соболь невероятно подвижный зверёк. Его мордочка то любопытная, то спокойная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50560" y="3716280"/>
            <a:ext cx="403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Book Antiqua"/>
              </a:rPr>
              <a:t>Глаза сверкают любопытств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http://www.ohoter.ru/uploads/posts/2013-02/thumbs/1361107595_1330119562_sobol.jpg"/>
          <p:cNvPicPr/>
          <p:nvPr/>
        </p:nvPicPr>
        <p:blipFill>
          <a:blip r:embed="rId1"/>
          <a:stretch/>
        </p:blipFill>
        <p:spPr>
          <a:xfrm>
            <a:off x="108000" y="115920"/>
            <a:ext cx="4849920" cy="3600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H:\2015-2016\2 класс\вторник перебрать\соболь\images (7).jpg"/>
          <p:cNvPicPr/>
          <p:nvPr/>
        </p:nvPicPr>
        <p:blipFill>
          <a:blip r:embed="rId2"/>
          <a:stretch/>
        </p:blipFill>
        <p:spPr>
          <a:xfrm>
            <a:off x="4481640" y="3657600"/>
            <a:ext cx="45543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50960" y="115920"/>
            <a:ext cx="3713400" cy="674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Увидеть его очень трудно. Скрытен, молчалив, недоверчив соболь. Сложный у него характер.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2" descr="H:\2015-2016\2 класс\вторник перебрать\соболь\sobol_002.jpg"/>
          <p:cNvPicPr/>
          <p:nvPr/>
        </p:nvPicPr>
        <p:blipFill>
          <a:blip r:embed="rId1"/>
          <a:stretch/>
        </p:blipFill>
        <p:spPr>
          <a:xfrm>
            <a:off x="0" y="0"/>
            <a:ext cx="52513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716360" y="0"/>
            <a:ext cx="4410000" cy="31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Book Antiqua"/>
              </a:rPr>
              <a:t>Изучив литературу про соболька, я сделал вывод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3573360"/>
            <a:ext cx="48592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Ни теплый мех, ни красивая дорогая шуба не заменят встречу в дикой природе с этим зверь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http://otdyhvukraine.com.ua/ohota/kunitsales.jpg"/>
          <p:cNvPicPr/>
          <p:nvPr/>
        </p:nvPicPr>
        <p:blipFill>
          <a:blip r:embed="rId1"/>
          <a:stretch/>
        </p:blipFill>
        <p:spPr>
          <a:xfrm>
            <a:off x="4754520" y="3186000"/>
            <a:ext cx="4410000" cy="3662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H:\2015-2016\2 класс\вторник перебрать\соболь\sobol_005.jpg"/>
          <p:cNvPicPr/>
          <p:nvPr/>
        </p:nvPicPr>
        <p:blipFill>
          <a:blip r:embed="rId2"/>
          <a:stretch/>
        </p:blipFill>
        <p:spPr>
          <a:xfrm>
            <a:off x="108000" y="11592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4751280" cy="639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c000"/>
                </a:solidFill>
                <a:latin typeface="Book Antiqua"/>
              </a:rPr>
              <a:t>Когда я вырасту, я, как мои родители, буду работать в лесничестве и охранять природу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084720" y="28440"/>
            <a:ext cx="24163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Book Antiqua"/>
              </a:rPr>
              <a:t>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250920" y="1090800"/>
            <a:ext cx="825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  <a:ea typeface="Arial"/>
              </a:rPr>
              <a:t>Старательно вникая в опыт древн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  <a:ea typeface="Arial"/>
              </a:rPr>
              <a:t>И постигая суть его корней,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Book Antiqua"/>
                <a:ea typeface="Arial"/>
              </a:rPr>
              <a:t>Я стойкости учился у деревьев, 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Book Antiqua"/>
                <a:ea typeface="Arial"/>
              </a:rPr>
              <a:t>А ловкости и силе - у зверей.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Book Antiqua"/>
                <a:ea typeface="Arial"/>
              </a:rPr>
              <a:t>У птиц учился чувствовать свободу, 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Book Antiqua"/>
                <a:ea typeface="Arial"/>
              </a:rPr>
              <a:t>У рыб, сосредоточенно молчать,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Book Antiqua"/>
                <a:ea typeface="Arial"/>
              </a:rPr>
              <a:t>Поэтому обязан я прир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  <a:ea typeface="Arial"/>
              </a:rPr>
              <a:t>От всех врагов достойно охраня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7df56"/>
                </a:solidFill>
                <a:latin typeface="Book Antiqua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ртинка природ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G:\стенд\DSC_0193.jpg"/>
          <p:cNvPicPr/>
          <p:nvPr/>
        </p:nvPicPr>
        <p:blipFill>
          <a:blip r:embed="rId1"/>
          <a:srcRect l="12909" t="0" r="7702" b="0"/>
          <a:stretch/>
        </p:blipFill>
        <p:spPr>
          <a:xfrm>
            <a:off x="357120" y="357120"/>
            <a:ext cx="8786880" cy="622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c000"/>
              </a:solidFill>
              <a:latin typeface="Bookman Old Style"/>
            </a:endParaRPr>
          </a:p>
        </p:txBody>
      </p:sp>
      <p:pic>
        <p:nvPicPr>
          <p:cNvPr id="260" name="Рисунок 3" descr="Внешний вид соболя"/>
          <p:cNvPicPr/>
          <p:nvPr/>
        </p:nvPicPr>
        <p:blipFill>
          <a:blip r:embed="rId1"/>
          <a:stretch/>
        </p:blipFill>
        <p:spPr>
          <a:xfrm>
            <a:off x="4214880" y="3071880"/>
            <a:ext cx="4741920" cy="35002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214200" y="25560"/>
            <a:ext cx="8215560" cy="74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Book Antiqua"/>
              </a:rPr>
              <a:t>Актуальность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Мои родители  работают  в Алданском лесничестве. Мне нравится их профессия.  Мы часто вместе бываем на природе.  Мне нравится слушать и читать рассказы о живот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Однажды  в книг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я увиде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фотографи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зверьк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Book Antiqua"/>
              </a:rPr>
              <a:t>Кто это?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Рисунок 3" descr="Внешний вид собол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3291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5003640" y="522936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Book Antiqua"/>
              </a:rPr>
              <a:t>собол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3720"/>
            <a:ext cx="792504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Содержимое 2" descr=""/>
          <p:cNvPicPr/>
          <p:nvPr/>
        </p:nvPicPr>
        <p:blipFill>
          <a:blip r:embed="rId1"/>
          <a:stretch/>
        </p:blipFill>
        <p:spPr>
          <a:xfrm>
            <a:off x="171360" y="706320"/>
            <a:ext cx="9069480" cy="579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92504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13840" y="1000080"/>
            <a:ext cx="8572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Book Antiqua"/>
              </a:rPr>
              <a:t>   </a:t>
            </a:r>
            <a:r>
              <a:rPr b="1" lang="ru-RU" sz="4000" spc="-1" strike="noStrike">
                <a:solidFill>
                  <a:srgbClr val="ffc000"/>
                </a:solidFill>
                <a:latin typeface="Book Antiqua"/>
              </a:rPr>
              <a:t>Задачи: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Изучить информационные источники о жизни собол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Узнать о его повадках и особенностях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Распространить знания о соболе среди одноклассник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Подвести итог о проделанной работ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3720"/>
            <a:ext cx="792504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85480" y="28584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Book Antiqu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Book Antiqua"/>
              </a:rPr>
              <a:t>        </a:t>
            </a: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Из-за красивого, прочного и дорогого меха соболя называют царем пушнины — «мягким  и пушистым золотом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    </a:t>
            </a: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тай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Book Antiqua"/>
              </a:rPr>
              <a:t>    </a:t>
            </a:r>
            <a:r>
              <a:rPr b="1" lang="ru-RU" sz="4000" spc="-1" strike="noStrike">
                <a:solidFill>
                  <a:srgbClr val="ffc000"/>
                </a:solidFill>
                <a:latin typeface="Book Antiqua"/>
              </a:rPr>
              <a:t>Почем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" descr="F:\2015-2016\2 класс\вторник перебрать\соболь\sobol_1.jpg"/>
          <p:cNvPicPr/>
          <p:nvPr/>
        </p:nvPicPr>
        <p:blipFill>
          <a:blip r:embed="rId1"/>
          <a:stretch/>
        </p:blipFill>
        <p:spPr>
          <a:xfrm>
            <a:off x="3143160" y="2529000"/>
            <a:ext cx="5810400" cy="39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3720"/>
            <a:ext cx="7925040" cy="71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500040"/>
            <a:ext cx="8820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Соболь уже много лет считается  национальным богатством России. Мех этого зверька ценится на вес золота. Это богатство , подаренное ему природо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   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принесло ем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   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немало бед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     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На этого зверь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     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ведется  ох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7" descr="F:\2015-2016\2 класс\вторник перебрать\соболь\images (1).jpg"/>
          <p:cNvPicPr/>
          <p:nvPr/>
        </p:nvPicPr>
        <p:blipFill>
          <a:blip r:embed="rId1"/>
          <a:stretch/>
        </p:blipFill>
        <p:spPr>
          <a:xfrm>
            <a:off x="5148360" y="2852640"/>
            <a:ext cx="3890880" cy="389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92720" y="-650880"/>
            <a:ext cx="1871640" cy="21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8920" y="333360"/>
            <a:ext cx="597708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c000"/>
                </a:solidFill>
                <a:latin typeface="Book Antiqua"/>
              </a:rPr>
              <a:t>В прошлом веке соболей осталось очень мало. В 1935 году охоту на этого зверька полностью  запретили. Соболей стали разводить в заповедниках. Это оказалось непросто. Они не сразу прижились в неволе. Но чудо случилось. Зверёк заселял те леса, где обитал когда-т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Book Antiqua"/>
              </a:rPr>
              <a:t>    </a:t>
            </a: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Почему в прошлом веке зверек стал редк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F:\2015-2016\2 класс\вторник перебрать\соболь\images (2).jpg"/>
          <p:cNvPicPr/>
          <p:nvPr/>
        </p:nvPicPr>
        <p:blipFill>
          <a:blip r:embed="rId1"/>
          <a:stretch/>
        </p:blipFill>
        <p:spPr>
          <a:xfrm>
            <a:off x="6270480" y="1989000"/>
            <a:ext cx="2857680" cy="252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18:08:36Z</dcterms:created>
  <dc:creator>Admin</dc:creator>
  <dc:description/>
  <dc:language>en-US</dc:language>
  <cp:lastModifiedBy>Admin</cp:lastModifiedBy>
  <dcterms:modified xsi:type="dcterms:W3CDTF">2015-11-04T20:33:26Z</dcterms:modified>
  <cp:revision>58</cp:revision>
  <dc:subject/>
  <dc:title>Слайд 1</dc:title>
</cp:coreProperties>
</file>