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A8F-1722-4208-B428-C9260487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368-169E-4772-9797-82EB0233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4F7-9631-4C29-BF81-7891834B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A0C-F962-457F-8F66-A63D5C9A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43D8-851D-4FC7-AB9B-7848F237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D959-CF64-4EE0-A037-DF39BF51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EA49-3199-4CD8-B94A-3343E7DD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3AED-85A3-4232-8B51-29060E41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6220-200B-4CEF-A476-190A3E24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101A-F37E-4C5C-AC7A-DE85CD31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746D-2FE7-404F-A9E3-E141C689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3B7-51B9-40F9-A8EF-A8002A9C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521F-8C27-42AB-83BF-A994DA2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FE5D-B8D2-46D4-BFF7-57E7532B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EA24-7602-4615-B5B9-60D74FEA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3D77-D264-4FA2-BBE0-3E56FC0A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EBC6-4D07-4676-8513-3BFDE107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C33-791C-49CE-835A-6DCB7290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62A-1016-44C8-9130-96EFBEBF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702-F8BA-4984-BFE5-6BAD1A2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152-0F9A-4323-B2D2-8FA8F79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B47-8D8A-4F1E-AFAB-AD1BE212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77C-1F8C-4093-827A-424D30A2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265-3AFE-4145-840A-6F8F7A00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4E21-68B8-4978-A90D-8D150A9BA64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179B-4093-4E7B-86B5-7FEFB6263F0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7600" y="11934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абота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айоровой В.И. учителя обществознания Усаклинского филиала ГБОУ СОШ с. Черный Ключ. муниципального района Клявлинский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списке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спользованной для написания реферата литературы в алфавитной последовательности указываются все источники, которыми пользовался обучающийся при подготовке работ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информации о них необходимо указа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автора и название источник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место издания источник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название издательств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год издания источник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количество страниц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этом списке литературы должно быть указано не менее трех источник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209680" y="380880"/>
            <a:ext cx="4838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ерату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еферат оценивается по следующим критериям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облюдение требований к его оформл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необходимость и достаточность для  раскрытия приведенной в тексте реферата информац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умение обучающегося свободно излагать свои идеи, отраженные в реферат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пособность обучающегося понять суть задаваемых вопросов и формулировать точные ответы на ни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676520" y="533520"/>
            <a:ext cx="5800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ценка рефера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35920" y="897840"/>
            <a:ext cx="64339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7720" y="274284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057400" y="1066680"/>
            <a:ext cx="556272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ка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990720" y="3071880"/>
            <a:ext cx="707220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а над рефератом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фера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от лат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r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докладывать, сообщать) представляет собой краткое устное сообщение или письменное изложение научной работы, содержание прочитанной книги и т. п., доклад на какую- либо тему, основанный на обзоре литературных и других источ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828800" y="533520"/>
            <a:ext cx="5562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685800" y="304920"/>
            <a:ext cx="7656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бования к выбору и формулировке темы реферата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ма реферата должна быть сформирована стилистически грамотно. В названии реферата следует определить четкие рамки рассматриваемых вопросов, которые не должны быть слишком широкими или слишком узки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формулировании темы желательно воздерживаться от использовании спорных с научной точки зрения терминов, излишней наукообразности, а также от чрезмерного упрощения формулирово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03720" y="375120"/>
            <a:ext cx="824076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 титульным листом реферата следует его оглавление, которое состоит из четырех основных частей: введения, основной части, заключения и списка использованной для написания реферата литера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и наличии Приложений информация о них должна содержаться в оглавлен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сылки на первоисточники, цитирование должны оформляться в соответствии  с общепринятыми требованиями к библиограф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990720" y="380880"/>
            <a:ext cx="792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бования к оформлению рефера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ведени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ая ча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Заключени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писок использованной для написания реферата литератур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990720" y="30492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ые части рефера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26680" y="817200"/>
            <a:ext cx="6933600" cy="75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ведение реферат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включает в себя краткое обоснование актуальности его темы, которая может рассматриваться в связи с недостаточной научной разработанностью проблемы, ее объективной сложностью для изучения и информационной ценностью материала, а также в связи с многочисленными дискуссиями, возникающими вокруг не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этой части необходимо также показать, почему заявленная тема представляет научный интерес и практическое знач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им образом, тема реферата должна быть актуальна или с научной точки зрения, или из практических соображен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 введении реферата указывается цель работы , а также задачи, которые требуется решить для ее достиж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введения может составлять две- три страницы текст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1905120" y="83808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вед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19720" y="9723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новная часть рефера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одержит материал, который отобран обучающимся  для рассмотрения проблемы. Она может быть разделена на главы, разделы, параграфы, пунк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й объем основной части реферата – 10 -15 страниц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ной части реферата должно быть изложено собственное мнение обучающегося по пробл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1905120" y="1066680"/>
            <a:ext cx="5943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ая част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09760" y="357840"/>
            <a:ext cx="82760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заключительной части реферата обучающийся самостоятельно формулирует выводы, опирающиеся на приведенные в основной  части факты, обращает внимание на выполнение поставленных во введении цели и задач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ъем заключения – 1-2 страниц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2057400" y="3049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люч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12-18T17:0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