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BF2D-C497-4824-B12A-B303B129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B191-5CC3-45D7-BB0E-4D2257B6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C64-C8CF-4725-B55F-781F07D4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FC3-E4A8-4A8D-9752-50C900B4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FD31-74DA-4524-B184-3A19ABA9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6F51-4498-426B-B463-140471E6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0DAA-26A4-467D-B642-4740F7CD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8780-E143-45C9-AF56-96E6436A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1987-2BD5-4081-A9CD-06253CAB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97D2-0FA2-4BD1-9944-35E9C21D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748C-A84A-4F32-99E6-17F60349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942F-6837-4F7F-953D-D6187384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277E-AE29-4C95-8CAE-8A99510B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3076-E6B0-4A3F-8FFE-A99E1AFC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277E-A8D9-4323-86EE-4D96ACF2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C3F8-90D2-43DD-AC53-A58DAAA0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5189-C3BF-4CE0-9604-14C87C19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D8D-B80E-44AC-B4B5-2EF86396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6A7-6CB1-435C-95E9-42AFE0F7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BB8A-8157-4003-82FB-8B0DA1F8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EF29-B4CD-4E82-9780-E7301BC9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9C99-4D5E-4E7D-97A3-3BBE3C82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7EDE-F961-45EE-AB2F-DAD904B9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E28-C330-41B3-9BAD-C874F944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CCD3-0DDC-4928-AF9A-8D9E4277B63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8630-D90E-4BC1-9CF3-41CC6E33271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</a:t>
            </a:r>
            <a:r>
              <a:rPr b="1" lang="ru-RU" sz="5400" spc="-1" strike="noStrike">
                <a:solidFill>
                  <a:srgbClr val="ffff00"/>
                </a:solidFill>
                <a:latin typeface="Garamond"/>
              </a:rPr>
              <a:t>Тема: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7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Режим дня – залог здоровья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ученицы 4 «В» клас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МОУ АР «Гимназия г.Алдан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Стуканёвой Ан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     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г.Алдан 2010 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комендации и совет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4358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              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7.00 – подъё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               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7.10 – утренняя гимнасти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               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7. 20 – утренний завтра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               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7. 45 – дорога в школу (желательно пешком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               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8. 10 – 15. 30 – занятия в школ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               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16. 10 – 21. 00 – свободное врем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               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21. 00 – 7. 00 - со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rcRect l="0" t="0" r="56282" b="51832"/>
          <a:stretch/>
        </p:blipFill>
        <p:spPr>
          <a:xfrm>
            <a:off x="324000" y="1125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rcRect l="31089" t="56530" r="32017" b="0"/>
          <a:stretch/>
        </p:blipFill>
        <p:spPr>
          <a:xfrm>
            <a:off x="324000" y="2924280"/>
            <a:ext cx="1722240" cy="1728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3"/>
          <a:srcRect l="16" t="47692" r="64196" b="8970"/>
          <a:stretch/>
        </p:blipFill>
        <p:spPr>
          <a:xfrm>
            <a:off x="324000" y="4797360"/>
            <a:ext cx="167148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Я здоровьем дорожу! </a:t>
            </a:r>
            <a:br>
              <a:rPr sz="4000"/>
            </a:b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 режимом дня всегда дружу!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В нашем возрас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не все ещё потеряно 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Школьнику необходимо соблюдать режи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дня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Здоровье – это красот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Здоровье – это главное богатство челове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0" y="1484280"/>
            <a:ext cx="4330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Garamond"/>
              </a:rPr>
              <a:t>Спасибо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Garamond"/>
              </a:rPr>
              <a:t>за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ru-RU" sz="6600" spc="-1" strike="noStrike">
                <a:solidFill>
                  <a:srgbClr val="ffff00"/>
                </a:solidFill>
                <a:latin typeface="Garamond"/>
              </a:rPr>
              <a:t>внимание!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6" descr="мои рисунки 110"/>
          <p:cNvPicPr/>
          <p:nvPr/>
        </p:nvPicPr>
        <p:blipFill>
          <a:blip r:embed="rId1"/>
          <a:stretch/>
        </p:blipFill>
        <p:spPr>
          <a:xfrm>
            <a:off x="684360" y="1628640"/>
            <a:ext cx="3611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Здравствуйте!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                                  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Первейшим благом является здоровье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                                  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Красота - лишь вторым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                                  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Третьим – богатств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Платон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При встрече люди обычно говорят это хорошее доброе слово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желая друг другу здоровья. Так и я обращаюсь к Вам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«Здравствуйте!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Самый драгоценный дар, который человек получает о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природы, - здоровь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Анкета для одноклассник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Часто ли пропускаешь занятия в школе по болезн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Выполняешь ли ты утреннюю зарядку и ежедневно л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Опаздываешь ли ты на занятия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Успеваешь ли ты вовремя выполнить заданное домашнее задание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Много ли свободного времени у тебя остаётся для отдых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Посещаешь ли ты дополнительные кружки, спортивные секции вне школы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Хватает ли у тебя времени ежедневно бывать на свежем воздухе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Соблюдаешь ли ты режим дня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Важен ли он для тебя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зультаты исследова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Garamond"/>
              </a:rPr>
              <a:t>В анкетировании приняли участие 18 человек из 20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Garamond"/>
              </a:rPr>
              <a:t>В результате проведённого анкетирования я установила: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Garamond"/>
              </a:rPr>
              <a:t>Режим дня не соблюдают 14 человек (78%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1" lang="ru-RU" sz="1600" spc="-1" strike="noStrike">
                <a:solidFill>
                  <a:srgbClr val="ffff00"/>
                </a:solidFill>
                <a:latin typeface="Garamond"/>
              </a:rPr>
              <a:t>Утреннюю зарядку не выполняют из-за нехватки времени и лени 12 человек (66%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1" lang="ru-RU" sz="1600" spc="-1" strike="noStrike">
                <a:solidFill>
                  <a:srgbClr val="ffff00"/>
                </a:solidFill>
                <a:latin typeface="Garamond"/>
              </a:rPr>
              <a:t>Свободного времени для отдыха не остаётся у 10 человек (55%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1" lang="ru-RU" sz="1600" spc="-1" strike="noStrike">
                <a:solidFill>
                  <a:srgbClr val="ffff00"/>
                </a:solidFill>
                <a:latin typeface="Garamond"/>
              </a:rPr>
              <a:t>Следовательно,  их можно отнести в группу подверженную  риску возникновения нарушений здоровь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Garamond"/>
              </a:rPr>
              <a:t>Анализ здоровья одноклассников, проведённый фельдшером нашей школы позволил выделить   следующие факторы риска: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lang="ru-RU" sz="1600" spc="-1" strike="noStrike">
                <a:solidFill>
                  <a:srgbClr val="ffff00"/>
                </a:solidFill>
                <a:latin typeface="Garamond"/>
              </a:rPr>
              <a:t>- Лишний вес у 1 ребёнка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lang="ru-RU" sz="1600" spc="-1" strike="noStrike">
                <a:solidFill>
                  <a:srgbClr val="ffff00"/>
                </a:solidFill>
                <a:latin typeface="Garamond"/>
              </a:rPr>
              <a:t>- нарушения осанки и сколиоз у 17 дете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lang="ru-RU" sz="1600" spc="-1" strike="noStrike">
                <a:solidFill>
                  <a:srgbClr val="ffff00"/>
                </a:solidFill>
                <a:latin typeface="Garamond"/>
              </a:rPr>
              <a:t>- повышенное артериальное давление и увеличение частоты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Garamond"/>
              </a:rPr>
              <a:t>           </a:t>
            </a:r>
            <a:r>
              <a:rPr b="1" lang="ru-RU" sz="1600" spc="-1" strike="noStrike">
                <a:solidFill>
                  <a:srgbClr val="ffff00"/>
                </a:solidFill>
                <a:latin typeface="Garamond"/>
              </a:rPr>
              <a:t>сердечных сокращений (ЧСС) у 1 ребёнка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lang="ru-RU" sz="1600" spc="-1" strike="noStrike">
                <a:solidFill>
                  <a:srgbClr val="ffff00"/>
                </a:solidFill>
                <a:latin typeface="Garamond"/>
              </a:rPr>
              <a:t>- низкая физическая работоспособность у 5 учащихс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Проблема: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Garamond"/>
              </a:rPr>
              <a:t>Необходимо ли младшему школьнику соблюдать режим дня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Цель исследования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цель работы - выявить влияние режима дня на состояние здоровья и самоорганизацию времени младшего школьник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Garamond"/>
              </a:rPr>
              <a:t>                  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Задачи исследования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Изучение справочной литератур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Проведение анкетиров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Анализ полученных результат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Поиск и выработка рекомендаций и советов для одноклассник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Что это такое – режим дн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Правильное распределение во времени сна, питания, труда, отдыха, личной гигиены и остальных видов деятельности – это режим дн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Режим – основа нормальной жизнедеятельности организма человека, повышения его работоспособности, воспитания характера и вол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Хорошо продуманный и соблюдаемый режим труда, отдыха и питания играет важную роль в сохранении здоровь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Утренняя гимнастика до уроков </a:t>
            </a:r>
            <a:br>
              <a:rPr sz="4000"/>
            </a:b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и приёмы самомассажа – </a:t>
            </a:r>
            <a:br>
              <a:rPr sz="4000"/>
            </a:b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наша добрая традиция!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8" name="Picture 7" descr="PB200216"/>
          <p:cNvPicPr/>
          <p:nvPr/>
        </p:nvPicPr>
        <p:blipFill>
          <a:blip r:embed="rId1"/>
          <a:stretch/>
        </p:blipFill>
        <p:spPr>
          <a:xfrm>
            <a:off x="611280" y="1773360"/>
            <a:ext cx="3421080" cy="2301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наташа 008"/>
          <p:cNvPicPr/>
          <p:nvPr/>
        </p:nvPicPr>
        <p:blipFill>
          <a:blip r:embed="rId2"/>
          <a:stretch/>
        </p:blipFill>
        <p:spPr>
          <a:xfrm>
            <a:off x="4427640" y="1773360"/>
            <a:ext cx="3109680" cy="2333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наташа 006"/>
          <p:cNvPicPr/>
          <p:nvPr/>
        </p:nvPicPr>
        <p:blipFill>
          <a:blip r:embed="rId3"/>
          <a:stretch/>
        </p:blipFill>
        <p:spPr>
          <a:xfrm>
            <a:off x="250920" y="4365720"/>
            <a:ext cx="2967120" cy="2225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наташа 009"/>
          <p:cNvPicPr/>
          <p:nvPr/>
        </p:nvPicPr>
        <p:blipFill>
          <a:blip r:embed="rId4"/>
          <a:stretch/>
        </p:blipFill>
        <p:spPr>
          <a:xfrm>
            <a:off x="3419640" y="4437000"/>
            <a:ext cx="1523880" cy="2032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наташа 017"/>
          <p:cNvPicPr/>
          <p:nvPr/>
        </p:nvPicPr>
        <p:blipFill>
          <a:blip r:embed="rId5"/>
          <a:stretch/>
        </p:blipFill>
        <p:spPr>
          <a:xfrm>
            <a:off x="5580000" y="4437000"/>
            <a:ext cx="282420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туканёвы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DSC05041"/>
          <p:cNvPicPr/>
          <p:nvPr/>
        </p:nvPicPr>
        <p:blipFill>
          <a:blip r:embed="rId1"/>
          <a:stretch/>
        </p:blipFill>
        <p:spPr>
          <a:xfrm>
            <a:off x="214200" y="928800"/>
            <a:ext cx="3345120" cy="2508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DSC05122"/>
          <p:cNvPicPr/>
          <p:nvPr/>
        </p:nvPicPr>
        <p:blipFill>
          <a:blip r:embed="rId2"/>
          <a:stretch/>
        </p:blipFill>
        <p:spPr>
          <a:xfrm>
            <a:off x="5643720" y="928800"/>
            <a:ext cx="3313080" cy="248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SL270576"/>
          <p:cNvPicPr/>
          <p:nvPr/>
        </p:nvPicPr>
        <p:blipFill>
          <a:blip r:embed="rId3"/>
          <a:stretch/>
        </p:blipFill>
        <p:spPr>
          <a:xfrm>
            <a:off x="250920" y="3716280"/>
            <a:ext cx="2031840" cy="270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SL270581"/>
          <p:cNvPicPr/>
          <p:nvPr/>
        </p:nvPicPr>
        <p:blipFill>
          <a:blip r:embed="rId4"/>
          <a:stretch/>
        </p:blipFill>
        <p:spPr>
          <a:xfrm>
            <a:off x="2411280" y="3716280"/>
            <a:ext cx="1933560" cy="2781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Фото623_0210"/>
          <p:cNvPicPr/>
          <p:nvPr/>
        </p:nvPicPr>
        <p:blipFill>
          <a:blip r:embed="rId5"/>
          <a:stretch/>
        </p:blipFill>
        <p:spPr>
          <a:xfrm>
            <a:off x="4500720" y="3716280"/>
            <a:ext cx="2060280" cy="2745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Фото620_0210"/>
          <p:cNvPicPr/>
          <p:nvPr/>
        </p:nvPicPr>
        <p:blipFill>
          <a:blip r:embed="rId6"/>
          <a:stretch/>
        </p:blipFill>
        <p:spPr>
          <a:xfrm>
            <a:off x="6804000" y="371628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9:36:46Z</dcterms:created>
  <dc:creator>Пользователь</dc:creator>
  <dc:description/>
  <dc:language>en-US</dc:language>
  <cp:lastModifiedBy>Пятый</cp:lastModifiedBy>
  <dcterms:modified xsi:type="dcterms:W3CDTF">2010-04-27T20:34:52Z</dcterms:modified>
  <cp:revision>19</cp:revision>
  <dc:subject/>
  <dc:title>Слайд 1</dc:title>
</cp:coreProperties>
</file>