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907-5D73-4B03-94EA-7BD03964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8D7-7133-4637-BC3B-7E24AA57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659-CD67-4C47-A5DA-96D538CD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030-855C-48C6-A947-5D104605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66E0-BB50-4F4A-B35A-4C622834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F7D5-9069-40A9-8FEE-00FBD591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E56E-1F1A-4730-8F02-36F3D928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E633-1088-4B6E-9F85-80276565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28CB-EAC1-4D43-858F-65C087CF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6F4F-8E99-406A-80F6-527D30FB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6DDE-11FE-4483-A8D2-9819EDFE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DD3-AE41-4AD2-945A-8683B350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D185-D277-428B-9010-876B51BB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8D31-74BC-41D4-9F94-69906A0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435A-9779-4390-8FDC-A5B64A57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8947-052E-4AA0-9ADE-BC3054C8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98A4-4F1C-4DE5-B543-C61E49C7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96C-AAAF-4F70-A33F-AEDF36F5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B2A-E566-4342-83CC-4E41FD9D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DBE-E6AF-4221-9823-190DBEE8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E28-8C48-4EE4-80A8-5ED5A1B3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2E8-927F-40B1-9146-B99E0B78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897-B8AC-4FEB-A502-77B55F0F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1AA-AC96-47C0-818B-7E35A8C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39EC-5732-4513-8B95-FDDB093B9CD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E745-FD84-40F3-B06E-0853D47F12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838080" y="380880"/>
            <a:ext cx="7820280" cy="308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ОЕВОЙ ПУТЬ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299 ХАРЬКОВСКО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ТРЕЛКОВОЙ ДИВИЗИИ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334800" y="6095880"/>
            <a:ext cx="472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УЗЕЙ НА БАЗЕ ГБОУ СОШ № 1454 «ЦО Тимирязевский»</a:t>
            </a:r>
            <a:endParaRPr b="0" i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(ШО Астрадамскок207)</a:t>
            </a:r>
            <a:endParaRPr b="0" i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0" name="Picture 6" descr="S3010002"/>
          <p:cNvPicPr/>
          <p:nvPr/>
        </p:nvPicPr>
        <p:blipFill>
          <a:blip r:embed="rId13"/>
          <a:stretch/>
        </p:blipFill>
        <p:spPr>
          <a:xfrm rot="298800">
            <a:off x="5707080" y="4000320"/>
            <a:ext cx="3137040" cy="258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838080" y="1066680"/>
            <a:ext cx="73915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ыступления учащихся, посвященные Великой Победе, конкурсы-смотры песни и строя, участие в районных конференциях, посвященных Великой Отечественной войне – составная часть работы школьного музе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6324480" cy="159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2438280" y="1066680"/>
            <a:ext cx="457200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узей основан в  1980 г. по инициативе директора школы № 20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РЕМЕ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АЛИНЫ САМОЙЛОВ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343400" y="52578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Экспонаты музея рассказывают о формировании дивизии и участии ее в ходе Великой Отечественной войны 1941-1945 г.г.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380880" y="4459320"/>
            <a:ext cx="3560760" cy="159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SS850438"/>
          <p:cNvPicPr/>
          <p:nvPr/>
        </p:nvPicPr>
        <p:blipFill>
          <a:blip r:embed="rId1"/>
          <a:stretch/>
        </p:blipFill>
        <p:spPr>
          <a:xfrm>
            <a:off x="5813280" y="3200400"/>
            <a:ext cx="3102120" cy="34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6" descr="SS850436"/>
          <p:cNvPicPr/>
          <p:nvPr/>
        </p:nvPicPr>
        <p:blipFill>
          <a:blip r:embed="rId2"/>
          <a:stretch/>
        </p:blipFill>
        <p:spPr>
          <a:xfrm>
            <a:off x="533520" y="228600"/>
            <a:ext cx="248904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Text Box 7"/>
          <p:cNvSpPr/>
          <p:nvPr/>
        </p:nvSpPr>
        <p:spPr>
          <a:xfrm>
            <a:off x="3581280" y="380880"/>
            <a:ext cx="51818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узейная экспозиция располагается в отдельном помещении школы и представлена стендами с описанием основных операций, проведенных дивизией на протяжении ее боевого пути от Сталинграда до Авс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4572000"/>
            <a:ext cx="53341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а схемах и картах отражены действия дивизии по освобождению Воронежа, Харькова, Курска, Белгорода, форсирование Днепра, сражения в Молдавии, Венгрии, Австрии, где дивизия встретила День Побед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SS850424"/>
          <p:cNvPicPr/>
          <p:nvPr/>
        </p:nvPicPr>
        <p:blipFill>
          <a:blip r:embed="rId1"/>
          <a:stretch/>
        </p:blipFill>
        <p:spPr>
          <a:xfrm>
            <a:off x="152280" y="228600"/>
            <a:ext cx="491508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8" descr="SS850439"/>
          <p:cNvPicPr/>
          <p:nvPr/>
        </p:nvPicPr>
        <p:blipFill>
          <a:blip r:embed="rId2"/>
          <a:stretch/>
        </p:blipFill>
        <p:spPr>
          <a:xfrm rot="20859600">
            <a:off x="2252160" y="3691080"/>
            <a:ext cx="3673440" cy="2501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0" name="Text Box 11"/>
          <p:cNvSpPr/>
          <p:nvPr/>
        </p:nvSpPr>
        <p:spPr>
          <a:xfrm>
            <a:off x="5181480" y="76212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музее хранятся альбомы, сделанные учащимися и посвященные дням боевой славы, фотографии учащихся и ветеранов, переписка с ветеран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SS850443"/>
          <p:cNvPicPr/>
          <p:nvPr/>
        </p:nvPicPr>
        <p:blipFill>
          <a:blip r:embed="rId1"/>
          <a:stretch/>
        </p:blipFill>
        <p:spPr>
          <a:xfrm rot="21176400">
            <a:off x="723960" y="3878280"/>
            <a:ext cx="3070080" cy="2047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2" name="Picture 9" descr="SS850426"/>
          <p:cNvPicPr/>
          <p:nvPr/>
        </p:nvPicPr>
        <p:blipFill>
          <a:blip r:embed="rId2"/>
          <a:stretch/>
        </p:blipFill>
        <p:spPr>
          <a:xfrm>
            <a:off x="4495680" y="685800"/>
            <a:ext cx="4340520" cy="213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11"/>
          <p:cNvSpPr/>
          <p:nvPr/>
        </p:nvSpPr>
        <p:spPr>
          <a:xfrm>
            <a:off x="152280" y="152280"/>
            <a:ext cx="3962520" cy="37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В трех витринах располагаются находки группы «Поиск»: гильзы, осколки мин и снарядов, советские и немецкие каски. Там же представлены документы и фотодокументы, подарки ветеранов, фрагменты фронтовых газе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4" descr="SS850427"/>
          <p:cNvPicPr/>
          <p:nvPr/>
        </p:nvPicPr>
        <p:blipFill>
          <a:blip r:embed="rId3"/>
          <a:stretch/>
        </p:blipFill>
        <p:spPr>
          <a:xfrm rot="811800">
            <a:off x="4570200" y="3854160"/>
            <a:ext cx="3894120" cy="2219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24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S3010020"/>
          <p:cNvPicPr/>
          <p:nvPr/>
        </p:nvPicPr>
        <p:blipFill>
          <a:blip r:embed="rId1"/>
          <a:stretch/>
        </p:blipFill>
        <p:spPr>
          <a:xfrm>
            <a:off x="665280" y="1700280"/>
            <a:ext cx="3552840" cy="342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3429000" y="533520"/>
            <a:ext cx="5486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Ежегодные встречи в стенах школы в честь победы в Великой Отечественной вой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3" descr="S3010019"/>
          <p:cNvPicPr/>
          <p:nvPr/>
        </p:nvPicPr>
        <p:blipFill>
          <a:blip r:embed="rId2"/>
          <a:stretch/>
        </p:blipFill>
        <p:spPr>
          <a:xfrm>
            <a:off x="4017960" y="2803680"/>
            <a:ext cx="3790800" cy="357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S3010031"/>
          <p:cNvPicPr/>
          <p:nvPr/>
        </p:nvPicPr>
        <p:blipFill>
          <a:blip r:embed="rId1"/>
          <a:stretch/>
        </p:blipFill>
        <p:spPr>
          <a:xfrm>
            <a:off x="4876920" y="3333600"/>
            <a:ext cx="3581280" cy="268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Picture 8" descr="S3010013"/>
          <p:cNvPicPr/>
          <p:nvPr/>
        </p:nvPicPr>
        <p:blipFill>
          <a:blip r:embed="rId2"/>
          <a:stretch/>
        </p:blipFill>
        <p:spPr>
          <a:xfrm>
            <a:off x="457200" y="2590920"/>
            <a:ext cx="3251160" cy="243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Text Box 10"/>
          <p:cNvSpPr/>
          <p:nvPr/>
        </p:nvSpPr>
        <p:spPr>
          <a:xfrm>
            <a:off x="380880" y="5334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а встречи приходят ветераны и их жены, их дети и внуки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4" descr="S3010030"/>
          <p:cNvPicPr/>
          <p:nvPr/>
        </p:nvPicPr>
        <p:blipFill>
          <a:blip r:embed="rId3"/>
          <a:stretch/>
        </p:blipFill>
        <p:spPr>
          <a:xfrm>
            <a:off x="6172200" y="304920"/>
            <a:ext cx="1860480" cy="26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2" name="Picture 15" descr="S3010015"/>
          <p:cNvPicPr/>
          <p:nvPr/>
        </p:nvPicPr>
        <p:blipFill>
          <a:blip r:embed="rId4"/>
          <a:stretch/>
        </p:blipFill>
        <p:spPr>
          <a:xfrm>
            <a:off x="2705040" y="228600"/>
            <a:ext cx="274320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S3010008"/>
          <p:cNvPicPr/>
          <p:nvPr/>
        </p:nvPicPr>
        <p:blipFill>
          <a:blip r:embed="rId1"/>
          <a:stretch/>
        </p:blipFill>
        <p:spPr>
          <a:xfrm>
            <a:off x="4419720" y="533520"/>
            <a:ext cx="41986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Picture 11" descr="S3010011"/>
          <p:cNvPicPr/>
          <p:nvPr/>
        </p:nvPicPr>
        <p:blipFill>
          <a:blip r:embed="rId2"/>
          <a:stretch/>
        </p:blipFill>
        <p:spPr>
          <a:xfrm>
            <a:off x="762120" y="1219320"/>
            <a:ext cx="3141720" cy="235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Text Box 12"/>
          <p:cNvSpPr/>
          <p:nvPr/>
        </p:nvSpPr>
        <p:spPr>
          <a:xfrm>
            <a:off x="228600" y="4572000"/>
            <a:ext cx="46483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а базе музея учащиеся могут готовиться к урокам и викторинам, олимпиадам и конкурс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3" descr="S3010003"/>
          <p:cNvPicPr/>
          <p:nvPr/>
        </p:nvPicPr>
        <p:blipFill>
          <a:blip r:embed="rId3"/>
          <a:stretch/>
        </p:blipFill>
        <p:spPr>
          <a:xfrm>
            <a:off x="5051520" y="3656160"/>
            <a:ext cx="3697200" cy="22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3010004"/>
          <p:cNvPicPr/>
          <p:nvPr/>
        </p:nvPicPr>
        <p:blipFill>
          <a:blip r:embed="rId1"/>
          <a:stretch/>
        </p:blipFill>
        <p:spPr>
          <a:xfrm>
            <a:off x="228600" y="152280"/>
            <a:ext cx="38098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Text Box 7"/>
          <p:cNvSpPr/>
          <p:nvPr/>
        </p:nvSpPr>
        <p:spPr>
          <a:xfrm>
            <a:off x="4114800" y="304920"/>
            <a:ext cx="42670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В рамках музейной практики, учащиеся готовятся к встречам с ветеранами: составляют вопросники, готовят выступ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28600" y="3276720"/>
            <a:ext cx="320040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Учащиеся средней школы разрабатывают экскурсии по музею для младшей школы, старшеклассники и учителя оказывают помощь в их провед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4" descr="Фото(329)"/>
          <p:cNvPicPr/>
          <p:nvPr/>
        </p:nvPicPr>
        <p:blipFill>
          <a:blip r:embed="rId2"/>
          <a:stretch/>
        </p:blipFill>
        <p:spPr>
          <a:xfrm>
            <a:off x="3733920" y="2514600"/>
            <a:ext cx="2819160" cy="225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15" descr="S3010005"/>
          <p:cNvPicPr/>
          <p:nvPr/>
        </p:nvPicPr>
        <p:blipFill>
          <a:blip r:embed="rId3"/>
          <a:stretch/>
        </p:blipFill>
        <p:spPr>
          <a:xfrm>
            <a:off x="5819760" y="4211640"/>
            <a:ext cx="3124080" cy="23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84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207 Школа207</cp:lastModifiedBy>
  <dcterms:modified xsi:type="dcterms:W3CDTF">2016-11-21T13:53:33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