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D50F-8F1E-4DE5-9A2C-E7520493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7C68-96BD-4619-BF29-CA3C35E8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9F5C-B0EF-4554-9AD8-19F4DAB8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7E87-E508-4DF1-946E-B49D4B86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EFE2-1030-4EC4-A16B-BF3FF631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4E3C-DCAE-41DD-A9CD-4FAA24DD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24B4-E172-42A7-99CB-8F2EC9E1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F72A-346D-495D-A1CA-78431477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B47F-023C-400F-A4AD-20CDB388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9908-92F8-4EA3-951B-5406B461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ECD0-4EC7-4959-8F88-23695327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D954-E6DD-46EC-AE49-DACE0941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7395-2EAD-4339-8F55-D59DC16F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E666-069A-4C62-9968-71CD8345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5B7A-2AA9-4083-9DF7-411EA9DD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9A74-6DEC-473D-950C-C131B557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27D7-3486-4173-9897-430D5D78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222D4-AEE9-41D8-A002-4741B972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83B94-044F-4345-AF6B-02923412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74809-3302-4DD2-8980-19A1524A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39AF3-BA8C-4CF3-B168-5E48816C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5CB51-5E8C-4D8C-BDCB-5F842437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B2A7-CBDB-4F34-AF44-F9699119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30CCC-8906-4B79-9057-FEE2A15E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0F05A-1EB0-4F90-88EC-72651371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9B91C-5763-4983-8A94-8B7EB573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9A0C9-D18A-4785-B96C-B5D9C714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32537-2CC7-471D-9296-353B0100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38423-E9D8-4AC4-A584-C9C345D5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2112D-0A2C-48DC-9330-8C8806CD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A5F26-6E77-4C34-9AEA-F48DCC04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7582D-5280-4422-9558-1B088283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814B5-BFB3-41AF-A98D-642F3373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92F0-5069-4177-B532-4738DDB2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67C70-D3D7-496E-9518-239A9425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23342-E6FC-4326-83B3-9EBFC576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FFE34-6D50-407B-9171-61035248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F31BC-CC37-4EF1-BC1A-AE2FD585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2C97A-29E6-4F1C-A9B4-B5C9DA44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62B55-E53E-4813-9854-6A369C8B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AB448-C7C6-449D-8E77-C5822A97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32BB4-55C7-4804-9A23-EFEFB703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FF883-AE9B-4420-935D-9C002C0D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6BDB4-BC82-4328-9C86-219DD8C6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59A7-3AF6-4E8C-B567-E1889F34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B8DA7-1866-4E7E-A23B-6583A95A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74D3F-8100-460E-8C8E-1D9612A5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B9C1C-5E69-4B21-BBBC-EF85B455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CE8EB-30E3-483D-8288-6C0810F8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83557-6E8C-4BBA-A47D-F6DAD21E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C3021-B226-43D2-B501-71DEECE0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3F452-FA99-4D73-B3CB-F673E9EC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A8538-9891-4FE9-B955-B63D562F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E6948-89B7-43B0-8CC3-5B8E8EB2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62BFB-52C3-4907-987E-80206DB6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901F-84B0-4E09-BDDA-09099E18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61122-CF05-4D2B-9420-B945E4E4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CF200-8AD3-47A6-B4E4-1A63373E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48BD6-E520-4ABA-B697-E8CB2944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DA17E-031E-4575-8247-F19ECAA8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2835B-BC32-47DC-8A77-B6731110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6158C-5AAD-4561-9165-AD4FE705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8B101-8EF4-4E69-877D-FD2F8CE7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C42B9-FB85-47A0-95B7-D095DE44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004C1-5225-49B9-A144-A3DCA167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83878-FC5B-4EAD-B8E8-84F0007E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CE8A-FEB9-4AF5-B7E3-91A7A032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77114-BE22-4299-88BC-B539BF48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E4DF5-69BE-4EFB-9C37-F5ECA608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7C036-39D9-4D5F-B3A5-07ED5C96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C6E4-5460-476D-BCFC-5D0B44F8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F302-DEBB-47B2-ADCC-54A3B4AA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830E-C9E3-4C5B-985A-442636FE1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32AB-A093-4354-9B0D-83D88E3A3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59A6-FC34-4EF7-860E-0308FC91339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7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3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4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7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8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40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6743-E0C3-4ED3-B926-EB887FB946D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91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95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01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05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3C61-BFF9-4783-89A2-F9D2BC77C0D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FEDD-C96B-4F96-A525-251DA148D79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7914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Стили речи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908000" y="2923920"/>
            <a:ext cx="691200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Разговорная и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книжная речь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475840" y="277560"/>
            <a:ext cx="21096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468360" y="765000"/>
          <a:ext cx="8424360" cy="4992840"/>
        </p:xfrm>
        <a:graphic>
          <a:graphicData uri="http://schemas.openxmlformats.org/drawingml/2006/table">
            <a:tbl>
              <a:tblPr/>
              <a:tblGrid>
                <a:gridCol w="1595880"/>
                <a:gridCol w="6828480"/>
              </a:tblGrid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 одним человеком ( 1-1 ) 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 кем говорим?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                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 многими людьми (1 – много 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чев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иту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Р.С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        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официальной обстановке (о/о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де?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неофициальной обстановке (н/о)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                           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ение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 какой целью?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сообщение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                          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здействие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"/>
          <p:cNvSpPr/>
          <p:nvPr/>
        </p:nvSpPr>
        <p:spPr>
          <a:xfrm>
            <a:off x="1908000" y="29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908000" y="1557000"/>
            <a:ext cx="64800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08000" y="2924280"/>
            <a:ext cx="648000" cy="165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348000" y="2492280"/>
            <a:ext cx="1224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348000" y="2924280"/>
            <a:ext cx="1152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716360" y="472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716360" y="4365720"/>
            <a:ext cx="935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16360" y="4724280"/>
            <a:ext cx="86364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572000" y="1125000"/>
            <a:ext cx="43164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1484280"/>
            <a:ext cx="433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16360" y="148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451280" y="-9312120"/>
            <a:ext cx="1047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03dff"/>
                </a:solidFill>
                <a:latin typeface="Comic Sans MS"/>
              </a:rPr>
              <a:t>Стили речи, их зависимость от речевой ситуации изучает наука 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с т и л и с т и к а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410240" y="-9275760"/>
            <a:ext cx="1141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798660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ТО ЭТО ЗА ПТИЦЫ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ынишка мой пришёл домой и говорит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Что за птиц таких я видел, -  просто не пойму! Идёшь – все птицы от тебя удирают, разлетаются. А эти и не думают. Плавают у самого берега. Я подхожу – они не только не улетают, даже  отплыть подальше не хотят. Кувыркаются головой под воду, как маленькие уточки. Ни минуты не посидят спокойно: кружат жуками по воде. А то в чехарду начнут играть: прыгают друг через друга, перепархивают – и опять на воду садятс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2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2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00520" y="-9397800"/>
            <a:ext cx="586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798660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ЛАВУНЧИ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лавунчики – мелкие (со скворца или мельче) кулики на невысоких ногах и со сравнительно коротким клювом. На пальцах кожистые перепонки. Наблюдать плавунчиков чаще всего можно на воде, где они плавают, характерно кивая голово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«Определитель птиц»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2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556400" y="-93121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798660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тили речи различают в зависимости от цели высказывани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азговорный стил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используют для того, чтобы обменяться сведениями, мыслями или поделиться чувствами с близкими, хорошо знакомыми людьми. Он уместен в домашней или другой неофициальной  обстановке, а также в дружеских письмах, послания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других условиях и с другими целями общения используют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нижные стил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 книжным стилям относятся научный, официально-деловой, публицистический, художественны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204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пишите текст (по выбору). Около него обозначьте речевую ситуацию и укажите: разговорная это речь или книжна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утболист ударил по мячу. Ударил, значит, его нога ок..зала определённое воздействие на мяч, и скорость мяча ув..личилас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ерёжа накатывает мяч на Ваньку, и тот – бац! – неожиданно б..ёт с ходу. Мяч со свистом л..тит в воро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8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8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556400" y="-9219960"/>
            <a:ext cx="184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0920" y="907920"/>
            <a:ext cx="777060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рочитайте отрывок из письма пятиклассницы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Я хочу тебе рассказать, Валюша, об одном происшеств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Ходили мы за грибами. Я набрала полную корзину и поставила её под дерево. Только наклонилась, чтоб маслёнок срезать, глядь: к моей корзине белка скачет! Подскочила, боровичок схватила – и на дерево! Забралась высоко-высоко, почти на самую макушку. Держит мой грибок и смотрит на меня. Да так лукаво! Вот хитрюга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Докажите, что стиль письма – разговорный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2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2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2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451280" y="-9312480"/>
            <a:ext cx="1047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0578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Удачны ли высказывания ребят, приведённые в книге Норы Галь «Слово живое и мёртвое»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акое слово не соответствует ситуации? Почему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амените его другим, более подходящи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егут двое мальчишек лет по десяти-двенадцати, спешат в кино. На бегу один спрашивает другого: «А билеты я тебе вручил?» И другой, пыхтя, отвечает: «Вручил, вручил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2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20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4:56:10Z</dcterms:created>
  <dc:creator>Алёна</dc:creator>
  <dc:description/>
  <dc:language>en-US</dc:language>
  <cp:lastModifiedBy>Елена Козенко</cp:lastModifiedBy>
  <dcterms:modified xsi:type="dcterms:W3CDTF">2012-12-25T18:54:57Z</dcterms:modified>
  <cp:revision>7</cp:revision>
  <dc:subject/>
  <dc:title>Слайд 1</dc:title>
</cp:coreProperties>
</file>