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D3C-D085-4F2E-A31F-C5057FE7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19E-993E-47CC-B864-80F30992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001-B4E7-42FB-A025-D76021E9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8EA-035A-4A18-BAB0-D835FBC2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347-C3A9-455D-8F1D-77A8DEAC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3E2-A800-44C4-9A9A-9D77344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B0E6-128F-4BE2-AA9D-BD6A5BAE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CA0A-9689-4FF8-9406-045983E1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2DB5-B9C4-4615-ACFA-1B1456C6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0B73-9FCB-4E26-B42B-FB3D77FE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75ED-D06B-4CFF-8EC6-E6972F43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AFF-6708-4255-945E-EB11D2AE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FA16-93FF-410B-8FFF-B1F1B3F0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004-2E1C-4CAD-9BBE-DF98B75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67E7-4691-4FA3-B0DE-FDD76956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04D6-DF1C-4912-A490-E7BB468F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7BF5-79AA-4B93-9FE7-5F2748DD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9CE-2E22-4803-8162-732BBF6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233-D62E-44A1-A40C-96870C41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7E1-7A90-4ACB-B7A6-5D39276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BD8-5733-4862-8EFA-D3C86E21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174-7F1B-4F03-AF7F-EC0517E8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C24-685F-4FF3-B71E-D19977E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248-5D3A-4348-8654-5326BEA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17F-03BC-4D7E-90EA-B9FF378E60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79C-8A98-4731-8E9F-ABF6C13B02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5914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Свойства химических волокон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6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79640" y="3321000"/>
            <a:ext cx="46083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Вискозное  волокн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232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рье – древесная целлюлоза (еловая щепка, опилки) и хим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3141720"/>
          <a:ext cx="8713800" cy="3249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2600"/>
                <a:gridCol w="1452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л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е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о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мина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атов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жается во влажном состоя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т хорошо, пепел серый, пахнет жженой бумаг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Ацетатное волокн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778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рье – отходы хлопка и хим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3068640"/>
          <a:ext cx="8713800" cy="34383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2600"/>
                <a:gridCol w="1452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л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е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вит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о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мина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жается во влажном состоя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чем у вискоз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т желтым пламенем, остается оплавленный шар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Свойства волоко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492360" y="2349360"/>
            <a:ext cx="2374920" cy="1203480"/>
          </a:xfrm>
          <a:prstGeom prst="downArrowCallout">
            <a:avLst>
              <a:gd name="adj1" fmla="val 49339"/>
              <a:gd name="adj2" fmla="val 49334"/>
              <a:gd name="adj3" fmla="val 16667"/>
              <a:gd name="adj4" fmla="val 66667"/>
            </a:avLst>
          </a:prstGeom>
          <a:solidFill>
            <a:srgbClr val="008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324000" y="1341360"/>
            <a:ext cx="2374920" cy="1203480"/>
          </a:xfrm>
          <a:prstGeom prst="downArrowCallout">
            <a:avLst>
              <a:gd name="adj1" fmla="val 49339"/>
              <a:gd name="adj2" fmla="val 4933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гие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443640" y="1341360"/>
            <a:ext cx="2374920" cy="1203480"/>
          </a:xfrm>
          <a:prstGeom prst="downArrowCallout">
            <a:avLst>
              <a:gd name="adj1" fmla="val 49339"/>
              <a:gd name="adj2" fmla="val 49334"/>
              <a:gd name="adj3" fmla="val 16667"/>
              <a:gd name="adj4" fmla="val 66667"/>
            </a:avLst>
          </a:prstGeom>
          <a:solidFill>
            <a:srgbClr val="cc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564000" y="4005360"/>
            <a:ext cx="2305080" cy="304560"/>
          </a:xfrm>
          <a:prstGeom prst="flowChartTerminator">
            <a:avLst/>
          </a:prstGeom>
          <a:solidFill>
            <a:srgbClr val="00ff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3564000" y="5661000"/>
            <a:ext cx="2305080" cy="304920"/>
          </a:xfrm>
          <a:prstGeom prst="flowChartTerminator">
            <a:avLst/>
          </a:prstGeom>
          <a:solidFill>
            <a:srgbClr val="00ff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н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3564000" y="4797360"/>
            <a:ext cx="2305080" cy="304920"/>
          </a:xfrm>
          <a:prstGeom prst="flowChartTerminator">
            <a:avLst/>
          </a:prstGeom>
          <a:solidFill>
            <a:srgbClr val="00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апиру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324000" y="4869000"/>
            <a:ext cx="2305080" cy="30456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провод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324000" y="4149720"/>
            <a:ext cx="2305080" cy="28728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ок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324000" y="3500280"/>
            <a:ext cx="2305080" cy="30492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гроскоп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24000" y="2852640"/>
            <a:ext cx="2305080" cy="30492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духопрониц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6516720" y="4724280"/>
            <a:ext cx="2305080" cy="304920"/>
          </a:xfrm>
          <a:prstGeom prst="flowChartTerminator">
            <a:avLst/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яж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6516720" y="4005360"/>
            <a:ext cx="2305080" cy="304560"/>
          </a:xfrm>
          <a:prstGeom prst="flowChartTerminator">
            <a:avLst/>
          </a:prstGeom>
          <a:solidFill>
            <a:srgbClr val="cc99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6516720" y="3357720"/>
            <a:ext cx="2305080" cy="304560"/>
          </a:xfrm>
          <a:prstGeom prst="flowChartTerminator">
            <a:avLst/>
          </a:prstGeom>
          <a:solidFill>
            <a:srgbClr val="cc99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вижка ни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6516720" y="2781360"/>
            <a:ext cx="2305080" cy="304920"/>
          </a:xfrm>
          <a:prstGeom prst="flowChartTerminator">
            <a:avLst/>
          </a:prstGeom>
          <a:solidFill>
            <a:srgbClr val="cc99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ып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Картинка 32 из 213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259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69" name="Picture 5" descr="Картинка 27 из 213"/>
          <p:cNvPicPr/>
          <p:nvPr/>
        </p:nvPicPr>
        <p:blipFill>
          <a:blip r:embed="rId2"/>
          <a:stretch/>
        </p:blipFill>
        <p:spPr>
          <a:xfrm>
            <a:off x="6588000" y="3141720"/>
            <a:ext cx="2281320" cy="35496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70" name="Picture 6" descr="Картинка 24 из 213"/>
          <p:cNvPicPr/>
          <p:nvPr/>
        </p:nvPicPr>
        <p:blipFill>
          <a:blip r:embed="rId3"/>
          <a:stretch/>
        </p:blipFill>
        <p:spPr>
          <a:xfrm>
            <a:off x="250920" y="4351320"/>
            <a:ext cx="3960720" cy="225108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71" name="Picture 7" descr="Картинка 101 из 213"/>
          <p:cNvPicPr/>
          <p:nvPr/>
        </p:nvPicPr>
        <p:blipFill>
          <a:blip r:embed="rId4"/>
          <a:stretch/>
        </p:blipFill>
        <p:spPr>
          <a:xfrm>
            <a:off x="5796000" y="260280"/>
            <a:ext cx="3097080" cy="253836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72" name="Picture 9" descr="i?id=7248686&amp;tov=7"/>
          <p:cNvPicPr/>
          <p:nvPr/>
        </p:nvPicPr>
        <p:blipFill>
          <a:blip r:embed="rId5"/>
          <a:stretch/>
        </p:blipFill>
        <p:spPr>
          <a:xfrm>
            <a:off x="3851280" y="1197000"/>
            <a:ext cx="1768320" cy="2817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73" name="Picture 10" descr="i?id=2937387&amp;tov=5"/>
          <p:cNvPicPr/>
          <p:nvPr/>
        </p:nvPicPr>
        <p:blipFill>
          <a:blip r:embed="rId6"/>
          <a:stretch/>
        </p:blipFill>
        <p:spPr>
          <a:xfrm>
            <a:off x="4572000" y="4581360"/>
            <a:ext cx="1619280" cy="161928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4" descr="Картинка 12 из 133"/>
          <p:cNvPicPr/>
          <p:nvPr/>
        </p:nvPicPr>
        <p:blipFill>
          <a:blip r:embed="rId1"/>
          <a:stretch/>
        </p:blipFill>
        <p:spPr>
          <a:xfrm>
            <a:off x="468360" y="549360"/>
            <a:ext cx="3814560" cy="289080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pic>
        <p:nvPicPr>
          <p:cNvPr id="176" name="Picture 25" descr="Картинка 28 из 133"/>
          <p:cNvPicPr/>
          <p:nvPr/>
        </p:nvPicPr>
        <p:blipFill>
          <a:blip r:embed="rId2"/>
          <a:stretch/>
        </p:blipFill>
        <p:spPr>
          <a:xfrm>
            <a:off x="5867280" y="549360"/>
            <a:ext cx="2649600" cy="2185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77" name="Picture 43" descr="Картинка 28 из 133"/>
          <p:cNvPicPr/>
          <p:nvPr/>
        </p:nvPicPr>
        <p:blipFill>
          <a:blip r:embed="rId3"/>
          <a:stretch/>
        </p:blipFill>
        <p:spPr>
          <a:xfrm>
            <a:off x="826920" y="3789360"/>
            <a:ext cx="2584440" cy="216216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  <p:pic>
        <p:nvPicPr>
          <p:cNvPr id="178" name="Picture 44" descr="009"/>
          <p:cNvPicPr/>
          <p:nvPr/>
        </p:nvPicPr>
        <p:blipFill>
          <a:blip r:embed="rId4"/>
          <a:stretch/>
        </p:blipFill>
        <p:spPr>
          <a:xfrm>
            <a:off x="6732720" y="3716280"/>
            <a:ext cx="2173320" cy="2887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9" name="Picture 45" descr="i?id=11897110&amp;tov=6"/>
          <p:cNvPicPr/>
          <p:nvPr/>
        </p:nvPicPr>
        <p:blipFill>
          <a:blip r:embed="rId5"/>
          <a:stretch/>
        </p:blipFill>
        <p:spPr>
          <a:xfrm>
            <a:off x="4067280" y="4076640"/>
            <a:ext cx="2192400" cy="163980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абораторная работа: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пределение состава тканей по их свойствам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600200"/>
          <a:ext cx="7925040" cy="5181480"/>
        </p:xfrm>
        <a:graphic>
          <a:graphicData uri="http://schemas.openxmlformats.org/drawingml/2006/table">
            <a:tbl>
              <a:tblPr/>
              <a:tblGrid>
                <a:gridCol w="1370160"/>
                <a:gridCol w="1944720"/>
                <a:gridCol w="934920"/>
                <a:gridCol w="865080"/>
                <a:gridCol w="935280"/>
                <a:gridCol w="936720"/>
                <a:gridCol w="93816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йства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ца тк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Блес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Глад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Мяг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Проч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В сух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В мокр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Гор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Определение волокнистого состава тка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териалы, инструменты, приспособления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бразцы тканей из искусственных и синтетических волокон, игла, сосуд с водой, тигели для поджигания ни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рядок выполнения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1. Рассмотрите образцы тканей. Определите, у каких из них поверхность блестящая, а у каких — мат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2. Определите на ощупь степень гладкости и мягкости образ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3. Определите сминаемость образцов, зажав их в кулаке на 30 сек., а затем расправ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4. Выньте из каждого образца по две нити. Намочите по одной из них. Сначала разорвите су­хую нить, затем мокрую. Определите, как из­менилась прочность н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5. Выньте из образцов по одной нити и подожгите в тигле. Проанализируйте вид пламени, запах и остатки г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6. Заполните таблицу отчета и определите волокнистый состав каждого образца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Закрепление материал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4751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ариан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усственное шелковое волокно - это волок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химическо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интетическ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 искусственным волокнам относятся волок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вискоз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полиамид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в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ацетат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г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полиэфирны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д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шелко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кани из волокон искусственного шелка имеют свой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не мнут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блестящ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в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жест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г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меют хорошие теплозащитные свой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д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не скользят при раскро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е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мало осып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Осыпаемость срезов сильнее в ткан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з шерстяного волок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апроновых нитей;</a:t>
            </a:r>
            <a:br>
              <a:rPr sz="1400"/>
            </a:b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в)хлопкового волок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412640"/>
            <a:ext cx="3886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Вариан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интетические волокна получ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из древеси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неф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в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раст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Определить волокнистый состав ткани мож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по цвету тка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пробе на гор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в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внешнему ви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г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на ощу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При горении ткани из синтетического волокна образ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ерый пепе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твердый темный шар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в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рассыпающийся черный шар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Гигиенические свойства лучше у ткан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а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из хлопкового волок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б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вискозного волок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в)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полиакрилонитрильного волок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Arial"/>
              </a:rPr>
              <a:t>Заполните пустые клеточ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1332000" y="1268280"/>
          <a:ext cx="6588000" cy="54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68280"/>
                    <a:ext cx="6588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</a:rPr>
              <a:t>Цели и задач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. Дать представление о видах химических волокон и производстве тканей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Научить  разбираться в свойствах тканей и применять эти знания в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Воспитывать практичность и  способствовать развитию эстетического вк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imes New Roman"/>
              </a:rPr>
              <a:t>Происхождение натуральных волоко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293840" y="1600200"/>
            <a:ext cx="2516040" cy="44197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194440" y="1600200"/>
            <a:ext cx="2793960" cy="441972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imes New Roman"/>
              </a:rPr>
              <a:t>Происхождение растительных волоко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264816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268272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8"/>
          <p:cNvSpPr txBox="1"/>
          <p:nvPr/>
        </p:nvSpPr>
        <p:spPr>
          <a:xfrm>
            <a:off x="3924360" y="3716280"/>
            <a:ext cx="13572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яж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imes New Roman"/>
              </a:rPr>
              <a:t>Классификация химических волоко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37"/>
          <p:cNvSpPr/>
          <p:nvPr/>
        </p:nvSpPr>
        <p:spPr>
          <a:xfrm>
            <a:off x="3564000" y="1773360"/>
            <a:ext cx="1922400" cy="645840"/>
          </a:xfrm>
          <a:prstGeom prst="flowChartAlternateProcess">
            <a:avLst/>
          </a:prstGeom>
          <a:solidFill>
            <a:srgbClr val="0000ff">
              <a:alpha val="51000"/>
            </a:srgbClr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2"/>
          <p:cNvSpPr/>
          <p:nvPr/>
        </p:nvSpPr>
        <p:spPr>
          <a:xfrm>
            <a:off x="1692360" y="2708280"/>
            <a:ext cx="2158920" cy="360360"/>
          </a:xfrm>
          <a:prstGeom prst="flowChartAlternateProcess">
            <a:avLst/>
          </a:prstGeom>
          <a:solidFill>
            <a:srgbClr val="99cc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3"/>
          <p:cNvSpPr/>
          <p:nvPr/>
        </p:nvSpPr>
        <p:spPr>
          <a:xfrm>
            <a:off x="5292720" y="2708280"/>
            <a:ext cx="2158920" cy="360360"/>
          </a:xfrm>
          <a:prstGeom prst="flowChartAlternateProcess">
            <a:avLst/>
          </a:prstGeom>
          <a:solidFill>
            <a:srgbClr val="99cc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4"/>
          <p:cNvSpPr/>
          <p:nvPr/>
        </p:nvSpPr>
        <p:spPr>
          <a:xfrm>
            <a:off x="611280" y="3429000"/>
            <a:ext cx="1439640" cy="360360"/>
          </a:xfrm>
          <a:prstGeom prst="flowChartAlternateProcess">
            <a:avLst/>
          </a:prstGeom>
          <a:solidFill>
            <a:srgbClr val="99ccff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ско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5"/>
          <p:cNvSpPr/>
          <p:nvPr/>
        </p:nvSpPr>
        <p:spPr>
          <a:xfrm>
            <a:off x="1619280" y="4221000"/>
            <a:ext cx="1440000" cy="720720"/>
          </a:xfrm>
          <a:prstGeom prst="flowChartAlternateProcess">
            <a:avLst/>
          </a:prstGeom>
          <a:solidFill>
            <a:srgbClr val="99ccff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ач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2627280" y="3429000"/>
            <a:ext cx="1440000" cy="360360"/>
          </a:xfrm>
          <a:prstGeom prst="flowChartAlternateProcess">
            <a:avLst/>
          </a:prstGeom>
          <a:solidFill>
            <a:srgbClr val="99ccff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а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7"/>
          <p:cNvSpPr/>
          <p:nvPr/>
        </p:nvSpPr>
        <p:spPr>
          <a:xfrm>
            <a:off x="4500720" y="4221000"/>
            <a:ext cx="1871640" cy="72072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акри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тр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8"/>
          <p:cNvSpPr/>
          <p:nvPr/>
        </p:nvSpPr>
        <p:spPr>
          <a:xfrm>
            <a:off x="6804000" y="4221000"/>
            <a:ext cx="1871640" cy="36036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а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9"/>
          <p:cNvSpPr/>
          <p:nvPr/>
        </p:nvSpPr>
        <p:spPr>
          <a:xfrm>
            <a:off x="4500720" y="3429000"/>
            <a:ext cx="1655640" cy="36036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эф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0"/>
          <p:cNvSpPr/>
          <p:nvPr/>
        </p:nvSpPr>
        <p:spPr>
          <a:xfrm>
            <a:off x="7020000" y="3429000"/>
            <a:ext cx="1655640" cy="36036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ам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1"/>
          <p:cNvSpPr/>
          <p:nvPr/>
        </p:nvSpPr>
        <p:spPr>
          <a:xfrm flipH="1">
            <a:off x="2700000" y="242100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2"/>
          <p:cNvSpPr/>
          <p:nvPr/>
        </p:nvSpPr>
        <p:spPr>
          <a:xfrm>
            <a:off x="5435640" y="2421000"/>
            <a:ext cx="1081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3"/>
          <p:cNvSpPr/>
          <p:nvPr/>
        </p:nvSpPr>
        <p:spPr>
          <a:xfrm>
            <a:off x="2340000" y="3068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4"/>
          <p:cNvSpPr/>
          <p:nvPr/>
        </p:nvSpPr>
        <p:spPr>
          <a:xfrm>
            <a:off x="2340000" y="3068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5"/>
          <p:cNvSpPr/>
          <p:nvPr/>
        </p:nvSpPr>
        <p:spPr>
          <a:xfrm flipH="1">
            <a:off x="1258560" y="30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6"/>
          <p:cNvSpPr/>
          <p:nvPr/>
        </p:nvSpPr>
        <p:spPr>
          <a:xfrm flipH="1">
            <a:off x="6227280" y="3068640"/>
            <a:ext cx="289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7"/>
          <p:cNvSpPr/>
          <p:nvPr/>
        </p:nvSpPr>
        <p:spPr>
          <a:xfrm>
            <a:off x="6516720" y="3068640"/>
            <a:ext cx="431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8"/>
          <p:cNvSpPr/>
          <p:nvPr/>
        </p:nvSpPr>
        <p:spPr>
          <a:xfrm>
            <a:off x="6516720" y="306864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9"/>
          <p:cNvSpPr/>
          <p:nvPr/>
        </p:nvSpPr>
        <p:spPr>
          <a:xfrm flipH="1">
            <a:off x="5292720" y="306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Производство химических волокон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Organization Chart 18"/>
          <p:cNvGrpSpPr/>
          <p:nvPr/>
        </p:nvGrpSpPr>
        <p:grpSpPr>
          <a:xfrm>
            <a:off x="-108000" y="1350360"/>
            <a:ext cx="9250920" cy="4478040"/>
            <a:chOff x="-108000" y="1350360"/>
            <a:chExt cx="9250920" cy="4478040"/>
          </a:xfrm>
        </p:grpSpPr>
        <p:cxnSp>
          <p:nvCxnSpPr>
            <p:cNvPr id="124" name="_s1028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4388400" y="4496400"/>
              <a:ext cx="262080" cy="5040"/>
            </a:xfrm>
            <a:prstGeom prst="bentConnector3">
              <a:avLst>
                <a:gd name="adj1" fmla="val 499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29"/>
            <p:cNvCxnSpPr>
              <a:stCxn id="126" idx="0"/>
              <a:endCxn id="128" idx="2"/>
            </p:cNvCxnSpPr>
            <p:nvPr/>
          </p:nvCxnSpPr>
          <p:spPr>
            <a:xfrm flipV="1">
              <a:off x="4516920" y="2548080"/>
              <a:ext cx="1080" cy="26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1030"/>
            <p:cNvSpPr/>
            <p:nvPr/>
          </p:nvSpPr>
          <p:spPr>
            <a:xfrm>
              <a:off x="-108000" y="1350360"/>
              <a:ext cx="9250920" cy="119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этап: Получение прядильного раствор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 искусственного волокна: Растворение в щелочи целлюлозной масс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ля синтетического волокна: сложение химических реакций различных вещест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1"/>
            <p:cNvSpPr/>
            <p:nvPr/>
          </p:nvSpPr>
          <p:spPr>
            <a:xfrm>
              <a:off x="1389600" y="2810520"/>
              <a:ext cx="6255720" cy="155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этап: Формирование волок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пуск раствора через фильер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личество отверстий в фильере – 24-36 тысяч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твор затвердевает, образуя твердые тонкие ни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2"/>
            <p:cNvSpPr/>
            <p:nvPr/>
          </p:nvSpPr>
          <p:spPr>
            <a:xfrm>
              <a:off x="923040" y="4630320"/>
              <a:ext cx="7193160" cy="1198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этап: Отделка волок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ити промывают, сушат, крутят, обрабатывают высокой температуро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беливают, красят, обрабатывают раствором мыл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и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ло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производство волокон"/>
          <p:cNvPicPr/>
          <p:nvPr/>
        </p:nvPicPr>
        <p:blipFill>
          <a:blip r:embed="rId1"/>
          <a:stretch/>
        </p:blipFill>
        <p:spPr>
          <a:xfrm>
            <a:off x="3276720" y="260280"/>
            <a:ext cx="556236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Ткани синтетического происхожд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95280" y="2349360"/>
            <a:ext cx="1512720" cy="1008360"/>
          </a:xfrm>
          <a:prstGeom prst="downArrowCallout">
            <a:avLst>
              <a:gd name="adj1" fmla="val 37508"/>
              <a:gd name="adj2" fmla="val 3750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эфи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56000" y="2349360"/>
            <a:ext cx="1512720" cy="1008360"/>
          </a:xfrm>
          <a:prstGeom prst="downArrowCallout">
            <a:avLst>
              <a:gd name="adj1" fmla="val 37508"/>
              <a:gd name="adj2" fmla="val 3750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ами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88000" y="2349360"/>
            <a:ext cx="1512720" cy="1008360"/>
          </a:xfrm>
          <a:prstGeom prst="downArrowCallout">
            <a:avLst>
              <a:gd name="adj1" fmla="val 37508"/>
              <a:gd name="adj2" fmla="val 3750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акрил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три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7020000" y="2349360"/>
            <a:ext cx="1512720" cy="1008360"/>
          </a:xfrm>
          <a:prstGeom prst="downArrowCallout">
            <a:avLst>
              <a:gd name="adj1" fmla="val 37508"/>
              <a:gd name="adj2" fmla="val 3750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астан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ок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395280" y="4149720"/>
            <a:ext cx="1512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ав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95280" y="5229360"/>
            <a:ext cx="1512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римп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627280" y="5229360"/>
            <a:ext cx="151308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дед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627280" y="4149720"/>
            <a:ext cx="151308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й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4788000" y="5229360"/>
            <a:ext cx="1512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ак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4859280" y="4149720"/>
            <a:ext cx="151308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ит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7093080" y="5229360"/>
            <a:ext cx="1512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рла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7093080" y="4149720"/>
            <a:ext cx="1512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й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900000" y="1484280"/>
            <a:ext cx="7056720" cy="609480"/>
          </a:xfrm>
          <a:prstGeom prst="flowChartAlternateProcess">
            <a:avLst/>
          </a:prstGeom>
          <a:solidFill>
            <a:srgbClr val="cc99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ье – газ. В результате сложных химических реа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 вол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Ткани искусственного происхожд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75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5:20:01Z</dcterms:created>
  <dc:creator>Юлия</dc:creator>
  <dc:description/>
  <dc:language>en-US</dc:language>
  <cp:lastModifiedBy>Владелец</cp:lastModifiedBy>
  <dcterms:modified xsi:type="dcterms:W3CDTF">2016-11-21T08:28:29Z</dcterms:modified>
  <cp:revision>8</cp:revision>
  <dc:subject/>
  <dc:title>Химические волокна</dc:title>
</cp:coreProperties>
</file>