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40.jpeg" ContentType="image/jpeg"/>
  <Override PartName="/ppt/media/image42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49.wmf" ContentType="image/x-wmf"/>
  <Override PartName="/ppt/media/image55.jpeg" ContentType="image/jpeg"/>
  <Override PartName="/ppt/media/image35.jpeg" ContentType="image/jpeg"/>
  <Override PartName="/ppt/media/image1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908-A42A-494C-BC27-2A34B5AA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4B4-027E-4D93-95D7-BF6D9795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72F-3691-43CA-A1F0-B931B007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5CF-34DA-4319-A772-BCB8567D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2F3-1DD2-4935-9144-154D9660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AC1-3A2A-47D6-9F36-CD195169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A88-D8E3-4340-83EF-ED32F159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431-98CC-4722-9B0B-8F34A4A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CF1-AE08-4053-AEA8-109FA42C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839-C928-4AAE-9B5C-9C6FEE64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3C6-AB01-4E92-BF45-E0351E8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BC7-1174-4DCA-A20C-54900B1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B7CC-1166-45E9-80B4-BA8784B17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2;&#1077;&#1090;&#1086;&#1076;&#1080;&#1082;&#1072;%20&#1088;&#1072;&#1073;&#1086;&#1090;&#1099;%20&#1089;%20&#1076;&#1077;&#1090;&#1100;&#1084;&#1080;%20&#1074;%20&#1087;&#1086;&#1076;&#1075;&#1086;&#1090;&#1086;&#1074;&#1080;&#1090;&#1077;&#1083;&#1100;&#1085;&#1086;&#1081;%20&#1075;&#1088;&#1091;&#1087;&#1087;&#1077;.docx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51.jpe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280" y="2492280"/>
            <a:ext cx="482436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900"/>
            </a:br>
            <a:br>
              <a:rPr sz="900"/>
            </a:b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ТЕАТРАЛЬНО – ИГРОВАЯ ДЕЯТЕЛЬНОСТЬ</a:t>
            </a:r>
            <a:br>
              <a:rPr sz="2000"/>
            </a:b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СПИТАТЕЛЬ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Югорск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79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576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6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344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8afb06ed5c745799e9e4b1bd1e8798aa"/>
          <p:cNvPicPr/>
          <p:nvPr/>
        </p:nvPicPr>
        <p:blipFill>
          <a:blip r:embed="rId5"/>
          <a:stretch/>
        </p:blipFill>
        <p:spPr>
          <a:xfrm>
            <a:off x="826920" y="1125360"/>
            <a:ext cx="1943280" cy="144180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1" name="Picture 9" descr="91fb2074ceace0a444d8255bcb56c6ba"/>
          <p:cNvPicPr/>
          <p:nvPr/>
        </p:nvPicPr>
        <p:blipFill>
          <a:blip r:embed="rId6"/>
          <a:stretch/>
        </p:blipFill>
        <p:spPr>
          <a:xfrm>
            <a:off x="3348000" y="1125360"/>
            <a:ext cx="2017800" cy="14893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2" name="Picture 10" descr="0564ec635d10610e101b48735d445884"/>
          <p:cNvPicPr/>
          <p:nvPr/>
        </p:nvPicPr>
        <p:blipFill>
          <a:blip r:embed="rId7"/>
          <a:stretch/>
        </p:blipFill>
        <p:spPr>
          <a:xfrm>
            <a:off x="5796000" y="1125360"/>
            <a:ext cx="2087640" cy="154944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3" name="Picture 12" descr="ByyVMcMG4uY"/>
          <p:cNvPicPr/>
          <p:nvPr/>
        </p:nvPicPr>
        <p:blipFill>
          <a:blip r:embed="rId8"/>
          <a:stretch/>
        </p:blipFill>
        <p:spPr>
          <a:xfrm>
            <a:off x="5867280" y="2852640"/>
            <a:ext cx="2016360" cy="151308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4" name="Picture 13" descr="d02eaa73c828526899aa61f272bf0d6f"/>
          <p:cNvPicPr/>
          <p:nvPr/>
        </p:nvPicPr>
        <p:blipFill>
          <a:blip r:embed="rId9"/>
          <a:stretch/>
        </p:blipFill>
        <p:spPr>
          <a:xfrm>
            <a:off x="3276720" y="2781360"/>
            <a:ext cx="2158920" cy="145260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5" name="Picture 14" descr="e42e1e2be67122d3888b517752abd944"/>
          <p:cNvPicPr/>
          <p:nvPr/>
        </p:nvPicPr>
        <p:blipFill>
          <a:blip r:embed="rId10"/>
          <a:stretch/>
        </p:blipFill>
        <p:spPr>
          <a:xfrm>
            <a:off x="900000" y="2781360"/>
            <a:ext cx="1943280" cy="14479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6" name="Picture 15" descr="ee8b663c69b6t"/>
          <p:cNvPicPr/>
          <p:nvPr/>
        </p:nvPicPr>
        <p:blipFill>
          <a:blip r:embed="rId11"/>
          <a:stretch/>
        </p:blipFill>
        <p:spPr>
          <a:xfrm>
            <a:off x="900000" y="4365720"/>
            <a:ext cx="1943280" cy="143964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7" name="Picture 16" descr="img4"/>
          <p:cNvPicPr/>
          <p:nvPr/>
        </p:nvPicPr>
        <p:blipFill>
          <a:blip r:embed="rId12"/>
          <a:stretch/>
        </p:blipFill>
        <p:spPr>
          <a:xfrm>
            <a:off x="3276720" y="4437000"/>
            <a:ext cx="2158920" cy="142740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128" name="Picture 17" descr="markwald"/>
          <p:cNvPicPr/>
          <p:nvPr/>
        </p:nvPicPr>
        <p:blipFill>
          <a:blip r:embed="rId13"/>
          <a:stretch/>
        </p:blipFill>
        <p:spPr>
          <a:xfrm>
            <a:off x="5867280" y="4508640"/>
            <a:ext cx="1976400" cy="13381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fb83b89672d39a6a5d6848ef6533d6d3"/>
          <p:cNvPicPr/>
          <p:nvPr/>
        </p:nvPicPr>
        <p:blipFill>
          <a:blip r:embed="rId5"/>
          <a:stretch/>
        </p:blipFill>
        <p:spPr>
          <a:xfrm>
            <a:off x="1042920" y="1125360"/>
            <a:ext cx="2160720" cy="15829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6" name="Picture 11" descr="ovetto-21993"/>
          <p:cNvPicPr/>
          <p:nvPr/>
        </p:nvPicPr>
        <p:blipFill>
          <a:blip r:embed="rId6"/>
          <a:stretch/>
        </p:blipFill>
        <p:spPr>
          <a:xfrm>
            <a:off x="3419640" y="1197000"/>
            <a:ext cx="2089080" cy="15112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7" name="Picture 13" descr="56b466936314ce0e9ce769888331daa9"/>
          <p:cNvPicPr/>
          <p:nvPr/>
        </p:nvPicPr>
        <p:blipFill>
          <a:blip r:embed="rId7"/>
          <a:stretch/>
        </p:blipFill>
        <p:spPr>
          <a:xfrm>
            <a:off x="5796000" y="1197000"/>
            <a:ext cx="2305080" cy="1482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8" name="Picture 14" descr="ab097d9edff42402443d448377aa0c97"/>
          <p:cNvPicPr/>
          <p:nvPr/>
        </p:nvPicPr>
        <p:blipFill>
          <a:blip r:embed="rId8"/>
          <a:stretch/>
        </p:blipFill>
        <p:spPr>
          <a:xfrm>
            <a:off x="1042920" y="2924280"/>
            <a:ext cx="2089080" cy="14414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39" name="Picture 15" descr="cf1154ce227c4681ee431b51d2bf568c"/>
          <p:cNvPicPr/>
          <p:nvPr/>
        </p:nvPicPr>
        <p:blipFill>
          <a:blip r:embed="rId9"/>
          <a:stretch/>
        </p:blipFill>
        <p:spPr>
          <a:xfrm>
            <a:off x="5796000" y="2924280"/>
            <a:ext cx="2305080" cy="1512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0" name="Picture 16" descr="eefe65398a5447ff26c0c79df16ba55a"/>
          <p:cNvPicPr/>
          <p:nvPr/>
        </p:nvPicPr>
        <p:blipFill>
          <a:blip r:embed="rId10"/>
          <a:stretch/>
        </p:blipFill>
        <p:spPr>
          <a:xfrm>
            <a:off x="3419640" y="2924280"/>
            <a:ext cx="2160360" cy="14414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1" name="Picture 18" descr="f4a74887f81bc8a2e0cbd445166add83"/>
          <p:cNvPicPr/>
          <p:nvPr/>
        </p:nvPicPr>
        <p:blipFill>
          <a:blip r:embed="rId11"/>
          <a:stretch/>
        </p:blipFill>
        <p:spPr>
          <a:xfrm>
            <a:off x="1116000" y="4581360"/>
            <a:ext cx="2016000" cy="15796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2" name="Picture 22" descr="IMG_4246"/>
          <p:cNvPicPr/>
          <p:nvPr/>
        </p:nvPicPr>
        <p:blipFill>
          <a:blip r:embed="rId12"/>
          <a:stretch/>
        </p:blipFill>
        <p:spPr>
          <a:xfrm>
            <a:off x="3492360" y="4581360"/>
            <a:ext cx="2159280" cy="15843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43" name="Picture 24" descr="SAM_0834"/>
          <p:cNvPicPr/>
          <p:nvPr/>
        </p:nvPicPr>
        <p:blipFill>
          <a:blip r:embed="rId13"/>
          <a:stretch/>
        </p:blipFill>
        <p:spPr>
          <a:xfrm>
            <a:off x="5940360" y="4653000"/>
            <a:ext cx="2160720" cy="14698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1000080" y="1940400"/>
            <a:ext cx="742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дошкольный возраст.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9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759240" y="401760"/>
            <a:ext cx="7771680" cy="1125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1071720" y="207180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наблюдения театрализованной постановки взрослого к самостоятельной игровой деятельности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индивидуальной игры и «игры рядом» к игре в группе из трех-пяти сверстников, исполняющих роли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имитации действий фольклорных и литературных персонажей к имитации действий в сочетании с передачей основных эмоций героя и освоению роли как созданию простого «типичного» образа в игре-драматизаци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930960" y="175320"/>
            <a:ext cx="7353360" cy="1052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900000" y="1341360"/>
            <a:ext cx="73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Учить повторять и проговаривать потешки, дополнять игры движениями по тексту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чить подражать голосам персонажей, обучать передавать повадки и движения животных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чить координировать движения с речью, различать эмоции, изображать их с помощью мимики, жестов, движений, совершенствовать общую и мелкую моторику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Обогащать речь детей, добиваться правильной интонационно-выразительной реч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Побуждать детей импровизировать на тему знакомых сказок.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Развивать память, мышление, воображение, внимание де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Воспитывать желание детей “играть”, т.е  разыгрывать сказк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826920" y="1197000"/>
            <a:ext cx="7417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итация отдельных действий человека, животных и птиц 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итация цепочки последовательных действ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четании с передачей основных эмоций героя 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итация образов хорошо знакомых сказочных персонажей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провизация под музы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«Веселый дождик», «Листочки летят по ветру и падают на дорожку», «Хоровод вокруг елк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словесная uгpa-импровиз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одним персонажем по текстам стихов и прибауток:«Катя, Катя маленькая...», «Заинька, попляши...», В. Берестов «Больная кукла», А. Барто «Снег, снег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импровизация по текста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отких сказок, рассказов и стихов:3. Александрова «Елочка»; К. Ушинский «Петушок с семьей», «Васька»; Н. Павлова «На машине», «Земляничка»; В. Чарушин «Утка с утятам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евой диалог героев сказ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  «Рукавичка», «Заюшкина избушка», «Три .медвед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цениров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рагментов сказок о животных :«Теремок», «Кот, петух и лиса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гра-драматиз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несколькими персонажами по народным сказкам:«Колобок», «Репка», В. Сутеев «Под грибом», К. Чуковский «Цыпленок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785880" y="214200"/>
            <a:ext cx="7715160" cy="93744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пени работы следующие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1071720" y="1428840"/>
            <a:ext cx="69926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 детей этого возраста отмечается первичное освоение режиссерской театрализованной игры через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ый театр игрушек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ый  театр картинок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тный театр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-драматизации с пальчик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-драматизации с куклами бибаб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Горизонтальный свиток 4"/>
          <p:cNvSpPr/>
          <p:nvPr/>
        </p:nvSpPr>
        <p:spPr>
          <a:xfrm>
            <a:off x="1357200" y="1285920"/>
            <a:ext cx="6286680" cy="40003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9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1571760" y="2000160"/>
            <a:ext cx="600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редний дошкольный возраст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900000" y="1341360"/>
            <a:ext cx="7344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 «для себя» к игре, ориентированной на зрителя;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, в которой главное сам процесс, к игре, где значимы и процесс, и результат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 в малой группе сверстников, исполняющих аналогичные («параллельные») роли, к игре в группе из пяти-семи сверстников, ролевые позиции которых различны (равноправие, подчинение, управление)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создания в игре-драматизации простого «типичного» образа к воплощению целостного образа, в котором сочетаются эмоции, настроения, состояния героя, их смен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642960" y="214200"/>
            <a:ext cx="8147160" cy="12859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9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628200" y="445320"/>
            <a:ext cx="7887600" cy="102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Задачи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826920" y="1628640"/>
            <a:ext cx="76327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устойчивый интерес к театрально-игровой деятельност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координировать движения с речью, различать эмоции, изображать их с помощью мимики, жестов, движений, совершенствовать общую и мелкую моторику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ать речь  детей. Формировать интонационную выразительность речи. Развивать диалогическую речь детей в процессе театрально-игровой деятельност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ть знания о правилах манипуляции с разными видами театр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память, мышление, воображение, внимание де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желание детей “играть”, т.е  разыгрывать сказки перед зрителям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l_01"/>
          <p:cNvPicPr/>
          <p:nvPr/>
        </p:nvPicPr>
        <p:blipFill>
          <a:blip r:embed="rId4"/>
          <a:stretch/>
        </p:blipFill>
        <p:spPr>
          <a:xfrm>
            <a:off x="1476360" y="2276640"/>
            <a:ext cx="6120000" cy="3600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2"/>
          <p:cNvSpPr/>
          <p:nvPr/>
        </p:nvSpPr>
        <p:spPr>
          <a:xfrm>
            <a:off x="1143000" y="1714680"/>
            <a:ext cx="685800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персонажные игры-драмат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«Зимовье зверей», «Лиса и волк», «Гуси-лебеди», «Красная Шапоч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ы-драматизации по текстам расска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«Дети и их игры», «Ребята и зверята», «Труд взрослых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ка спектакля по произведен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1116000" y="404640"/>
            <a:ext cx="7201080" cy="93744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пени работы следующие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9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1000080" y="1091160"/>
            <a:ext cx="742968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ля постановки спектаклей рекомендуется использовать следующие виды настольного театра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атр мягкой игруш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С. Маршак «Сказка о глупом мышонке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усный теа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К. Чуковский «Путаниц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скостной теат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«Рукавич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атральная рукавич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 «Колобок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итный теат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«Заюшкина избуш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атр на ложка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“Мышка-норушка”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п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«Реп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льчиковый теат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«Жили у бабуси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9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Горизонтальный свиток 4"/>
          <p:cNvSpPr/>
          <p:nvPr/>
        </p:nvSpPr>
        <p:spPr>
          <a:xfrm>
            <a:off x="1071720" y="1214280"/>
            <a:ext cx="7429320" cy="400068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1785960" y="2214720"/>
            <a:ext cx="650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рший дошкольный возраст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- 6 лет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9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971640" y="1359000"/>
            <a:ext cx="7561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 по одному литературному или фольклорному тексту к игре-контаминации, в которой литературная основа сочетается со свободной ее интерпретацией ребенком или соединяются несколько произведений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, где используются средства выразительности для передачи особенностей персонажа, к игре как средству самовыражения через образ героя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гры, в которой центром является «артист», к игре, в которой представлен комплекс позиций «артист», «режиссер», «сценарист», «оформитель», «костюмер»;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театрализованной игры к театрально-игровой деятельности как средству самовыражения личности и самореализации способнос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1619280" y="476280"/>
            <a:ext cx="470052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сновные направления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Заголовок 1"/>
          <p:cNvSpPr/>
          <p:nvPr/>
        </p:nvSpPr>
        <p:spPr>
          <a:xfrm>
            <a:off x="571680" y="0"/>
            <a:ext cx="8146800" cy="12859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684360" y="1082520"/>
            <a:ext cx="845964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развивать устойчивый интерес к театрально-игровой деятельност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ть художественно – образные исполнительские умени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ть представления детей о различных видах кукольных театров, уметь различать их и называть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щать речь  детей. Совершенствовать интонационную выразительность речи. Развивать диалогическую и монологическую форму реч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уждать детей импровизировать на тему знакомых сказок, рассказов, придумывать истории собственного сочинения индивидуально и коллективно, используя куко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память, мышление, воображение, внимание дет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желание детей “играть”, т.е  разыгрывать сказки перед зрителями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826920" y="189000"/>
            <a:ext cx="7201080" cy="109980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Задачи: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2"/>
          <p:cNvSpPr/>
          <p:nvPr/>
        </p:nvSpPr>
        <p:spPr>
          <a:xfrm>
            <a:off x="1000080" y="1714680"/>
            <a:ext cx="727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разных видов игры-драматизации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режиссерской театрализованной игры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образно-игровых этюдов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воения  игра –импровизаци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ценирование сказок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ые постановки спектаклей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ые постановки спектаклей, на основе «коллажа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1000080" y="0"/>
            <a:ext cx="7201080" cy="93744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пени работы следующие: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9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857160" y="1285920"/>
            <a:ext cx="75009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ыт режиссерской игры обогащается за счет освоения новых видов театра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остниковый театр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ячья капуст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чаточный театр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естрица Аленушка и братец Иванушка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евой театр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са и журавль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тный театр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сичка со скалочкой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очный театр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ылатый мохнатый да масляный»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9"/>
          <p:cNvPicPr/>
          <p:nvPr/>
        </p:nvPicPr>
        <p:blipFill>
          <a:blip r:embed="rId1"/>
          <a:stretch/>
        </p:blipFill>
        <p:spPr>
          <a:xfrm>
            <a:off x="12528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9"/>
          <p:cNvPicPr/>
          <p:nvPr/>
        </p:nvPicPr>
        <p:blipFill>
          <a:blip r:embed="rId2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Горизонтальный свиток 5"/>
          <p:cNvSpPr/>
          <p:nvPr/>
        </p:nvSpPr>
        <p:spPr>
          <a:xfrm>
            <a:off x="1000080" y="1500120"/>
            <a:ext cx="7429680" cy="400068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рший дошкольный возраст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 - 7 лет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9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1476360" y="2637000"/>
            <a:ext cx="53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подготовительной группе ещё более усложняется игровой материал. В театрализованные представления входят: постановка театральных спектаклей, детских опер, музыкальных и ритмических пьес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Заголовок 1"/>
          <p:cNvSpPr/>
          <p:nvPr/>
        </p:nvSpPr>
        <p:spPr>
          <a:xfrm>
            <a:off x="642960" y="214200"/>
            <a:ext cx="8147160" cy="1285920"/>
          </a:xfrm>
          <a:prstGeom prst="horizont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аправления развития театрализованной игры состоят в постепенном переходе реб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9"/>
          <p:cNvPicPr/>
          <p:nvPr/>
        </p:nvPicPr>
        <p:blipFill>
          <a:blip r:embed="rId1"/>
          <a:stretch/>
        </p:blipFill>
        <p:spPr>
          <a:xfrm>
            <a:off x="141120" y="-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3"/>
          <p:cNvSpPr/>
          <p:nvPr/>
        </p:nvSpPr>
        <p:spPr>
          <a:xfrm>
            <a:off x="900000" y="1413000"/>
            <a:ext cx="763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сширять представление детей об окружающем мир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полнять и активизировать словар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ддерживать инициативу в импровизации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креплять представления детей о различных видах театров, уметь различать их и называт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ершенствовать умение связно и выразительно пересказыват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ершенствовать память, внимание, мышление, воображение, восприятие дете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3440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школьный возрас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ензитивный период для развития творческих способностей дете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атральная деятельн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мощное синтетическое средство развития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555 (1)"/>
          <p:cNvPicPr/>
          <p:nvPr/>
        </p:nvPicPr>
        <p:blipFill>
          <a:blip r:embed="rId7"/>
          <a:stretch/>
        </p:blipFill>
        <p:spPr>
          <a:xfrm>
            <a:off x="2340000" y="1989000"/>
            <a:ext cx="40323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рр"/>
          <p:cNvPicPr/>
          <p:nvPr/>
        </p:nvPicPr>
        <p:blipFill>
          <a:blip r:embed="rId8"/>
          <a:stretch/>
        </p:blipFill>
        <p:spPr>
          <a:xfrm>
            <a:off x="3708360" y="4149720"/>
            <a:ext cx="1714680" cy="18972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57" name="Picture 22" descr="image1"/>
          <p:cNvPicPr/>
          <p:nvPr/>
        </p:nvPicPr>
        <p:blipFill>
          <a:blip r:embed="rId9"/>
          <a:srcRect l="33622" t="10481" r="23666" b="0"/>
          <a:stretch/>
        </p:blipFill>
        <p:spPr>
          <a:xfrm>
            <a:off x="6372360" y="4292640"/>
            <a:ext cx="1655640" cy="16318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58" name="Picture 23" descr="16"/>
          <p:cNvPicPr/>
          <p:nvPr/>
        </p:nvPicPr>
        <p:blipFill>
          <a:blip r:embed="rId10"/>
          <a:stretch/>
        </p:blipFill>
        <p:spPr>
          <a:xfrm>
            <a:off x="1403280" y="4387680"/>
            <a:ext cx="1657440" cy="15368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3"/>
          <p:cNvSpPr/>
          <p:nvPr/>
        </p:nvSpPr>
        <p:spPr>
          <a:xfrm>
            <a:off x="928800" y="785880"/>
            <a:ext cx="7561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, петух и лиса”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каз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вка-бурка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стевые кукл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щучьему велению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чаточные кукл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вый снег»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тивам Д. Биосета)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на гапит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в страну Дональдини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ный театр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гостях у царя гороха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ья искусница»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на ложка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ниво»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усный театр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юймовочка»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казк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ка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1500120" y="1285920"/>
            <a:ext cx="5670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етодика работы с детьми в подготовительной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групп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214280" y="1592640"/>
            <a:ext cx="678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над ролью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маленьких актеров над ролью под руководством педагога строится следующим образом: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инсценировкой (о чем она, какие события в ней главные)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героями инсценировки (где они живут, как выглядит их дом, какова их внешность, одежда, манера поведения, взаимоотношения друг с другом и т.п.)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ролей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работа над ролью: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ление словесного портрета героя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нтазирование по поводу его дома, взаимоотношений с родителями, друзьями, придумывание его любимых блюд, занятий, игр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чинение различных случаев из жизни героя, не предусмотренных инсценировкой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лиз придуманных поступков героя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а над текстом (почему герой так говорит, о чем он в данный момент думает). Основная задача педагога состоит в том, чтобы помочь ребенку понять, почувствовать все то, что скрывается за словами текста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а над сценической выразительностью: определение целесообразных действий, движений, жестов персонажа на игровом пространстве, места его положения на сценической площадке, темпоритма исполнения, мимики, интонации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театрального костюма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образа с исполнением умело наложенного грима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9"/>
          <p:cNvPicPr/>
          <p:nvPr/>
        </p:nvPicPr>
        <p:blipFill>
          <a:blip r:embed="rId1"/>
          <a:stretch/>
        </p:blipFill>
        <p:spPr>
          <a:xfrm>
            <a:off x="10800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1116000" y="18446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. Выбор пьесы или инсценировки, чтение, обсуждени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 Деление на эпизоды и пересказ их детьм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 Работа над эпизодами в форме этюдов с импровизированным текст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. Поиск музыкально-пластического решения отдельных этюдов, постановка танцев, песен, создание с детьми и родителями эскизов декораций и костюм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. Переход к тексту пьесы: работа над эпизодами (выразительностью речи, подлинностью поведения в сценических условиях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6. Репетиция отдельных картин в разных составах с деталями декораций и реквизита (можно условными), с музыкальным оформление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7. Репетиция всей пьесы с костюмами, реквизитом, декорациями. Уточнение темпоритма спектакл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8. Премьера спектакля. Обсуждение с детьми, зрителям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92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амостоятельная театральная деятельност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5"/>
          <a:srcRect l="0" t="7961" r="0" b="0"/>
          <a:stretch/>
        </p:blipFill>
        <p:spPr>
          <a:xfrm>
            <a:off x="1547640" y="907920"/>
            <a:ext cx="5846760" cy="525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1"/>
          <p:cNvPicPr/>
          <p:nvPr/>
        </p:nvPicPr>
        <p:blipFill>
          <a:blip r:embed="rId4"/>
          <a:stretch/>
        </p:blipFill>
        <p:spPr>
          <a:xfrm>
            <a:off x="1187280" y="476280"/>
            <a:ext cx="703764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овместная деятельность педагога 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Organization Chart 8"/>
          <p:cNvGrpSpPr/>
          <p:nvPr/>
        </p:nvGrpSpPr>
        <p:grpSpPr>
          <a:xfrm>
            <a:off x="1187280" y="1413000"/>
            <a:ext cx="6778080" cy="2301480"/>
            <a:chOff x="1187280" y="1413000"/>
            <a:chExt cx="6778080" cy="2301480"/>
          </a:xfrm>
        </p:grpSpPr>
        <p:cxnSp>
          <p:nvCxnSpPr>
            <p:cNvPr id="218" name="_s1028"/>
            <p:cNvCxnSpPr>
              <a:stCxn id="219" idx="3"/>
              <a:endCxn id="220" idx="2"/>
            </p:cNvCxnSpPr>
            <p:nvPr/>
          </p:nvCxnSpPr>
          <p:spPr>
            <a:xfrm flipV="1">
              <a:off x="5254200" y="1830960"/>
              <a:ext cx="677880" cy="167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1029"/>
            <p:cNvCxnSpPr>
              <a:stCxn id="222" idx="3"/>
              <a:endCxn id="220" idx="2"/>
            </p:cNvCxnSpPr>
            <p:nvPr/>
          </p:nvCxnSpPr>
          <p:spPr>
            <a:xfrm flipV="1">
              <a:off x="5254200" y="1830960"/>
              <a:ext cx="677880" cy="104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1030"/>
            <p:cNvCxnSpPr>
              <a:stCxn id="224" idx="3"/>
              <a:endCxn id="220" idx="2"/>
            </p:cNvCxnSpPr>
            <p:nvPr/>
          </p:nvCxnSpPr>
          <p:spPr>
            <a:xfrm flipV="1">
              <a:off x="5254200" y="1830960"/>
              <a:ext cx="677880" cy="41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_s1031"/>
            <p:cNvSpPr/>
            <p:nvPr/>
          </p:nvSpPr>
          <p:spPr>
            <a:xfrm>
              <a:off x="3898440" y="141300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Совместная деятельность педагога и детей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4" name="_s1032"/>
            <p:cNvSpPr/>
            <p:nvPr/>
          </p:nvSpPr>
          <p:spPr>
            <a:xfrm>
              <a:off x="1187280" y="204048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Развлечения, театрализованные праздники, части занятий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2" name="_s1033"/>
            <p:cNvSpPr/>
            <p:nvPr/>
          </p:nvSpPr>
          <p:spPr>
            <a:xfrm>
              <a:off x="1187280" y="266868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росмотр кукольных спектаклей, мультфильмов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1187280" y="3296160"/>
              <a:ext cx="4066920" cy="41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Оформление кукольного театра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225" name="Organization Chart 19"/>
          <p:cNvGrpSpPr/>
          <p:nvPr/>
        </p:nvGrpSpPr>
        <p:grpSpPr>
          <a:xfrm>
            <a:off x="1116000" y="3933720"/>
            <a:ext cx="6922800" cy="2265480"/>
            <a:chOff x="1116000" y="3933720"/>
            <a:chExt cx="6922800" cy="2265480"/>
          </a:xfrm>
        </p:grpSpPr>
        <p:cxnSp>
          <p:nvCxnSpPr>
            <p:cNvPr id="226" name="_s1037"/>
            <p:cNvCxnSpPr>
              <a:stCxn id="227" idx="3"/>
              <a:endCxn id="228" idx="2"/>
            </p:cNvCxnSpPr>
            <p:nvPr/>
          </p:nvCxnSpPr>
          <p:spPr>
            <a:xfrm flipV="1">
              <a:off x="5269680" y="4345200"/>
              <a:ext cx="692640" cy="16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9" name="_s1038"/>
            <p:cNvCxnSpPr>
              <a:stCxn id="230" idx="3"/>
              <a:endCxn id="228" idx="2"/>
            </p:cNvCxnSpPr>
            <p:nvPr/>
          </p:nvCxnSpPr>
          <p:spPr>
            <a:xfrm flipV="1">
              <a:off x="5269680" y="4345200"/>
              <a:ext cx="692640" cy="103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1039"/>
            <p:cNvCxnSpPr>
              <a:stCxn id="232" idx="3"/>
              <a:endCxn id="228" idx="2"/>
            </p:cNvCxnSpPr>
            <p:nvPr/>
          </p:nvCxnSpPr>
          <p:spPr>
            <a:xfrm flipV="1">
              <a:off x="5269680" y="4345200"/>
              <a:ext cx="692640" cy="41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8" name="_s1040"/>
            <p:cNvSpPr/>
            <p:nvPr/>
          </p:nvSpPr>
          <p:spPr>
            <a:xfrm>
              <a:off x="3885120" y="393372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Индивидуальная работа с детьми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1116000" y="455148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Опыт поисковой деятельности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0" name="_s1042"/>
            <p:cNvSpPr/>
            <p:nvPr/>
          </p:nvSpPr>
          <p:spPr>
            <a:xfrm>
              <a:off x="1116000" y="516924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Посещение кукольных театров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7" name="_s1043"/>
            <p:cNvSpPr/>
            <p:nvPr/>
          </p:nvSpPr>
          <p:spPr>
            <a:xfrm>
              <a:off x="1116000" y="5787360"/>
              <a:ext cx="4153680" cy="411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Беседы и разговоры о сказках, писателях</a:t>
              </a:r>
              <a:endParaRPr b="0" lang="en-US" sz="11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pic>
        <p:nvPicPr>
          <p:cNvPr id="233" name="Picture 30" descr="i (4)"/>
          <p:cNvPicPr/>
          <p:nvPr/>
        </p:nvPicPr>
        <p:blipFill>
          <a:blip r:embed="rId5"/>
          <a:stretch/>
        </p:blipFill>
        <p:spPr>
          <a:xfrm>
            <a:off x="6948360" y="4724280"/>
            <a:ext cx="11620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647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-171720"/>
            <a:ext cx="6697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отрудничество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3789000"/>
            <a:ext cx="7344000" cy="24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ДИТЕЛЬСКИЕ СОБР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КЕ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АСТИЕ В ТЕАТРАЛИЗОВАННЫХ ПРЕДСТАВЛЕНИЯХ В КАЧЕСТВЕ АКТЕ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МОЩЬ В ИЗГОТОВЛЕНИИ КУКОЛ ДЛЯ РАЗЛИЧНЫХ ТЕАТРОВ, ДЕКО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ВМЕСТНОЕ ЧТЕНИЕ ПРОИЗВЕДЕНИЙ, ПРОСМАТРИВАНИЕ ВИДЕОФИЛЬМОВ, ПОСЕЩЕНИЕ ТЕА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dlja_nashikh_ljubimykh_mam_i_pap"/>
          <p:cNvPicPr/>
          <p:nvPr/>
        </p:nvPicPr>
        <p:blipFill>
          <a:blip r:embed="rId11"/>
          <a:stretch/>
        </p:blipFill>
        <p:spPr>
          <a:xfrm>
            <a:off x="2771640" y="1268280"/>
            <a:ext cx="3311640" cy="2343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12"/>
          <p:cNvPicPr/>
          <p:nvPr/>
        </p:nvPicPr>
        <p:blipFill>
          <a:blip r:embed="rId3"/>
          <a:stretch/>
        </p:blipFill>
        <p:spPr>
          <a:xfrm>
            <a:off x="1187280" y="333360"/>
            <a:ext cx="6945480" cy="863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11"/>
          <p:cNvPicPr/>
          <p:nvPr/>
        </p:nvPicPr>
        <p:blipFill>
          <a:blip r:embed="rId4"/>
          <a:stretch/>
        </p:blipFill>
        <p:spPr>
          <a:xfrm>
            <a:off x="1187280" y="404640"/>
            <a:ext cx="7037640" cy="64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АТРАЛИЗОВАННАЯ ДЕЯТЕЛЬНОСТЬ ВСЕСТОРОННЕ РАЗВИВАЕТ 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ТИ ИМЕЮТ ВОЗМОЖНОСТЬ ПРОЯВИТЬ СВОЙ ТАЛАНТ, УМЕЮТ ТВОРЧЕСКИ МЫСЛИТЬ, САМОСТОЯТЕЛЬНО ПРИНИМАТЬ РЕШЕНИЯ И НАХОДИТЬ ВЫХОД ИЗ СЛОЖИВШЕЙСЯ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РМИРУЕТСЯ НРАВСТВЕННАЯ ПОЗИЦИЯ ПО ОТНОШЕНИЮ К СВЕРСТНИКАМ И СТАР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i (13)"/>
          <p:cNvPicPr/>
          <p:nvPr/>
        </p:nvPicPr>
        <p:blipFill>
          <a:blip r:embed="rId8"/>
          <a:stretch/>
        </p:blipFill>
        <p:spPr>
          <a:xfrm>
            <a:off x="1116000" y="5084640"/>
            <a:ext cx="870120" cy="995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i (12)"/>
          <p:cNvPicPr/>
          <p:nvPr/>
        </p:nvPicPr>
        <p:blipFill>
          <a:blip r:embed="rId9"/>
          <a:stretch/>
        </p:blipFill>
        <p:spPr>
          <a:xfrm>
            <a:off x="7020000" y="4869000"/>
            <a:ext cx="966600" cy="114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021_w508_h477"/>
          <p:cNvPicPr/>
          <p:nvPr/>
        </p:nvPicPr>
        <p:blipFill>
          <a:blip r:embed="rId10"/>
          <a:stretch/>
        </p:blipFill>
        <p:spPr>
          <a:xfrm>
            <a:off x="6948360" y="1268280"/>
            <a:ext cx="1200240" cy="11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95280" y="220500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3" name="Picture 5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0017-017-Spasibo-za-vnimanie"/>
          <p:cNvPicPr/>
          <p:nvPr/>
        </p:nvPicPr>
        <p:blipFill>
          <a:blip r:embed="rId4"/>
          <a:stretch/>
        </p:blipFill>
        <p:spPr>
          <a:xfrm>
            <a:off x="1476360" y="1844640"/>
            <a:ext cx="6191280" cy="4176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1"/>
          <p:cNvPicPr/>
          <p:nvPr/>
        </p:nvPicPr>
        <p:blipFill>
          <a:blip r:embed="rId4"/>
          <a:stretch/>
        </p:blipFill>
        <p:spPr>
          <a:xfrm>
            <a:off x="1187280" y="333360"/>
            <a:ext cx="7037640" cy="79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3440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здавать условия в ДОУ и группе, способствующие развитию творческих способностей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ледовательно знакомить детей с видами теа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вершенствовать артистические навыки детей: умение создавать образы живых существ с помощью выразительных пластических движений, умение пользоваться разнообразными жестами, речевым дыханием, артикуляцией, дик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звивать пластическую выразительность и музык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ить детей планировать процесс создания спектакля, следовать плану, используя различные творческие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питывать культуру поведения в театре, уважение к сценическому искусству, доброжелательность и контактность в отношениях со сверстник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96cee8664ad0fbab0b405393b3d260b90c15b3e"/>
          <p:cNvPicPr/>
          <p:nvPr/>
        </p:nvPicPr>
        <p:blipFill>
          <a:blip r:embed="rId11"/>
          <a:stretch/>
        </p:blipFill>
        <p:spPr>
          <a:xfrm>
            <a:off x="3348000" y="4508640"/>
            <a:ext cx="2340000" cy="18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20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Принц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здание развив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ихологическая комфор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тивность и само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дивидуальный подход к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ем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гля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6809f9250be96e1601f4b3cd63bb046"/>
          <p:cNvPicPr/>
          <p:nvPr/>
        </p:nvPicPr>
        <p:blipFill>
          <a:blip r:embed="rId11"/>
          <a:stretch/>
        </p:blipFill>
        <p:spPr>
          <a:xfrm>
            <a:off x="1692360" y="4221000"/>
            <a:ext cx="2557440" cy="1725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3" name="Picture 10" descr="i (10)"/>
          <p:cNvPicPr/>
          <p:nvPr/>
        </p:nvPicPr>
        <p:blipFill>
          <a:blip r:embed="rId12"/>
          <a:stretch/>
        </p:blipFill>
        <p:spPr>
          <a:xfrm>
            <a:off x="6372360" y="1557360"/>
            <a:ext cx="1617480" cy="2147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74" name="Picture 12" descr="0_1ba91_b25a164f_XL"/>
          <p:cNvPicPr/>
          <p:nvPr/>
        </p:nvPicPr>
        <p:blipFill>
          <a:blip r:embed="rId13"/>
          <a:stretch/>
        </p:blipFill>
        <p:spPr>
          <a:xfrm>
            <a:off x="5435640" y="4221000"/>
            <a:ext cx="2514600" cy="172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1"/>
          <p:cNvPicPr/>
          <p:nvPr/>
        </p:nvPicPr>
        <p:blipFill>
          <a:blip r:embed="rId4"/>
          <a:stretch/>
        </p:blipFill>
        <p:spPr>
          <a:xfrm>
            <a:off x="1258920" y="260280"/>
            <a:ext cx="7037280" cy="125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сновные формы организаци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посредственно – образовательная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вмест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амостоятель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1358341301"/>
          <p:cNvPicPr/>
          <p:nvPr/>
        </p:nvPicPr>
        <p:blipFill>
          <a:blip r:embed="rId8"/>
          <a:stretch/>
        </p:blipFill>
        <p:spPr>
          <a:xfrm>
            <a:off x="3276720" y="3284640"/>
            <a:ext cx="249696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i (2)"/>
          <p:cNvPicPr/>
          <p:nvPr/>
        </p:nvPicPr>
        <p:blipFill>
          <a:blip r:embed="rId9"/>
          <a:stretch/>
        </p:blipFill>
        <p:spPr>
          <a:xfrm>
            <a:off x="1116000" y="4076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_802d8_53263e94_XL"/>
          <p:cNvPicPr/>
          <p:nvPr/>
        </p:nvPicPr>
        <p:blipFill>
          <a:blip r:embed="rId10"/>
          <a:stretch/>
        </p:blipFill>
        <p:spPr>
          <a:xfrm>
            <a:off x="5940360" y="4221000"/>
            <a:ext cx="220680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697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Методы и при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ОВ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ПОЛЬЗОВАНИЕ ПРОИЗВЕДЕНИЙ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ГЛЯД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БЛЮ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БЛЕМНЫ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ОБРАЗИТЕЛЬ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Ю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14289747"/>
          <p:cNvPicPr/>
          <p:nvPr/>
        </p:nvPicPr>
        <p:blipFill>
          <a:blip r:embed="rId14"/>
          <a:stretch/>
        </p:blipFill>
        <p:spPr>
          <a:xfrm>
            <a:off x="6156360" y="3573360"/>
            <a:ext cx="200988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92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697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71640" y="1307160"/>
            <a:ext cx="720072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ществует несколько классификаций игр в кукольный театр для детей дошкольного возраста. Например, педагоги Л.В. Куцакова, С.И. Мерзлякова рассматривают: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астольный кукольный театр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 на плоской картинке, на кружках, магнитный, конусный, театр игрушки, самодельная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тендовый театр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 на фланелёграфе, теневой, магнитный стендовый, стенд-книжка)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атр на руке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пальчиковый,  на колпачках,  театр – топотушки, картинки на руке, варежковый, перчаточный, теней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ерховые куклы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на гапите, на ложках, бибабо, тростевые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апольные куклы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марионетки, конусный театр);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атр живой куклы (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еатр с " живой куклой", ростовые, люди-куклы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театр масок, тантаморески)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buClr>
                <a:srgbClr val="33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buClr>
                <a:srgbClr val="33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buClr>
                <a:srgbClr val="33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10" descr="1278383805_2501lk"/>
          <p:cNvPicPr/>
          <p:nvPr/>
        </p:nvPicPr>
        <p:blipFill>
          <a:blip r:embed="rId5"/>
          <a:stretch/>
        </p:blipFill>
        <p:spPr>
          <a:xfrm>
            <a:off x="7093080" y="5445000"/>
            <a:ext cx="1116000" cy="6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93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720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697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иды теа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3440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8b3f0c293981b58e7efc75b7579f7e00"/>
          <p:cNvPicPr/>
          <p:nvPr/>
        </p:nvPicPr>
        <p:blipFill>
          <a:blip r:embed="rId5"/>
          <a:stretch/>
        </p:blipFill>
        <p:spPr>
          <a:xfrm>
            <a:off x="1042920" y="1197000"/>
            <a:ext cx="2089080" cy="13017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6" name="Picture 10" descr="98d9e3b58c0ed24e64fc6442e4ca622e"/>
          <p:cNvPicPr/>
          <p:nvPr/>
        </p:nvPicPr>
        <p:blipFill>
          <a:blip r:embed="rId6"/>
          <a:stretch/>
        </p:blipFill>
        <p:spPr>
          <a:xfrm>
            <a:off x="1042920" y="2852640"/>
            <a:ext cx="2016360" cy="14302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7" name="Picture 11" descr="613d8ca143e3"/>
          <p:cNvPicPr/>
          <p:nvPr/>
        </p:nvPicPr>
        <p:blipFill>
          <a:blip r:embed="rId7"/>
          <a:stretch/>
        </p:blipFill>
        <p:spPr>
          <a:xfrm>
            <a:off x="3348000" y="1125360"/>
            <a:ext cx="2184480" cy="1422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8" name="Picture 12" descr="684d8929336dfbf3df162a5acc69f232"/>
          <p:cNvPicPr/>
          <p:nvPr/>
        </p:nvPicPr>
        <p:blipFill>
          <a:blip r:embed="rId8"/>
          <a:stretch/>
        </p:blipFill>
        <p:spPr>
          <a:xfrm>
            <a:off x="6012000" y="4653000"/>
            <a:ext cx="2160360" cy="136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09" name="Picture 13" descr="554782936"/>
          <p:cNvPicPr/>
          <p:nvPr/>
        </p:nvPicPr>
        <p:blipFill>
          <a:blip r:embed="rId9"/>
          <a:stretch/>
        </p:blipFill>
        <p:spPr>
          <a:xfrm>
            <a:off x="5867280" y="1197000"/>
            <a:ext cx="2171880" cy="12952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0" name="Picture 14" descr="cam_1785"/>
          <p:cNvPicPr/>
          <p:nvPr/>
        </p:nvPicPr>
        <p:blipFill>
          <a:blip r:embed="rId10"/>
          <a:stretch/>
        </p:blipFill>
        <p:spPr>
          <a:xfrm>
            <a:off x="5940360" y="2924280"/>
            <a:ext cx="2087640" cy="136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1" name="Picture 16" descr="114670_20111202070100_600x600"/>
          <p:cNvPicPr/>
          <p:nvPr/>
        </p:nvPicPr>
        <p:blipFill>
          <a:blip r:embed="rId11"/>
          <a:stretch/>
        </p:blipFill>
        <p:spPr>
          <a:xfrm>
            <a:off x="971640" y="4653000"/>
            <a:ext cx="1942920" cy="13986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2" name="Picture 19" descr="_350"/>
          <p:cNvPicPr/>
          <p:nvPr/>
        </p:nvPicPr>
        <p:blipFill>
          <a:blip r:embed="rId12"/>
          <a:stretch/>
        </p:blipFill>
        <p:spPr>
          <a:xfrm>
            <a:off x="3348000" y="2781360"/>
            <a:ext cx="2171880" cy="1512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113" name="Picture 20" descr="0a232cf27be22214efd3e7e3a5ef8454"/>
          <p:cNvPicPr/>
          <p:nvPr/>
        </p:nvPicPr>
        <p:blipFill>
          <a:blip r:embed="rId13"/>
          <a:stretch/>
        </p:blipFill>
        <p:spPr>
          <a:xfrm>
            <a:off x="3492360" y="4653000"/>
            <a:ext cx="1936800" cy="136836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admin</cp:lastModifiedBy>
  <dcterms:modified xsi:type="dcterms:W3CDTF">2016-11-21T16:24:11Z</dcterms:modified>
  <cp:revision>76</cp:revision>
  <dc:subject/>
  <dc:title>Слайд 1</dc:title>
</cp:coreProperties>
</file>