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F09-CC53-4EDC-996C-6694122B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0C6-2346-4A98-88F7-98D1BB8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B3C-B0A4-487B-9427-7332CF2A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FEB-69E3-412C-B1D7-B442E0C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F2F-5AC7-44D3-A693-3B855F7B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B8C-7052-4101-9F26-3979CB05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DFB-AA9A-4B7C-992A-10C10E8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D47-6A5C-4F8B-B416-C19A9D4D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6ED-8503-47BA-8E97-8FCA041C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56A-F15D-4625-8171-2005EE6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494-C1FE-41FE-A634-A88844D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4CC-60EE-4748-96C4-3004941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84E-900F-4A94-9557-2433C84B1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:\ИНФОРМАТИКА\РИСУНКИ\Красивые фоны для презентаций\5___\126 фоны для презентаций\notebook_bg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3619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br>
              <a:rPr sz="8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абота в текстовом редак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image690"/>
          <p:cNvPicPr/>
          <p:nvPr/>
        </p:nvPicPr>
        <p:blipFill>
          <a:blip r:embed="rId2"/>
          <a:stretch/>
        </p:blipFill>
        <p:spPr>
          <a:xfrm>
            <a:off x="7559640" y="5484960"/>
            <a:ext cx="1584360" cy="1373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200400" y="5257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Акташская СОШ им.Ст.Мох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ц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ести к следующему уроку на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sh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осителях текст любого литературного произ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 урок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762120" y="213372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омство с текстовым редактором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Word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основными приемами редактирования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Текстовые редактор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3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работки текстовой информации на компьютере используются текстовые редакторы такие как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окн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tarOffice Wr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dobe Page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icrosoft Office Publis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icrosoft Front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1619280" y="6093000"/>
          <a:ext cx="635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093000"/>
                    <a:ext cx="635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4788000" y="6093000"/>
          <a:ext cx="6220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6093000"/>
                    <a:ext cx="622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6"/>
          <p:cNvGraphicFramePr/>
          <p:nvPr/>
        </p:nvGraphicFramePr>
        <p:xfrm>
          <a:off x="6443640" y="6021360"/>
          <a:ext cx="6350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6021360"/>
                    <a:ext cx="635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611280" y="6093000"/>
          <a:ext cx="52848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6093000"/>
                    <a:ext cx="528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8"/>
          <p:cNvGraphicFramePr/>
          <p:nvPr/>
        </p:nvGraphicFramePr>
        <p:xfrm>
          <a:off x="3132000" y="6021360"/>
          <a:ext cx="6480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6021360"/>
                    <a:ext cx="648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7812000" y="6021360"/>
          <a:ext cx="6098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12000" y="6021360"/>
                    <a:ext cx="60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Текстовые редакто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84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екстовые ред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это программы для создания, редактирования, форматирования, сохранения и печати док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й документ может содержать, кроме текста, и другие объекты (таблицы, диаграммы, рисунки и т. 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6603840" y="5016600"/>
          <a:ext cx="254016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3840" y="5016600"/>
                    <a:ext cx="254016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9" descr="F:\ИНФОРМАТИКА\РИСУНКИ\Все для презентаций\Книги, письмо, канцелярия\image692.gif"/>
          <p:cNvPicPr/>
          <p:nvPr/>
        </p:nvPicPr>
        <p:blipFill>
          <a:blip r:embed="rId3"/>
          <a:stretch/>
        </p:blipFill>
        <p:spPr>
          <a:xfrm>
            <a:off x="380880" y="5105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едактирование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образование, обеспечивающее добавление, удаление, перемещение или исправление содержания документа. Редактирование документа обычно производится путем добавления, удаления или перемещения символов или фрагментов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8"/>
          <p:cNvPicPr/>
          <p:nvPr/>
        </p:nvPicPr>
        <p:blipFill>
          <a:blip r:embed="rId1"/>
          <a:stretch/>
        </p:blipFill>
        <p:spPr>
          <a:xfrm>
            <a:off x="5410080" y="4724280"/>
            <a:ext cx="2592360" cy="1494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бор параметров ст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08000" y="2205000"/>
            <a:ext cx="172728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859280" y="2205000"/>
            <a:ext cx="25923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50920" y="4797360"/>
            <a:ext cx="252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 А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нижная ори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н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292720" y="4653000"/>
            <a:ext cx="295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 А4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ьбомная 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н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Вопрос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текстовый редак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основные функции текстового редакт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редактирование тек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форматирование тек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уществуют способы создания новых докумен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word2"/>
          <p:cNvPicPr/>
          <p:nvPr/>
        </p:nvPicPr>
        <p:blipFill>
          <a:blip r:embed="rId1"/>
          <a:stretch/>
        </p:blipFill>
        <p:spPr>
          <a:xfrm>
            <a:off x="7218360" y="380880"/>
            <a:ext cx="192564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вер</cp:lastModifiedBy>
  <dcterms:modified xsi:type="dcterms:W3CDTF">2012-12-24T03:57:5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