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23.jpeg" ContentType="image/jpeg"/>
  <Override PartName="/ppt/media/image12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9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5.png" ContentType="image/png"/>
  <Override PartName="/ppt/media/image4.wmf" ContentType="image/x-wmf"/>
  <Override PartName="/ppt/media/image14.gif" ContentType="image/gif"/>
  <Override PartName="/ppt/media/image15.png" ContentType="image/png"/>
  <Override PartName="/ppt/media/image16.png" ContentType="image/png"/>
  <Override PartName="/ppt/media/image2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19.wmf" ContentType="image/x-wmf"/>
  <Override PartName="/ppt/media/image21.gif" ContentType="image/gif"/>
  <Override PartName="/ppt/media/image24.png" ContentType="image/png"/>
  <Override PartName="/ppt/media/image22.wmf" ContentType="image/x-wmf"/>
  <Override PartName="/ppt/media/image25.jpeg" ContentType="image/jpeg"/>
  <Override PartName="/ppt/media/image26.wmf" ContentType="image/x-wm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304-F837-46A7-A9CD-06188428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334-BFFB-4A4B-A972-E44A541E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A05-06AB-4D8A-A077-7DE221FA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786-BB5F-460C-B2AB-9E293D65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A65-7E8A-49FA-9562-BC6D9C7B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EBF-C5CF-4133-A8FC-DA30A57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BA1-9A62-4CC1-8944-2244F4E3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963-8C73-4410-985C-7681C9E3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675-A1D4-41FF-B6FA-0779287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D68-7C6B-4F82-A2B2-E7B05C2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D49-8324-4DED-A4C4-D70096E3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E1A-9202-4CC1-8801-E8373CC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89C-ACE0-4CFE-B1C9-93A8F8F0D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3.png"/><Relationship Id="rId16" Type="http://schemas.openxmlformats.org/officeDocument/2006/relationships/image" Target="../media/image14.gif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Елена\Рабочий стол\MTNVIEW.WMF"/>
          <p:cNvPicPr/>
          <p:nvPr/>
        </p:nvPicPr>
        <p:blipFill>
          <a:blip r:embed="rId1"/>
          <a:stretch/>
        </p:blipFill>
        <p:spPr>
          <a:xfrm>
            <a:off x="0" y="-496800"/>
            <a:ext cx="9358200" cy="735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солнце_пульсирующее"/>
          <p:cNvPicPr/>
          <p:nvPr/>
        </p:nvPicPr>
        <p:blipFill>
          <a:blip r:embed="rId2"/>
          <a:stretch/>
        </p:blipFill>
        <p:spPr>
          <a:xfrm>
            <a:off x="4500720" y="-2428920"/>
            <a:ext cx="6580080" cy="540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NA01441_"/>
          <p:cNvPicPr/>
          <p:nvPr/>
        </p:nvPicPr>
        <p:blipFill>
          <a:blip r:embed="rId3"/>
          <a:stretch/>
        </p:blipFill>
        <p:spPr>
          <a:xfrm>
            <a:off x="-1000080" y="428760"/>
            <a:ext cx="3498840" cy="589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NA01441_"/>
          <p:cNvPicPr/>
          <p:nvPr/>
        </p:nvPicPr>
        <p:blipFill>
          <a:blip r:embed="rId4"/>
          <a:stretch/>
        </p:blipFill>
        <p:spPr>
          <a:xfrm>
            <a:off x="1285920" y="1857240"/>
            <a:ext cx="2928960" cy="500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B_Fly11"/>
          <p:cNvPicPr/>
          <p:nvPr/>
        </p:nvPicPr>
        <p:blipFill>
          <a:blip r:embed="rId5"/>
          <a:stretch/>
        </p:blipFill>
        <p:spPr>
          <a:xfrm>
            <a:off x="5357880" y="442908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butterfly43"/>
          <p:cNvPicPr/>
          <p:nvPr/>
        </p:nvPicPr>
        <p:blipFill>
          <a:blip r:embed="rId6"/>
          <a:stretch/>
        </p:blipFill>
        <p:spPr>
          <a:xfrm>
            <a:off x="1714680" y="5214960"/>
            <a:ext cx="923760" cy="82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lowers32"/>
          <p:cNvPicPr/>
          <p:nvPr/>
        </p:nvPicPr>
        <p:blipFill>
          <a:blip r:embed="rId7"/>
          <a:stretch/>
        </p:blipFill>
        <p:spPr>
          <a:xfrm>
            <a:off x="5715000" y="5286240"/>
            <a:ext cx="981000" cy="1305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flowers11"/>
          <p:cNvPicPr/>
          <p:nvPr/>
        </p:nvPicPr>
        <p:blipFill>
          <a:blip r:embed="rId8"/>
          <a:stretch/>
        </p:blipFill>
        <p:spPr>
          <a:xfrm>
            <a:off x="8215200" y="5400720"/>
            <a:ext cx="1162080" cy="145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f68"/>
          <p:cNvPicPr/>
          <p:nvPr/>
        </p:nvPicPr>
        <p:blipFill>
          <a:blip r:embed="rId9"/>
          <a:stretch/>
        </p:blipFill>
        <p:spPr>
          <a:xfrm>
            <a:off x="164304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гусь"/>
          <p:cNvPicPr/>
          <p:nvPr/>
        </p:nvPicPr>
        <p:blipFill>
          <a:blip r:embed="rId10"/>
          <a:stretch/>
        </p:blipFill>
        <p:spPr>
          <a:xfrm rot="949200">
            <a:off x="2268000" y="404640"/>
            <a:ext cx="863640" cy="73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гусь"/>
          <p:cNvPicPr/>
          <p:nvPr/>
        </p:nvPicPr>
        <p:blipFill>
          <a:blip r:embed="rId11"/>
          <a:stretch/>
        </p:blipFill>
        <p:spPr>
          <a:xfrm rot="714000">
            <a:off x="1835280" y="259920"/>
            <a:ext cx="515880" cy="43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гусь"/>
          <p:cNvPicPr/>
          <p:nvPr/>
        </p:nvPicPr>
        <p:blipFill>
          <a:blip r:embed="rId12"/>
          <a:stretch/>
        </p:blipFill>
        <p:spPr>
          <a:xfrm rot="714000">
            <a:off x="1332000" y="0"/>
            <a:ext cx="431640" cy="3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гусь"/>
          <p:cNvPicPr/>
          <p:nvPr/>
        </p:nvPicPr>
        <p:blipFill>
          <a:blip r:embed="rId13"/>
          <a:stretch/>
        </p:blipFill>
        <p:spPr>
          <a:xfrm>
            <a:off x="2987640" y="0"/>
            <a:ext cx="863640" cy="73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гусь"/>
          <p:cNvPicPr/>
          <p:nvPr/>
        </p:nvPicPr>
        <p:blipFill>
          <a:blip r:embed="rId14"/>
          <a:stretch/>
        </p:blipFill>
        <p:spPr>
          <a:xfrm rot="714000">
            <a:off x="2556000" y="0"/>
            <a:ext cx="51588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G:\Мои рисунки\Смалики\Птицы\168c99c0d213fbc572f3212aa21b2b19.gif"/>
          <p:cNvPicPr/>
          <p:nvPr/>
        </p:nvPicPr>
        <p:blipFill>
          <a:blip r:embed="rId15"/>
          <a:stretch/>
        </p:blipFill>
        <p:spPr>
          <a:xfrm>
            <a:off x="4000680" y="5214960"/>
            <a:ext cx="1199880" cy="7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G:\Новая папка\6c8790e4c2d8bb36683d75cbb74e6489.gif"/>
          <p:cNvPicPr/>
          <p:nvPr/>
        </p:nvPicPr>
        <p:blipFill>
          <a:blip r:embed="rId16"/>
          <a:stretch/>
        </p:blipFill>
        <p:spPr>
          <a:xfrm>
            <a:off x="6786720" y="3786120"/>
            <a:ext cx="1631880" cy="19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:\Новая папка\8f92776889eb140bb7ef64415e69876e.gif"/>
          <p:cNvPicPr/>
          <p:nvPr/>
        </p:nvPicPr>
        <p:blipFill>
          <a:blip r:embed="rId17"/>
          <a:stretch/>
        </p:blipFill>
        <p:spPr>
          <a:xfrm>
            <a:off x="4500720" y="2857680"/>
            <a:ext cx="1562040" cy="1647720"/>
          </a:xfrm>
          <a:prstGeom prst="rect">
            <a:avLst/>
          </a:prstGeom>
          <a:ln w="0">
            <a:noFill/>
          </a:ln>
        </p:spPr>
      </p:pic>
      <p:pic>
        <p:nvPicPr>
          <p:cNvPr id="59" name="Пение птиц.mp3" descr=""/>
          <p:cNvPicPr/>
          <p:nvPr/>
        </p:nvPicPr>
        <p:blipFill>
          <a:blip r:embed="rId18"/>
          <a:stretch/>
        </p:blipFill>
        <p:spPr>
          <a:xfrm>
            <a:off x="2286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436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1981080"/>
          <a:ext cx="8305920" cy="39085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лерантная л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олерантная л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ажение мнения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рожел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лание что-либо делать вмес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и при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ут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юбозн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нисход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ан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гнор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го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ерп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ражение пренеб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ражи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внодуш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н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отивированная агресс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30"/>
          <p:cNvSpPr/>
          <p:nvPr/>
        </p:nvSpPr>
        <p:spPr>
          <a:xfrm>
            <a:off x="1827720" y="685800"/>
            <a:ext cx="544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собенности лич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тличия толерантной личности от интолерант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2484360" y="1557360"/>
            <a:ext cx="3962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ние самого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2276640"/>
            <a:ext cx="3959280" cy="34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932360" y="2276640"/>
            <a:ext cx="3672000" cy="345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971640" y="1916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еран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724360" y="19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олеран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84360" y="1916280"/>
            <a:ext cx="432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5796000" y="191628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11280" y="2349360"/>
            <a:ext cx="367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Больше знают о своих достоинствах и недостатках, поэтому менее удовлетворены собой. В связи с этим потенциал для саморазвития у них вы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6720" y="242100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Замечает у себя больше достоинств, чем недостатков, поэтому во всех проблемах чаще склонен обвинять окружающ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фон13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2195640" y="333360"/>
            <a:ext cx="504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щ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24000" y="2133720"/>
            <a:ext cx="3600360" cy="403200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4032000"/>
              <a:gd name="textAreaBottom" fmla="*/ 3856320 h 4032000"/>
            </a:gdLst>
            <a:ahLst/>
            <a:rect l="textAreaLeft" t="textAreaTop" r="textAreaRight" b="textAreaBottom"/>
            <a:pathLst>
              <a:path w="21600" h="24189">
                <a:moveTo>
                  <a:pt x="3600" y="0"/>
                </a:moveTo>
                <a:arcTo wR="3600" hR="3600" stAng="16200000" swAng="-5400000"/>
                <a:lnTo>
                  <a:pt x="0" y="20589"/>
                </a:lnTo>
                <a:arcTo wR="3600" hR="3600" stAng="10800000" swAng="-5400000"/>
                <a:lnTo>
                  <a:pt x="18000" y="2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5003640" y="2133720"/>
            <a:ext cx="3600720" cy="4032000"/>
          </a:xfrm>
          <a:custGeom>
            <a:avLst/>
            <a:gdLst>
              <a:gd name="textAreaLeft" fmla="*/ 175680 w 3600720"/>
              <a:gd name="textAreaRight" fmla="*/ 3425040 w 3600720"/>
              <a:gd name="textAreaTop" fmla="*/ 175680 h 4032000"/>
              <a:gd name="textAreaBottom" fmla="*/ 3856320 h 4032000"/>
            </a:gdLst>
            <a:ahLst/>
            <a:rect l="textAreaLeft" t="textAreaTop" r="textAreaRight" b="textAreaBottom"/>
            <a:pathLst>
              <a:path w="21600" h="24187">
                <a:moveTo>
                  <a:pt x="3600" y="0"/>
                </a:moveTo>
                <a:arcTo wR="3600" hR="3600" stAng="16200000" swAng="-5400000"/>
                <a:lnTo>
                  <a:pt x="0" y="20587"/>
                </a:lnTo>
                <a:arcTo wR="3600" hR="3600" stAng="10800000" swAng="-5400000"/>
                <a:lnTo>
                  <a:pt x="18000" y="24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258920" y="141300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толеран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796000" y="1413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интолеран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555640" y="907920"/>
            <a:ext cx="1368360" cy="5050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5292720" y="907920"/>
            <a:ext cx="1150920" cy="576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84360" y="2349360"/>
            <a:ext cx="287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Обычно чувствует себя в безопасности, поэтому он не стремиться защищаться от людей и гру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435640" y="242100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Трудно жить в согласии, как с самим собой, так и с другими людьми. Он опасается своего социального окружения и даже себя, своих инстин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фон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4"/>
          <p:cNvSpPr txBox="1"/>
          <p:nvPr/>
        </p:nvSpPr>
        <p:spPr>
          <a:xfrm>
            <a:off x="1403280" y="189000"/>
            <a:ext cx="655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ветств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395280" y="2060640"/>
            <a:ext cx="3816360" cy="403236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32360"/>
              <a:gd name="textAreaBottom" fmla="*/ 3846240 h 4032360"/>
            </a:gdLst>
            <a:ahLst/>
            <a:rect l="textAreaLeft" t="textAreaTop" r="textAreaRight" b="textAreaBottom"/>
            <a:pathLst>
              <a:path w="21600" h="22822">
                <a:moveTo>
                  <a:pt x="3600" y="0"/>
                </a:moveTo>
                <a:arcTo wR="3600" hR="3600" stAng="16200000" swAng="-5400000"/>
                <a:lnTo>
                  <a:pt x="0" y="19222"/>
                </a:lnTo>
                <a:arcTo wR="3600" hR="3600" stAng="10800000" swAng="-5400000"/>
                <a:lnTo>
                  <a:pt x="18000" y="22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4859280" y="1989000"/>
            <a:ext cx="3816360" cy="403236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32360"/>
              <a:gd name="textAreaBottom" fmla="*/ 3846240 h 4032360"/>
            </a:gdLst>
            <a:ahLst/>
            <a:rect l="textAreaLeft" t="textAreaTop" r="textAreaRight" b="textAreaBottom"/>
            <a:pathLst>
              <a:path w="21600" h="22822">
                <a:moveTo>
                  <a:pt x="3600" y="0"/>
                </a:moveTo>
                <a:arcTo wR="3600" hR="3600" stAng="16200000" swAng="-5400000"/>
                <a:lnTo>
                  <a:pt x="0" y="19222"/>
                </a:lnTo>
                <a:arcTo wR="3600" hR="3600" stAng="10800000" swAng="-5400000"/>
                <a:lnTo>
                  <a:pt x="18000" y="22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187280" y="155736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толеран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580000" y="1557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aramond"/>
              </a:rPr>
              <a:t>интолеран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26920" y="2276640"/>
            <a:ext cx="316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Не перекладывают  ответственность на других, они несут ее сами. Убеждены, что судьба зависит не от расположения звезд, а от них сам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219640" y="2276640"/>
            <a:ext cx="30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Считает, что происходящие события от него не зависят. Стремятся снять с себя ответственность за то, что происходит с ними и вокруг н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 flipH="1">
            <a:off x="1979280" y="907920"/>
            <a:ext cx="1297080" cy="649440"/>
          </a:xfrm>
          <a:prstGeom prst="line">
            <a:avLst/>
          </a:prstGeom>
          <a:ln w="41400">
            <a:solidFill>
              <a:srgbClr val="33cc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5508720" y="907920"/>
            <a:ext cx="1008000" cy="6494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фон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4"/>
          <p:cNvSpPr txBox="1"/>
          <p:nvPr/>
        </p:nvSpPr>
        <p:spPr>
          <a:xfrm>
            <a:off x="646200" y="333360"/>
            <a:ext cx="824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 определен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468360" y="2133720"/>
            <a:ext cx="3311640" cy="3887640"/>
          </a:xfrm>
          <a:custGeom>
            <a:avLst/>
            <a:gdLst>
              <a:gd name="textAreaLeft" fmla="*/ 161640 w 3311640"/>
              <a:gd name="textAreaRight" fmla="*/ 3150000 w 3311640"/>
              <a:gd name="textAreaTop" fmla="*/ 161640 h 3887640"/>
              <a:gd name="textAreaBottom" fmla="*/ 3726000 h 3887640"/>
            </a:gdLst>
            <a:ahLst/>
            <a:rect l="textAreaLeft" t="textAreaTop" r="textAreaRight" b="textAreaBottom"/>
            <a:pathLst>
              <a:path w="21600" h="25357">
                <a:moveTo>
                  <a:pt x="3600" y="0"/>
                </a:moveTo>
                <a:arcTo wR="3600" hR="3600" stAng="16200000" swAng="-5400000"/>
                <a:lnTo>
                  <a:pt x="0" y="21757"/>
                </a:lnTo>
                <a:arcTo wR="3600" hR="3600" stAng="10800000" swAng="-5400000"/>
                <a:lnTo>
                  <a:pt x="18000" y="25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0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003640" y="2133720"/>
            <a:ext cx="3456000" cy="403056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4030560"/>
              <a:gd name="textAreaBottom" fmla="*/ 3862080 h 4030560"/>
            </a:gdLst>
            <a:ahLst/>
            <a:rect l="textAreaLeft" t="textAreaTop" r="textAreaRight" b="textAreaBottom"/>
            <a:pathLst>
              <a:path w="21600" h="25191">
                <a:moveTo>
                  <a:pt x="3600" y="0"/>
                </a:moveTo>
                <a:arcTo wR="3600" hR="3600" stAng="16200000" swAng="-5400000"/>
                <a:lnTo>
                  <a:pt x="0" y="21591"/>
                </a:lnTo>
                <a:arcTo wR="3600" hR="3600" stAng="10800000" swAng="-5400000"/>
                <a:lnTo>
                  <a:pt x="18000" y="25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0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39640" y="242100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755640" y="2349360"/>
            <a:ext cx="28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Признает мир его многообразии и готов выслушать любую точку з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364000" y="2349360"/>
            <a:ext cx="28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Garamond"/>
              </a:rPr>
              <a:t>Делят мир на две части – черное и белое. Для них нет полутонов, есть только два сорта людей – плохие и хорошие, только один правильный путь в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332000" y="15573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толеран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435640" y="1557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интолеран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 flipH="1">
            <a:off x="2340000" y="981000"/>
            <a:ext cx="1224000" cy="647640"/>
          </a:xfrm>
          <a:prstGeom prst="line">
            <a:avLst/>
          </a:prstGeom>
          <a:ln w="442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435640" y="981000"/>
            <a:ext cx="1297080" cy="57636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523880" y="1155600"/>
            <a:ext cx="30481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это значит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ризнавать т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что люди разли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о внешнему вид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оложен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интерес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оведе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и ценностя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УВР"/>
          <p:cNvPicPr/>
          <p:nvPr/>
        </p:nvPicPr>
        <p:blipFill>
          <a:blip r:embed="rId1"/>
          <a:stretch/>
        </p:blipFill>
        <p:spPr>
          <a:xfrm>
            <a:off x="4724280" y="1143000"/>
            <a:ext cx="33022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1297800" y="4572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роявлять толерант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5562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ждый человек обладают правом жить в мир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храняя при этом свою  индивидуальнос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COBJ042"/>
          <p:cNvPicPr/>
          <p:nvPr/>
        </p:nvPicPr>
        <p:blipFill>
          <a:blip r:embed="rId1"/>
          <a:stretch/>
        </p:blipFill>
        <p:spPr>
          <a:xfrm flipH="1">
            <a:off x="6878160" y="2666880"/>
            <a:ext cx="22654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228600" y="1111680"/>
            <a:ext cx="838188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важай собесед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арайся понять то, о чем говорят друг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стаивай свое мнение тактич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щи лучшие арг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удь справедливы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отовым признать правоту друг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емись учитывать интересы друг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194120" y="555480"/>
            <a:ext cx="69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ИЛА ТОЛЕРАНТНОГО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9520"/>
            <a:ext cx="82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0000"/>
                </a:solidFill>
                <a:latin typeface="Arial"/>
              </a:rPr>
              <a:t>МЫ  ТАКИЕ  РАЗНЫ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r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72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295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96" dur="1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G:\новые фоны для презентаций\My_Sbornik_fon_1\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428760" y="42876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Во внутреннем мире человека доброта - это солнце. Виктор Мари Гю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428760" y="1357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Чтобы поверить в добро, надо начать делать его. Толстой Л. 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428760" y="22860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Доброта — это то, что может услышать глухой и увидеть слепой.       Марк Т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428760" y="32148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Сколько в человеке доброты, столько в нем и жизни.        Эмерсон 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500040" y="41432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Из всех добродетелей и достоинств души величайшее достоинство — доброта.   Бэкон 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388320" y="304920"/>
            <a:ext cx="20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мят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11480"/>
            <a:ext cx="8686800" cy="3018600"/>
          </a:xfrm>
          <a:prstGeom prst="rect">
            <a:avLst/>
          </a:prstGeom>
          <a:solidFill>
            <a:srgbClr val="ffff99">
              <a:alpha val="75000"/>
            </a:srgbClr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оторым вступаем во взаимодействие, будь-то случайный попутчик, бродяга или друг, - это и будет проявление добр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BOOK"/>
          <p:cNvPicPr/>
          <p:nvPr/>
        </p:nvPicPr>
        <p:blipFill>
          <a:blip r:embed="rId1"/>
          <a:stretch/>
        </p:blipFill>
        <p:spPr>
          <a:xfrm>
            <a:off x="5486400" y="3832200"/>
            <a:ext cx="3276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-684360" y="28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533520" y="1295280"/>
            <a:ext cx="8143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толерантность?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-684360" y="28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BD00146_"/>
          <p:cNvPicPr/>
          <p:nvPr/>
        </p:nvPicPr>
        <p:blipFill>
          <a:blip r:embed="rId1"/>
          <a:stretch/>
        </p:blipFill>
        <p:spPr>
          <a:xfrm>
            <a:off x="2209680" y="2590920"/>
            <a:ext cx="3581640" cy="3537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4"/>
          <p:cNvSpPr/>
          <p:nvPr/>
        </p:nvSpPr>
        <p:spPr>
          <a:xfrm>
            <a:off x="3581640" y="4572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ный ча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ить учащихся с понятием «толерантност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мулировать их воображение в поисках собственного понимания толерант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возможность подросткам оценить степень своей толера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понятия «толерантность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связано с эпохой религиозных во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-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ов – Гоббс, Локк, Вольтер, Руссо – выступили против жестоких религиозных столкновений и религиозной нетерп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89 после смерти Вольтера во Франции была принята Декларация прав человека и гражда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1948 года, провозгласившая принципы мира, ненасилия во взаимоотношениях между народами и государ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52280" y="213840"/>
            <a:ext cx="8839440" cy="4728240"/>
          </a:xfrm>
          <a:prstGeom prst="rect">
            <a:avLst/>
          </a:prstGeom>
          <a:solidFill>
            <a:srgbClr val="ffff99">
              <a:alpha val="75000"/>
            </a:srgbClr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пределение слова «толерантность» на разных языках земного шар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На испанском язы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«способность признавать отличные от своих  собственных идеи или мнени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cc"/>
                </a:solidFill>
                <a:uFillTx/>
                <a:latin typeface="Times New Roman"/>
              </a:rPr>
              <a:t>На французс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ношение, при котором допускается, что другие могут думать или действовать иначе, нежели ты сам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00cc"/>
                </a:solidFill>
                <a:uFillTx/>
                <a:latin typeface="Times New Roman"/>
              </a:rPr>
              <a:t>На английс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товность быть терпимым, снисходительным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На китайс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волять, принимать, быть по отношению к другим великодушным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Times New Roman"/>
              </a:rPr>
              <a:t>На арабс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«прощение, снисходительность, мягкость, милосердие, сострадание, благосклонность, терпение, расположенность к другим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На русск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ность терпеть что-то или кого-то» (быть выдержанным, выносливым, стойким, уметь мириться с существованием чего-либо, кого-либ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FLAGBOYE"/>
          <p:cNvPicPr/>
          <p:nvPr/>
        </p:nvPicPr>
        <p:blipFill>
          <a:blip r:embed="rId1"/>
          <a:stretch/>
        </p:blipFill>
        <p:spPr>
          <a:xfrm>
            <a:off x="380880" y="5105520"/>
            <a:ext cx="7128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FRANCE1"/>
          <p:cNvPicPr/>
          <p:nvPr/>
        </p:nvPicPr>
        <p:blipFill>
          <a:blip r:embed="rId2"/>
          <a:stretch/>
        </p:blipFill>
        <p:spPr>
          <a:xfrm>
            <a:off x="3124080" y="5562720"/>
            <a:ext cx="2336760" cy="90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g0501988"/>
          <p:cNvPicPr/>
          <p:nvPr/>
        </p:nvPicPr>
        <p:blipFill>
          <a:blip r:embed="rId3"/>
          <a:stretch/>
        </p:blipFill>
        <p:spPr>
          <a:xfrm>
            <a:off x="7086600" y="472428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971800" y="2759760"/>
            <a:ext cx="3139920" cy="520560"/>
          </a:xfrm>
          <a:prstGeom prst="rect">
            <a:avLst/>
          </a:prstGeom>
          <a:solidFill>
            <a:srgbClr val="ffff99">
              <a:alpha val="75000"/>
            </a:srgbClr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4920" y="1065600"/>
            <a:ext cx="236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пи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чужим мнениям, верованиям, поведени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428640" y="106596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рад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095880" y="1141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ятие другого таким, какой он е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314840" y="281844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248520" y="42660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ажение прав друг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52280" y="28184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лосерд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762120" y="42660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трудничество, дух партнер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581280" y="419004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 flipV="1">
            <a:off x="4343400" y="1523880"/>
            <a:ext cx="0" cy="106704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5"/>
          <p:cNvSpPr/>
          <p:nvPr/>
        </p:nvSpPr>
        <p:spPr>
          <a:xfrm flipH="1" flipV="1">
            <a:off x="2285640" y="1904760"/>
            <a:ext cx="762120" cy="68580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6"/>
          <p:cNvSpPr/>
          <p:nvPr/>
        </p:nvSpPr>
        <p:spPr>
          <a:xfrm flipV="1">
            <a:off x="5410080" y="2057400"/>
            <a:ext cx="533520" cy="5335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6400800" y="2971800"/>
            <a:ext cx="838080" cy="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 flipH="1">
            <a:off x="1905120" y="2971800"/>
            <a:ext cx="838080" cy="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4343400" y="3352680"/>
            <a:ext cx="0" cy="83844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0"/>
          <p:cNvSpPr/>
          <p:nvPr/>
        </p:nvSpPr>
        <p:spPr>
          <a:xfrm flipH="1">
            <a:off x="2438280" y="3429000"/>
            <a:ext cx="609840" cy="7621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5715000" y="3429000"/>
            <a:ext cx="609480" cy="7621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80880" y="1551960"/>
            <a:ext cx="8077320" cy="3385800"/>
          </a:xfrm>
          <a:prstGeom prst="rect">
            <a:avLst/>
          </a:prstGeom>
          <a:solidFill>
            <a:srgbClr val="ffff99">
              <a:alpha val="75000"/>
            </a:srgbClr>
          </a:solidFill>
          <a:ln w="349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заимопоним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заимоуваж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тветственн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доброжелательн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держанн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уступчив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коммуникабельнос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ерпимость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j0300595"/>
          <p:cNvPicPr/>
          <p:nvPr/>
        </p:nvPicPr>
        <p:blipFill>
          <a:blip r:embed="rId1"/>
          <a:stretch/>
        </p:blipFill>
        <p:spPr>
          <a:xfrm>
            <a:off x="5638680" y="1066680"/>
            <a:ext cx="2870280" cy="2895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309600" y="45720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еловеческие качеств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53720" y="5334120"/>
            <a:ext cx="87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жно формировать у каждого челове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 самого детства терпимо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58608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К сожалению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ерпимость, неприязнь к другой культуре, образу жизни, привычкам всегда существовала и продолжает существовать в наш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Следует отметить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предметом нетерпимости может выступать как национальная, религиозная, социальная, половая принадлежность ребенка, так и особенности его внешнего вида, интересы, увлечения, привыч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лерант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CBIZ022"/>
          <p:cNvPicPr/>
          <p:nvPr/>
        </p:nvPicPr>
        <p:blipFill>
          <a:blip r:embed="rId1"/>
          <a:stretch/>
        </p:blipFill>
        <p:spPr>
          <a:xfrm>
            <a:off x="5638680" y="4343400"/>
            <a:ext cx="3173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28600" y="1139760"/>
            <a:ext cx="3657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это уваж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ринятие и поним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богатого многообраз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культур нашего ми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форм самовы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и способов проя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человеческой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индивидуа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ё"/>
          <p:cNvPicPr/>
          <p:nvPr/>
        </p:nvPicPr>
        <p:blipFill>
          <a:blip r:embed="rId1"/>
          <a:stretch/>
        </p:blipFill>
        <p:spPr>
          <a:xfrm>
            <a:off x="3733920" y="914400"/>
            <a:ext cx="4740120" cy="433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154080" y="91440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лерантность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мен</dc:creator>
  <dc:description/>
  <dc:language>en-US</dc:language>
  <cp:lastModifiedBy>Юлия</cp:lastModifiedBy>
  <dcterms:modified xsi:type="dcterms:W3CDTF">2015-12-13T09:38:2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