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066-D3DA-41F1-9269-1BF8A688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BD2-4C0E-47E1-A0A3-CE27386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1DEAA-5177-48C2-BCD5-CAA04BB4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F1AC6-5AB0-42CC-9B29-E92B258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525AC-ECFF-4ED9-A442-24F52A3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EBE9B-1DA2-46F0-9196-B1DCAFD9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E2BC1-5225-4C64-8534-9B17629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59ABD-AB8D-4B43-B261-CC65797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5D5A9-52E7-4631-8465-69A99F2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C696B-A34B-447B-A664-3CAA4A90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58D5E-5ADD-438E-B203-8ABEA9A8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46D-DC56-4CB0-8B0B-C8ED3D82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F86-86AE-44A7-AA65-87E5A82C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70536-9D78-4CB7-965D-D3B75458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5AB44-5A3C-4409-ABF7-3407241C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39D8E-A07B-405A-AA3A-24EC4D7C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0F740-C943-4BA4-919F-AFCDF63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786BA-4BDB-45C1-B1C6-6C0165F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CCD7-E80B-444D-B929-73E7B4A9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1397C-419A-42C1-BFF9-15C946C9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AD3-EE45-4EDC-BEDC-7885F00A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9EF62-C927-4FA8-9C2A-5AC2BDD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C1120-7863-4E4C-ACFD-832B5403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E95FF-467E-46FB-AF27-57DD5F6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73D0-0390-435E-8260-E12D7923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E9040-058F-4E87-93B3-D8712CA7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53A3-3036-470B-AA8D-1BA6D6AC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B950-7837-4B39-8F91-F7DBE4C5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2DF1-C169-4463-97EC-3201B91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1FD3-3583-49A9-938A-D96EEE39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3430-729B-4AC8-896E-65CC6CF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471-FC5E-402D-8940-562F81D8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CCCD-5F4D-45B5-B001-24F28B8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D5AD-D9FE-4762-8D98-EA63E47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46F6-7A52-47BA-8EBC-6C1871C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EA47-A4B3-45C9-B600-C628C4D2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041A-243A-4429-8760-7F65F6FD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B045-E9F2-4E52-A859-8A7910B6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76D1-1971-4382-87AB-83CD66A0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70C4E-ABF1-4FDA-BD15-8F7935AA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45ED4-9616-4533-BBEC-F09CA6B7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A78AA-FDB7-4537-A12C-14E3F589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E44-1318-46F8-9FC8-9B387AB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3784F-9B24-402E-B328-A77EBAFF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E290F-E386-498F-99B5-A77C0A0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530CF-5ACC-4DBE-8905-C42028E9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59F49-3733-4918-B066-A24800B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89FFE-8427-4C8B-A0E6-5A626A8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BDA91-6E8E-4252-B99C-F5D227E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30D59-A138-4062-AD16-19CA4A7B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5F0CB-5322-41B2-9E99-858FBB9E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ED0EA-4BA3-4B73-8126-44B02513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5AEF-6AE9-4541-92D2-B40FFAB3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442-809F-4017-8461-AA94EB46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9E8E-4DC0-4DBA-BA28-DC96D41A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801A-18E2-4B1C-AE5C-BF16DB04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B8929-2A5F-4BDE-B9EA-81FDD7D1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71F82-0227-4DB6-ADFD-730D99A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4FC5-1E98-48D4-81BA-E2FFEC9C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8E72-8D57-4C82-A496-E7293F1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74851-21A7-486B-94F5-A72C1054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1B21-318D-48DB-8032-0D92CEE1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86BA-8F8A-4A57-A8F7-F51BD7E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9EFD-3529-427C-84E0-66390DC4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7F5-D289-42AB-B80D-6AF58F1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7AC4-5086-4F45-B8FA-5BC11DF4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626E-EF7C-41A5-905E-DFEBBDE6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8A16-B7B0-4116-A6F3-073CD52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620B-EF99-435E-8B4A-C8F782F8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1AE0-3553-4749-B0A0-522CD29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3C6A-8ED4-4B9D-AC40-C6B69D1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895A-0E0D-4828-BB12-A18C569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A3C0-DBDE-4318-B8CD-BD0A410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8E70-2301-432C-9147-F557401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C1BF-FC18-4F99-A930-5A94695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BEA-38A5-4657-A451-0BBCBD0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29AF-2011-4003-953E-47CD08B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E3630-C270-4C69-A3D3-2F63639C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1C2E-F5AA-44C4-B614-A9A78E45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F469-407D-4EDD-A2D6-F3E86AC0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461A1-1EC0-433B-8020-702649F8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CA6C-0B33-4633-9EF1-913EB74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EF69-1682-41B5-80D6-07589FB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05AB-2C9F-4701-8B32-B4145F9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3EC6-F88E-456F-A11F-141C8EE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C643-AF8F-49C4-BAA7-AF5A695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018-0ABD-4DEA-9BE9-E68E229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C347-F137-41A9-BBC8-EE1B6AC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F0C6-CDEA-4698-A1FB-B707B85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B661-DB37-4ED7-A048-B0C97F0B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2F3B-8909-4AE9-9BBD-4D0B6C27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35444-CDD5-4324-937B-1150342B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17057-322A-4B09-83D0-3873DD4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C08BB-763E-40F0-9A11-1A830964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43E99-004E-4BCC-93FD-AC97AD90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12A50-26CB-406D-ACCA-3EDB342E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2FBFC-683F-43AE-965B-F779C097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838-CD4F-4DA3-8D72-0F300E5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E2592-08FC-41E4-97D5-C1C6C7C1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A686C-8931-4EBE-9B33-969BD00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EA1AF-CD92-4243-8AF0-B813AC5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DD930E-9E90-480E-B0AD-7CFDDCF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262483-4F15-4BBF-949C-008E2AE8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0CC09-DC7B-49A8-A78D-7CA44B4F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BD8F48-2709-41C1-974C-05A3F790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82532-664D-4D07-89A1-F63EC999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4DFED-1C36-48FD-B8B3-1D2B94F8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B9715A-599B-4150-935F-CAD9D94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94E-A84F-47D0-B3B2-7BBB26E6FD29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8E87-E368-4F9E-BEC6-F05CB5DD7D2B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3133-47D0-4216-B4E3-71A8E9B3C7E6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02AC-AEFD-4C5A-9126-772DFFBCBF88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3206-36B7-4123-AC8F-BA5CD4318CB0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F9BD-15FE-4369-AEF6-8C2B4DA9ED21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313F-2C07-49DD-902B-CC10257DD5AA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0EC-1613-4655-87F3-6744E61A882C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Palatino Linotyp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1424-9829-4654-90AB-815577128CC6}" type="slidenum">
              <a:rPr b="0" lang="ru-RU" sz="1600" spc="-1" strike="noStrike">
                <a:solidFill>
                  <a:srgbClr val="dfe0d4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Goldfish-Karpova@mail.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2"/>
          <p:cNvSpPr/>
          <p:nvPr/>
        </p:nvSpPr>
        <p:spPr>
          <a:xfrm>
            <a:off x="1042920" y="1773360"/>
            <a:ext cx="68421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диции и инновации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етодике развития речи детей дошкольного возраст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21164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ыполнил: воспитатель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МБДОУ «Д/с» №27 г. Балахн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Карпова Ю.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6" name="Прямоугольник 1"/>
          <p:cNvSpPr/>
          <p:nvPr/>
        </p:nvSpPr>
        <p:spPr>
          <a:xfrm>
            <a:off x="971640" y="333360"/>
            <a:ext cx="741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Администрация Балахнинского муниципального район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Муниципальное бюджетное дошкольное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образовательное  учреждение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«ДЕТСКИЙ САД» № 2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комбинированного вид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684360" y="285264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Известно что существует прямая связь между развитием мелкой моторики и развитием мышления ребенка. Чем более ловкие пальчики - тем более гибкий ум. А пальчиковые игры как нельзя лучше помогают в развитии мелкой моторики крохи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2199240" y="119700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Palatino Linotype"/>
              </a:rPr>
              <a:t>Пальчиковые игры в воде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2"/>
          <p:cNvSpPr/>
          <p:nvPr/>
        </p:nvSpPr>
        <p:spPr>
          <a:xfrm>
            <a:off x="2343960" y="40464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Palatino Linotype"/>
              </a:rPr>
              <a:t>Пальчиковые игры в воде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2" name="Прямоугольник 3"/>
          <p:cNvSpPr/>
          <p:nvPr/>
        </p:nvSpPr>
        <p:spPr>
          <a:xfrm>
            <a:off x="826920" y="1386000"/>
            <a:ext cx="70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«</a:t>
            </a: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Морские звезды»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Кисти рук находятся под водой, а пальца каждой из них прижаты ко дну ванны. Ребенок должен поочередно поднять их для начала хаотично, а затем синхронно и по очереди (мизинцы, безымянные и так далее). В данной игре можно придумывать сложные комбинации. Например: первыми поднимается большой палец правой руки и мизинец левой, следом за ними пробуждается средний палец правой руки и указательный левой и так далее. Не забывайте хвалить ребенка, когда у него все получается правильно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826920" y="1557360"/>
            <a:ext cx="727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«Акула»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В исходном положении большой палец выпрямлен, а все остальные собраны вместе (большой палец изображает плавник акулы). Ладони опущены в воду настолько, что на поверхности остается только лишь «плавник» акулы. В процессе игры ребенку предлагается проделывать пальцами волнистые движения для того, чтобы показать, как плавает морской хищник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108000" y="1341360"/>
            <a:ext cx="885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Palatino Linotype"/>
              </a:rPr>
              <a:t>Моделирование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Наглядный материал у дошкольников усваивается лучше, поэтому использование моделей, мнемотаблиц на занятиях по развитию связной речи, позволяет детям эффективнее воспринимать и перерабатывать зрительную информацию. Применение моделей, мнемосхем, помогает ребёнку в обогащении связного высказывания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42920" y="1989000"/>
            <a:ext cx="70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Метод наглядного моделирования помогает ребенку зрительно представить абстрактные понятия (звук, слово, предложение, текст), научиться работать с ними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3280320" y="26028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Palatino Linotype"/>
              </a:rPr>
              <a:t>Синквейн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395280" y="84600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нерифмованное стихотворение из 5 строк, составленное по  определенным правилам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1 строка -  тема - называется одним словом,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2 строка -  это описание темы - в двух словах,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3 строка – это действия - в трёх словах,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4 строка – это  предложение из четырёх слов,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5 строка  - это одно слово, которое  выражает настроение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2268360" y="3943440"/>
            <a:ext cx="3856320" cy="28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1138680" y="115920"/>
            <a:ext cx="77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Palatino Linotype"/>
              </a:rPr>
              <a:t>Эффективность и значимость синквейна: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179280" y="98100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Реализовываются интеллектуальные возможности ребёнк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900000" y="134928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Используется для проведения рефлексии, анализа и синтеза полученной информаци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2" name="Прямоугольник 4"/>
          <p:cNvSpPr/>
          <p:nvPr/>
        </p:nvSpPr>
        <p:spPr>
          <a:xfrm>
            <a:off x="1728000" y="200196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Помогает пополнить словарный запас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3" name="Прямоугольник 5"/>
          <p:cNvSpPr/>
          <p:nvPr/>
        </p:nvSpPr>
        <p:spPr>
          <a:xfrm>
            <a:off x="3882960" y="255888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Формирует представление о кратком пересказе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4" name="Прямоугольник 6"/>
          <p:cNvSpPr/>
          <p:nvPr/>
        </p:nvSpPr>
        <p:spPr>
          <a:xfrm>
            <a:off x="4325400" y="339732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Помогает развить речь и мышление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5" name="Прямоугольник 7"/>
          <p:cNvSpPr/>
          <p:nvPr/>
        </p:nvSpPr>
        <p:spPr>
          <a:xfrm>
            <a:off x="3611520" y="40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Развивает творческие способности ребёнк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6" name="Прямоугольник 8"/>
          <p:cNvSpPr/>
          <p:nvPr/>
        </p:nvSpPr>
        <p:spPr>
          <a:xfrm>
            <a:off x="1476360" y="486900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Помогает самовыражению детей, через сочинение собственных нерифмованных стихов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7" name="Прямоугольник 9"/>
          <p:cNvSpPr/>
          <p:nvPr/>
        </p:nvSpPr>
        <p:spPr>
          <a:xfrm>
            <a:off x="324000" y="5732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Формирует умение детей находить и выделять в большом объеме информации главную мысль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01600" y="2430360"/>
            <a:ext cx="230184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1084320" y="1268280"/>
            <a:ext cx="706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Palatino Linotype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1" name="Улыбающееся лицо 2"/>
          <p:cNvSpPr/>
          <p:nvPr/>
        </p:nvSpPr>
        <p:spPr>
          <a:xfrm>
            <a:off x="2824200" y="2276640"/>
            <a:ext cx="3529080" cy="2520720"/>
          </a:xfrm>
          <a:prstGeom prst="smileyFace">
            <a:avLst>
              <a:gd name="adj" fmla="val 928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179280" y="5661000"/>
            <a:ext cx="7724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ыполнила: Карпова Юлия Александровн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-mail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: 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Palatino Linotype"/>
                <a:hlinkClick r:id="rId1"/>
              </a:rPr>
              <a:t>Goldfish-Karpova@mail.ru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Тел: +7950372790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250920" y="216000"/>
            <a:ext cx="59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Развитие связной речи у маленького человека — долгий и сложный процесс. С помощью речи ребенок познает окружающий мир, развивает коммуникативные навыки, ассоциативное мышление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8" name="Прямоугольник 2"/>
          <p:cNvSpPr/>
          <p:nvPr/>
        </p:nvSpPr>
        <p:spPr>
          <a:xfrm>
            <a:off x="3044880" y="3317760"/>
            <a:ext cx="59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В детском саду дошкольники, усваивая родной язык, овладевают важнейшей формой речевого общения — устной речью. Речевое общение в его полном виде — понимание речи и активная речь — развивается постепенно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1258920" y="2060640"/>
            <a:ext cx="675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Дошкольный возраст – это период активного усвоения ребенком разговорного языка, становление и развития всех сторон речи: фонетической, лексической и грамматической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23760" y="833400"/>
            <a:ext cx="89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Традиционная методика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рекомендует использовать в качестве основного приема обучения образец рассказа педагог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712800" y="335772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Дети пересказывают слова воспитателя практически без изменений, рассказы бедны выразительными средствами, лексический запас слов скуден, в текстах почти отсутствуют сложные предложения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611280" y="476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Palatino Linotype"/>
              </a:rPr>
              <a:t>Главный недостаток традиционной методики состоит в том, что в рассказе ребенка нет самостоятельности, ибо ребёнок не стремится рассказывать сам, а лишь по образцу, по шаблону воспитателя…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489564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2"/>
          <p:cNvSpPr/>
          <p:nvPr/>
        </p:nvSpPr>
        <p:spPr>
          <a:xfrm>
            <a:off x="468360" y="549360"/>
            <a:ext cx="57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Чем активнее ребенок, чем больше он вовлечен в интересную для себя деятельность, тем лучше результат.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1692360" y="2133720"/>
            <a:ext cx="55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Воспитателю нужно побуждать детей к речевой деятельности, а также важно стимулировать речевую активность в процессе свободного общения!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268128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Внедрение инноваций в работу образовательного учреждения – важнейшее условие совершенствования и реформирования системы дошкольного образования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08000" y="18900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Palatino Linotype"/>
              </a:rPr>
              <a:t>Инновации в методике развития речи детей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Palatino Linotype"/>
              </a:rPr>
              <a:t>дошкольного возраста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684360" y="1413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1. Логоритмика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9" name="Прямоугольник 3"/>
          <p:cNvSpPr/>
          <p:nvPr/>
        </p:nvSpPr>
        <p:spPr>
          <a:xfrm>
            <a:off x="1835280" y="2416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2. Пальчиковые игры в воде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4121280" y="3554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3. Моделирование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6156360" y="486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4. Синквейн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81000" y="3902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971640" y="278136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Palatino Linotype"/>
              </a:rPr>
              <a:t>- логопедическая методика, которая включает в себя упражнения, связанные с музыкой и движением, сопровождаемые зарифмованными историями. Занятия логоритмикой всегда задорные и интересные. Они нравятся малышам и приносят им массу полезного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1979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Palatino Linotype"/>
              </a:rPr>
              <a:t>ЛОГОРИТМИКА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1042920" y="1159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Palatino Linotype"/>
              </a:rPr>
              <a:t>Виды упражнений по логоритмике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179280" y="1052640"/>
            <a:ext cx="84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Упражнения на память и внимание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Речевые упражнения без музыкального сопровождения. Их суть — ритмичное проговаривание стихотворного текста с одновременным выполнением действий. Стихотворный текст в этих упражнениях является ритмической основой для выполнения определенных движений. Это позволяет совершенствовать общую и мелкую моторику и улучшать координацию движений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7" name="Прямоугольник 3"/>
          <p:cNvSpPr/>
          <p:nvPr/>
        </p:nvSpPr>
        <p:spPr>
          <a:xfrm>
            <a:off x="2124000" y="3100320"/>
            <a:ext cx="696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Упражнения на артикуляцию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В этих занятиях главными являются дыхание и голос. Работа идет над выразительностью, силой и высотой голоса. Артикуляция дает возможность скорректировать звукопроизношение, развить мышцы языка и губ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Тексты таких стихов будут содержать звуки, которые ребенку нужно повторить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8" name="Прямоугольник 4"/>
          <p:cNvSpPr/>
          <p:nvPr/>
        </p:nvSpPr>
        <p:spPr>
          <a:xfrm>
            <a:off x="131760" y="5229360"/>
            <a:ext cx="71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Упражнения на счет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Palatino Linotype"/>
              </a:rPr>
              <a:t>Последовательное повторение цифр задает ритм и темп выполнения действий. Считалки еще и способствуют механическому запоминанию счета в пределах первого десятка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4:13:40Z</dcterms:created>
  <dc:creator>андрей</dc:creator>
  <dc:description/>
  <dc:language>en-US</dc:language>
  <cp:lastModifiedBy>андрей</cp:lastModifiedBy>
  <dcterms:modified xsi:type="dcterms:W3CDTF">2016-11-20T22:27:50Z</dcterms:modified>
  <cp:revision>19</cp:revision>
  <dc:subject/>
  <dc:title>Презентация PowerPoint</dc:title>
</cp:coreProperties>
</file>