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27F-A1D5-437E-88AA-330F6384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0CD8-6A8B-48E8-87D9-51FBAEB7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B31-D3A5-4B9A-9AC6-AC389D96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CDC1-851F-4F6B-AA93-DF95376D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16F-7B57-4750-B07C-A48BE461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1F0-A67F-4F30-845C-7C584904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9C8B-776F-4CF0-AB8D-48808B8F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E31-E25F-481E-8E54-8E0E1449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999C-496B-4720-9608-3C6B26EB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179-21E8-4B24-9F47-02B06D8E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0713-22CE-4789-8944-74F2D12C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EFD-F52B-49DF-8CD7-1D5133EE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4524-9DFF-4D4A-9BF5-43AE4B36B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20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4400" spc="-1" strike="noStrike">
                <a:solidFill>
                  <a:srgbClr val="000000"/>
                </a:solidFill>
                <a:latin typeface="Lucida Console"/>
              </a:rPr>
              <a:t>Японское чаепитие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4427640" y="331164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Японская церемония чаепития в наш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485928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аше время произошло разделение процедуры на "настоящую" и "облегченную". В первом случае строго соблюдаются все традиционные условия, включая пользование тясицу. "Облегченная" церемония часто проводится в обычных помещениях, в комнатах даже ставятся столы и стулья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большой частью японских чайных церемоний, которую можно «взять на вооружение», является способ приготовления ч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Японцы в основном употребляют желтый и зеленый чай. Желтый чай заваривается китайским способом, а зеленый – особенным японским. Перед завариванием заварку растирают до получения порошка и заливают кипятком в специальных фарфоровых чайниках. На 200 мл воды берут чайную ложку чая. Примечательно, что для приготовления чая по-японски берут воду, нагретую до 60 градусов. До такой же температуры разогревают и чайник шаровидной формы. Заваривают чай в течение 2-4 минут. Такой чай имеет бледный цвет и разливается в маленькие чашечки, употребляется без сахара. Этот напиток является обязательной частью любой японской трапезы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4" descr="chajnajai-ceremonijai.jpg"/>
          <p:cNvPicPr/>
          <p:nvPr/>
        </p:nvPicPr>
        <p:blipFill>
          <a:blip r:embed="rId2"/>
          <a:stretch/>
        </p:blipFill>
        <p:spPr>
          <a:xfrm>
            <a:off x="5292720" y="3500280"/>
            <a:ext cx="3851280" cy="3159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Чайная церемо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2142720"/>
            <a:ext cx="5364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айная церемония по-японски– это действо, в котором участвуют: устроитель церемонии и приглашенные участ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жде чем приступить к чайной церемонии, все участники, которых должно быть не более пяти человек, концентрируются на своих ощущениях, мыслях и чувствах, чтобы обрести необходимый психологический наст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лько так можно ощутить всю духовность чайной церемонии и ощутить «вкус дзэн», что означает – «вкус чая»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4500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я церемония чаепития происходит в полном молчании, гости и хозяева никогда не ведут бесед — они пребывают в глубоком  раздумье о Природе бы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читается, что именно это придаёт церемонии японского чаепития особую красоту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500720" y="2205000"/>
            <a:ext cx="464328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Задача чайного ритуал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ижение гармонии – это одна из важнейших задач всего ритуала чайной церемонии. Когда человек отрешается от посторонних мыслей, забот, когда он не чувствует различия между другими людьми и полностью сливается с ними воедино – это и есть принцип гармо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емление к гармонии заложено в истоках японской культуры. Это видно в искусстве, кухне, одежде и поведении японцев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Чайные церемо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96472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Японии существует много форм чайной церемонии, однако, строго установлено лишь несколько: ночной чай, чай с восходом солнца, вечерний чай, специальный чай, утренний чай, послеобеденный ча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понцы считают, что чайная церемония воспитывает простоту, естественно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опрят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-видимому, это так, но в чайной церемонии заключено и друг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общая людей к точно установленному ритуалу, она приучает их к строгому порядку и безусловному исполнению социальных правил. Чайная церемония является одной из основ культивирования национальных чувств.</a:t>
            </a:r>
            <a:br>
              <a:rPr sz="2400"/>
            </a:br>
            <a:br>
              <a:rPr sz="2400"/>
            </a:b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Rectangle 3" descr=""/>
          <p:cNvPicPr/>
          <p:nvPr/>
        </p:nvPicPr>
        <p:blipFill>
          <a:blip r:embed="rId2"/>
          <a:stretch/>
        </p:blipFill>
        <p:spPr>
          <a:xfrm>
            <a:off x="0" y="2708280"/>
            <a:ext cx="4038480" cy="2919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В ходе исследования я узнал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95280" y="2204640"/>
            <a:ext cx="51483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айная церемо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о-японски– это действо, в котором участвуют: устроитель церемонии и приглашенные участн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у японского чайного ритуала есть задача – достижение гармо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приготовить японский чай сложно, для этого нужны специальные приспособ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чайная церемония является одной из основ культивирования национальных чувств японцев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1430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gotovim-sushi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kedem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gotovly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myjane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2133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ема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eorgia"/>
              </a:rPr>
              <a:t>Японское чаеп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Пьет свой утренний чай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Настоятель в спокойствии важном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Хризантемы в саду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цуо Бас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234900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Цель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3357360"/>
            <a:ext cx="8229600" cy="27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ти  в Интернете сведения о японском чаепит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знать является ли чаепитие  для  японцев национальной традици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накомиться с рецептом  чая по – япон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3840" y="2143080"/>
            <a:ext cx="8472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ти информацию об истории возникновения  традиции чаепития в Япо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зн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как сервируется стол  для японского чаепития;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кто и когда  в Японии пьёт ча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чем является для японцев чаепит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з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4788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начально чай в Японии был атрибутом религиозной церемонии и лекарством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нахи считали чай священным напитком, врачи – целебным средством. Современное японское название чайной церемонии "ТЯ-НО-Ю", дословно переводится как "лекарственный настой из чая"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4818240" y="1700280"/>
            <a:ext cx="43257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2"/>
          <a:srcRect l="13873" t="0" r="7303" b="0"/>
          <a:stretch/>
        </p:blipFill>
        <p:spPr>
          <a:xfrm>
            <a:off x="0" y="2100240"/>
            <a:ext cx="4788000" cy="4700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32000" y="2276640"/>
            <a:ext cx="42116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онце средневековья чайная церемония широко распространилась в японском обществе. Для ее проведения в уединенном месте строили специальный чайный домик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ТЯСИЦУ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43700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лучших художников заказывали керамические чашки и другие предметы, необходимые для церемонии, которых по всем правилам требовалось 24 принадлежности.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"/>
          <p:cNvPicPr/>
          <p:nvPr/>
        </p:nvPicPr>
        <p:blipFill>
          <a:blip r:embed="rId2"/>
          <a:stretch/>
        </p:blipFill>
        <p:spPr>
          <a:xfrm>
            <a:off x="1763640" y="189000"/>
            <a:ext cx="532764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вести чайную церемонию приглашали специалиста – мас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2205000"/>
            <a:ext cx="4316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так, чтобы попить чаю по-японски, полагается: сначала войти в сад, окружающий чайный домик, затем пройти по каменной дорожке мимо тусклого фонаря и  колодца и только потом через низкую дверь, проползти на коленях в чайную комнату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2"/>
          <a:srcRect l="0" t="0" r="0" b="5505"/>
          <a:stretch/>
        </p:blipFill>
        <p:spPr>
          <a:xfrm>
            <a:off x="4749840" y="2205000"/>
            <a:ext cx="43941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4:18:47Z</dcterms:created>
  <dc:creator>Павел</dc:creator>
  <dc:description/>
  <dc:language>en-US</dc:language>
  <cp:lastModifiedBy>Customer</cp:lastModifiedBy>
  <dcterms:modified xsi:type="dcterms:W3CDTF">2013-03-02T10:09:51Z</dcterms:modified>
  <cp:revision>28</cp:revision>
  <dc:subject/>
  <dc:title>Слайд 1</dc:title>
</cp:coreProperties>
</file>