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3437-28E6-4673-9BF8-A25DE2324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4DA-F35E-407F-A72C-94A21B8FB8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BDA-D9A9-48BC-A41B-6D54E51C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DA5-A95B-47AD-B4D9-3533B3D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28D-DB22-4080-8E95-299A7B34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1953-C31E-44E4-BBED-802952A7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530-6796-41F7-B40D-D4C98331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8BF8-01C5-4593-BCEC-C64AF704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9005-1E6D-4230-BBDC-EC7B0A5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DC01-B188-49C1-81DE-B3746FB1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4B09-678A-4560-8A83-FB3FC02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7AF-F617-4D56-9639-B856A529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DAD1-E611-45CE-90B6-714B76D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367-54DF-4489-A8D0-191C3ADD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333A-AA85-42E4-BE07-7968EBD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A37-2086-46B4-A25F-32EB21C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B1D8-BDAE-4443-85ED-EFB962D0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056C-B845-4868-BD26-32E11CD5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4293-8495-4DCF-AE1D-1CCDF3CA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BF57-A4E4-4C7E-9CE9-E2EB4CDD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D857-E052-4B42-83D8-D12B4DA0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5729-97EC-43BF-957A-77E3A1F3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23C5-3FB8-4F1D-8C37-C6EFF53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E00A-BEA7-410C-BE83-753E4BA7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1BF-0684-47E2-AFDA-D94ABE6E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2FF5-DBE7-47B7-86D1-CAD3A3C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7B20-E47E-4B43-ADCE-0E23163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1AFA-3EE4-4F45-952E-628072D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764E-B095-41A8-9DC1-0B95BF0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8A41-32E9-4632-AA79-658C555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964F-ED83-4040-A799-3C1402D6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7D66-9C47-4EE5-8786-5532D8A1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AAE11-4960-4D6F-8DB0-C558FCD0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9343-CE62-4F10-8960-FE27FE3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FB4FF-1DD9-46D5-905B-7A7BE50B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361-654F-4AFE-B807-C80F0ADE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85DB-1CC8-409A-A94A-99D6D5F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5FC4-240C-470F-B6F5-D7BC33C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5AD8-1171-43B5-94B6-E3D21252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4B421-CBC5-41CC-9BB6-FCA41065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F91F-55F0-4AF4-86E1-A0ABF4D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3D51-992C-447B-82DD-5F8E3593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E6F27-04B9-42C3-89BB-A3F8EA6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BE75B-810D-48C4-9371-8DF963C1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F39A-905F-48E0-ABD9-680528B3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68-B4F1-451E-8E10-6C6CCE40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3FE-6255-416C-BDE5-7C64D9E8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A35-AF5F-48BE-966A-44FEC30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04C-A3D9-4896-94E4-F99B793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A5C-25DC-41B6-AEAD-41D5B06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6FC8-80CA-4D7A-B488-BA4FDDD7561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2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4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6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8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E452-9F66-40C6-B52C-5653DB12D6B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5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146-D4C2-4F78-BC05-0C9C326FF6D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33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34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3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3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3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4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4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4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4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5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5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5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6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6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6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7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7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7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7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8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8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8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9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9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9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0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0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0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1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1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1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2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2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2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2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3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3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3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4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4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451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8FCA-2673-42C8-9BD9-0A5C4C49FD1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3FB-13AC-421B-A8F6-57F4B380EB5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Lucida Sans Unicode"/>
              </a:rPr>
              <a:t>Логисти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Тема 4.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купочная логис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7920000" y="4859280"/>
            <a:ext cx="900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Определение  оптимального размера заказа (партии) по формуле Уильсона или определение экономичного размера заказа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(EOQ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Q =      2 A S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             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Line 5"/>
          <p:cNvSpPr/>
          <p:nvPr/>
        </p:nvSpPr>
        <p:spPr>
          <a:xfrm>
            <a:off x="2627280" y="2852640"/>
            <a:ext cx="57636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3203640" y="191628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3276720" y="1916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3419640" y="292428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15840" y="509112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Q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оптимальный размер заказа шт., кг. или ин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ичественные показател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A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тоимость подачи одного заказа, руб.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потребность в товарах за определенны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иод в шт., к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ли иных количественных показателях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 закупочная цена (цена франко-склад покупателя) руб.,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издержки на содержание единицы запаса за период руб.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жет быть вычислена в процентах от закупочной цены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0" y="527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395280" y="624600"/>
            <a:ext cx="8540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основе этой формулы можно определить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личество заказо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енный период (К) и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ериодичность заказ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днях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Verdana"/>
              </a:rPr>
              <a:t>К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 = S  : Q             D = P : 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количество дней в пери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cc66"/>
                </a:solidFill>
                <a:latin typeface="Verdana"/>
              </a:rPr>
              <a:t>Приме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овая потребность предприятия в товарах  - 155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шт., цена  единицы товара 560 руб., издержки на оформление одного заказа составляет 200 руб. Издержки на содержание единицы товара на складе в год составляют 112 руб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птимальный размер заказ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личество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периодичность заказов в дня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о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х 200 х 15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=       1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Line 5"/>
          <p:cNvSpPr/>
          <p:nvPr/>
        </p:nvSpPr>
        <p:spPr>
          <a:xfrm>
            <a:off x="2484360" y="206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2195640" y="3141720"/>
            <a:ext cx="28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2484360" y="2060640"/>
            <a:ext cx="33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2556000" y="2781360"/>
            <a:ext cx="35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4812840" y="249228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74,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1901160" y="4707360"/>
            <a:ext cx="48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= 1550 :74,4 =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= 365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1 = 17,4 (дн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етод экономичного заказа основан на следующих допущениях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рос известен и постоян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поставки  товара известно и постоян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на постоянна и не зависит от объема заказа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анспортный тариф постоянен и не зависит от объема заказ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т финансовых огранич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*В условиях, когда дается скидка на закупку большого количества товаров на период, данная модель может быть модифицирована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одель заказа, обеспечивающего получение скидки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дополнение   к формуле Уильсона делается расчет общих расходов в зависимости от величины закупки на весь пери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6" name="Picture 4" descr="010"/>
          <p:cNvPicPr/>
          <p:nvPr/>
        </p:nvPicPr>
        <p:blipFill>
          <a:blip r:embed="rId1"/>
          <a:stretch/>
        </p:blipFill>
        <p:spPr>
          <a:xfrm>
            <a:off x="2124000" y="1052640"/>
            <a:ext cx="460872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 каким критериям покупатель выбирает поставщика?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сновные критерии</a:t>
            </a:r>
            <a:r>
              <a:rPr b="0" i="1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Стоимость приобретения товаров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и услу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ключает в  себя цену продукции или услуг и не имеющую денежного выражения  стоимость, к которой можно отнести имидж фирм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Качество обслуживания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 -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ючает качество продукции и надежность обслуживания (соблюдение сроков поставки, комплектности парти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чие критерии выбора поставщика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редитоспособность и финансовое положение поставщик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даленность поставщика от потребител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оки выполнения экстренных заказов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личие у поставщика резервных мощносте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собность поставщика обеспечить поставку запчастей в течении всего срока службы поставленного оборуд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апы закуп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тия поста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тавщ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оды выбора поставщ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етоды выбора поставщи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курсные торги (тендер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исьменные перегово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ярмар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аукцион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ыст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оварные бирж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Оптовые центры (для розничной торговли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едства массовой информации (реклама). Специальные изд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ичные связ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Конкурсные торги проводят в том случае, если предприятие предполагает закупить материалы на очень большую сумму или предполагает установить долгосрочные связ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4" name="Picture 0" descr="007"/>
          <p:cNvPicPr/>
          <p:nvPr/>
        </p:nvPicPr>
        <p:blipFill>
          <a:blip r:embed="rId1"/>
          <a:stretch/>
        </p:blipFill>
        <p:spPr>
          <a:xfrm>
            <a:off x="5940360" y="4149720"/>
            <a:ext cx="2808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Проведение тендера включает следующие этап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работка и  публикация тендерной документаци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клама, т.е. привлечение участников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емка и вскрытие тендерных предложений, оценка предложени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тверждение квалификации участников торгов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ожение и присуждение контрак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бедителем конкурсных торгов признается участник, представивший наиболее выгодное, отвечающее квалификационным требованиям тендерное предложе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4"/>
          <p:cNvSpPr/>
          <p:nvPr/>
        </p:nvSpPr>
        <p:spPr>
          <a:xfrm>
            <a:off x="2700360" y="620640"/>
            <a:ext cx="3816360" cy="11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76"/>
                </a:solidFill>
                <a:latin typeface="Verdana"/>
              </a:rPr>
              <a:t>Письм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76"/>
                </a:solidFill>
                <a:latin typeface="Verdana"/>
              </a:rPr>
              <a:t>перегов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826920" y="3141720"/>
            <a:ext cx="2592720" cy="1582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Офе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Тверд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Своб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5364000" y="3141720"/>
            <a:ext cx="2592720" cy="1582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Коммер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ись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10"/>
          <p:cNvSpPr/>
          <p:nvPr/>
        </p:nvSpPr>
        <p:spPr>
          <a:xfrm flipH="1">
            <a:off x="2268360" y="1773360"/>
            <a:ext cx="115128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11"/>
          <p:cNvSpPr/>
          <p:nvPr/>
        </p:nvSpPr>
        <p:spPr>
          <a:xfrm>
            <a:off x="5364000" y="177336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исьменные переговор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между поставщиком    и потребителе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ый вариант письменных переговоров – когда инициатором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поставщик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дукции. Он  направляет письма -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ферты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лагаемым потребителям в которых описывает свои предложения. Оферты включают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именование фирмы-поставщ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именование материалов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цен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личество возможных поставок (партии), их качество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ловия обслуживания и сроки достав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арактеристику тары и упаковк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рядок приемки сдач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ветственность сторон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юридические адреса сторо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вердая оферт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правляется только одному покупатель с указанием срока действия оферты, в течении  которого продавец не может изменить свои условия. Неполучение ответа в течении этого срока считается отказом. Твердые оферты высылаются, как правило, традиционным партнер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Свободная оферт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е включает в себя никаких обязательств продавца по отношению к покупателю. Она может высылаться неограниченному числу потенциальных потребителей и включать как перечисленные выше реквизиты, так и рекламно – информационное обеспеч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При втором способе организации письменных переговоров между поставщиком и потребителем инициатором вступления в переговоры исходит от покупателя. Он рассылает потенциальным поставщика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Коммерческие письма или запросы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запросе указываются все необходимые реквизиты (наименование товара, тара, требуемое количество и качество и прочее.), кроме цены, которая указывается и появляется в ответном предложен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На я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рмарках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жет реализоваться практически любая продукция массового потребления.  Покупатель может ознакомиться с образцами и каталогами продукции, вступив в непосредственный контакт с представителями поставщиков, определить условия этой поставки (объемы, цену и сроки поставки партии, отгрузки) и на этой основе выбирать себе поставщика. Ярмарки проводятся регулярно и в определенных мес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оварные биржи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оторые должны специализироваться на реализации стандартной продукции (главным образом сырья и материалов), дают возможность потребителю приобретать отдельные ее партии с учетом стоимостного фактор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аукционную продаж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могут быть приобретены единичные экземпляры или мелкие партии продукции, идущей на ремонтно-эксплуатационные нужды, производственное или социальное развитие предприя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793116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Этапы закупок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ы  расчета партии заказываемы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вар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ыбор поставщ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" name="Picture 4" descr="compass_2"/>
          <p:cNvPicPr/>
          <p:nvPr/>
        </p:nvPicPr>
        <p:blipFill>
          <a:blip r:embed="rId1"/>
          <a:stretch/>
        </p:blipFill>
        <p:spPr>
          <a:xfrm>
            <a:off x="755640" y="47628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точники анализа для выбора поставщи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ственное расслед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курен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говые ассоциации и т.п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словия анализ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льзя ограничиваться одним источником информ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и должны быть независи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26920" y="364500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онец лекц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Цель логисти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акупк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состоит в том, чтобы найти наиболее эффективный для покупателя способ приобретения и доставки товар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ой логистики закупок является поиск и закупка необходимых товаров удовлетворительного качества по возможно минимальным ценам на наиболе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емлемых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 услов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5502240" y="3357720"/>
            <a:ext cx="30862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8"/>
          <p:cNvSpPr/>
          <p:nvPr/>
        </p:nvSpPr>
        <p:spPr>
          <a:xfrm>
            <a:off x="395280" y="5084640"/>
            <a:ext cx="874872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ение эффективности зак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91440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2195640" y="0"/>
            <a:ext cx="5256000" cy="981000"/>
          </a:xfrm>
          <a:prstGeom prst="downArrowCallout">
            <a:avLst>
              <a:gd name="adj1" fmla="val 133957"/>
              <a:gd name="adj2" fmla="val 13394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324000" y="1052640"/>
            <a:ext cx="8820000" cy="1800000"/>
          </a:xfrm>
          <a:prstGeom prst="downArrowCallout">
            <a:avLst>
              <a:gd name="adj1" fmla="val -92257"/>
              <a:gd name="adj2" fmla="val 122500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332000" y="2852640"/>
            <a:ext cx="6769080" cy="1079640"/>
          </a:xfrm>
          <a:prstGeom prst="downArrowCallout">
            <a:avLst>
              <a:gd name="adj1" fmla="val 156758"/>
              <a:gd name="adj2" fmla="val 156744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бор и оцен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авщ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24000" y="3933720"/>
            <a:ext cx="8820000" cy="1079640"/>
          </a:xfrm>
          <a:prstGeom prst="downArrowCallout">
            <a:avLst>
              <a:gd name="adj1" fmla="val -153813"/>
              <a:gd name="adj2" fmla="val 20423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1008720" y="3933000"/>
            <a:ext cx="71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огласование цены и заключ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догов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67849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3564000" y="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ализ ры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606240" y="1125360"/>
            <a:ext cx="824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ение собственной потреб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чет количества заказываемых тов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ение информаци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отенциальных поставщик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товар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технологи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зменении условий на рын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онкурент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своего места на рын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277920"/>
            <a:ext cx="8229960" cy="759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ализ рын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упатель заранее должен иметь четкое представление о закупаемых товар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не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честве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е закупок на определенный период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ловиях платеж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оках поставк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собах доставки и т.д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277560"/>
            <a:ext cx="8229960" cy="12373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ение собственной потребност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чет количества заказываемых товар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чет размера одной партии (закупки) товаров и количества партий (закупок) на определенный период зависит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первую очередь, от методов управления товарными запасами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2365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Эмпириче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ение величины заказа на основе прогноза (опыта) специалистов в данной обла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ffcc66"/>
                </a:solidFill>
                <a:latin typeface="Verdana"/>
              </a:rPr>
              <a:t>Стохастические метод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спользование математико - статистических методов.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2:36:38Z</dcterms:created>
  <dc:creator>Таисия</dc:creator>
  <dc:description/>
  <dc:language>en-US</dc:language>
  <cp:lastModifiedBy>sokolova</cp:lastModifiedBy>
  <dcterms:modified xsi:type="dcterms:W3CDTF">2016-11-01T10:38:16Z</dcterms:modified>
  <cp:revision>19</cp:revision>
  <dc:subject/>
  <dc:title>Логистика</dc:title>
</cp:coreProperties>
</file>