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50E-E064-4FB9-967D-D45652BB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148-5091-4E79-BEAA-BFB1AF36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D3E67-2F85-448C-8D6B-0A54AD8C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8BFA2-EE6A-4C27-80CA-636171D8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B843C-C7D9-4B8D-AB3F-B350E28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E7E55-BE73-419D-9D60-A98414DA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B84D1-2B9D-4954-BBC8-A841B06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BA577-627F-49DF-87F0-AAB81A9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F6349-94B1-4B19-8481-77A8412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35EF8-EBF1-464C-B9FF-9B47240B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55BDD-A118-443D-808E-A3165B64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639C3-E3B3-4447-80ED-2D16C8E9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1C8-5AC8-45AA-872A-8F3D2A4D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25942-99C9-4D60-B59A-A17BEEAA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7C08A-45A3-44AB-9399-86BE268E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B7EB9-EF0D-4637-9F89-C6CDB412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A84EA-AE22-48BC-B3DE-14EA6972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DAB8F-E113-41ED-9C83-BFCB220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7E7E6-9C55-4822-B982-52489DC2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BB9E2-F920-4DC4-9D64-3683D4B1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22642-63F6-4E2C-9246-23E71A2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B5CDA-160E-4556-9622-69D7F793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6C1F9-7063-4E17-AB2A-2C71689C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719-DC66-4B73-8103-80AABA24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EA94E-3EC1-4821-B949-57E263DD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FB9D8-C005-45B6-A95F-E4CA304E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2B2A5-B931-4786-8B08-54B711D9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630F2-26D4-43E4-B3E9-D23E7FD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487DF-60FB-4B38-B458-F2AA36B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41EC-D125-4ADF-A7A7-18851475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F653F-9BF3-4C7B-A8A3-9C77AA7F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2A210-3593-4E97-9B47-EEBBB66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A7877-B682-4C72-84EA-4DBF4B7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22C78-ACF6-495F-A477-BA2945E3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245A-1950-453A-85D0-20E34ED7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EB45C-72FA-4123-B67C-D3938B45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106B2-0878-4CCE-81E9-5563E6F1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F3BCC-3DCB-4829-87CC-15302CF4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29640-8076-4EBF-A0DB-2F01A787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386B9-B751-4D85-80F9-14C5D03E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84FCF-E3A7-4EC9-8855-FDFF35B9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4B14B-794C-415E-9016-B42EC5D3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09EFC-7328-4095-9DDF-64DCB91B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A0179-C6CE-4913-9E9C-45A34A6B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89A31-FDDB-4134-A5DD-E96BF373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A5B6-3613-416F-8F08-A034DA94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863DB-25DE-4AA0-801A-8FC86E2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7408B-F3E4-4518-942C-3900576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CD1DD-63C8-4594-B7EB-6F85661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F9361-A700-4504-A4F5-078E78A1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3AA42-EF21-4D71-A30F-5E8D5556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A4DDA-AB93-4D6E-8BFB-4AE7766F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30520-ABA6-4ECA-86C0-7800C5E7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3F0B6-FADC-49D0-A3DF-ADAE48D2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28C20-C80D-4FAB-B87B-8A6AB69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F8E19-E33F-41C3-BAE7-F356CE6D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E5D9-EC7E-406D-BA78-5CA1C892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C31ED-2A04-4EB8-AB5D-FEFB19E5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2DED3-2116-4E99-B745-B91459C6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A8FC3-72E7-4554-9A7A-FE75407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DDD06-A87A-4156-B2C2-2D70A200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C8059-ECDB-40AF-9342-17D0B6AE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C361B-8CA6-4598-8A5C-678E1073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12FC3-C345-4076-B3C1-6EDFEE75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7FBEE-A26C-4DCE-99B3-5D3CE0EF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40C13-F87B-4BAD-8F7F-2D304A3F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7E2B8-D646-4304-95E7-27A23608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F7D6-6599-4DF4-AC43-CDFFC799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9E259-8881-42D8-A5FD-3C391277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EE548-37A1-4352-BBB3-3333209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3AE24-602C-4672-BC43-3D2BEE5F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C35E9-DC34-42DB-B492-13F3795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12E8D-A3F9-45BC-8A05-B681CEA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A707B-EA02-4945-9F82-97C13C1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EB8DD-9DCC-42DD-935F-BA187A3E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93180-C57A-4521-B1D8-0059C53C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7F0B1-B0DC-4B62-823B-30211B5A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7739D-19FF-4CDF-8F3A-7CA6C6F4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7653-422B-4724-94F4-B426E597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44319-546A-4412-A160-1538221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F3280-E608-4016-B701-B5ED51B4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3E796-3F7B-4F53-AF38-62405301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18368-89EA-46C2-BA8E-D409025F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521E5-F225-453F-BF92-7EAA49ED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297F1-77B2-49D3-A079-6A22DEF3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AB1CC-2DF4-4568-B5F3-F9173E70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76E34-044F-42FE-97D1-251CE54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3E73A-5217-41AC-831A-811ECEC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1B60C-45B9-497A-A4E2-E700CD54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DEB3-2E45-4813-A762-CD112B07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BC555-E9C6-4E29-A5C0-4ABDCF08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38965-4020-44AD-B8CB-43C46801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3CF60-01BE-4D6A-948C-ED575A9F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EBC43-BA49-4AA8-853E-88EA1952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58F10-B385-4A0E-8C5C-864FC035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D0728-21D4-4466-8744-7236E40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2BBDA-C1EF-4F07-A01C-F3705F5D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CA9E3-7731-4E22-BD4E-F2EE5567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518F9-27B6-4124-8EC5-3D708B88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6F80D-3D28-452A-B30E-E4A0FE4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A47A-A4D2-4D06-931E-192D74FE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D738A-7C3C-4812-9D1E-17083EDD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C57E4-436D-40A2-922D-EFC7A4B7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3EDCD-4B6D-43AF-95C7-FF5CFACA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0E595-FF42-4427-874F-99B228F5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EF7E4-69B1-4DAC-A498-0CA08A78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A8075-0A34-482A-8C21-D16D3AB2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E59F1-BEB3-46F1-954C-7F343A2C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F71A9-48FE-4C4D-9839-93C7F63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2DCE0-519C-4CB5-9A1C-5079F539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5F0D9-ED37-4C14-96F4-0275154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7AA-ECBF-467B-BAC0-15F30BA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9C47-E203-43FF-878A-782F1545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22029-34A2-460E-B92D-C6F12EC1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51E2E-D35D-483F-BBE2-43042AED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04FD8-6AA2-4EB5-BE37-8A1DD3D7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DA303-2E6A-4AB2-94AB-393CA2E0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18B8B-9E96-4863-8A21-5203459B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5A17F-DE01-4298-A618-C3BC1330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23EE1-FB36-4494-BB98-F971009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E12B4-7110-47C4-AD00-8C5E0CF9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B3AE1-87B3-47F8-8618-AA0E244C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C61C3-C220-49DD-A329-C2B1D96B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D787-B9B4-43A7-8656-1818A98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5688E-D727-4B28-9853-5D6629F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82A2F-AEFE-4253-91FD-1E34F8C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5FA94-100C-406C-8039-7B90752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6BDB9-2FCF-4774-8718-6F3D7183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5A733-7401-437E-B3EE-F31F7D3E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7B4B5-705B-4FB6-99CD-C98077F7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56A16-BFCA-496F-98AC-E38ADA0A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0C724-E405-425B-8612-E0EFC2C0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61A7F-F822-43E6-976E-E5631DAE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A34CCB-A2DA-4C3A-AE09-1A04783B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6F9F-3306-4F86-BCC9-8DEADF1F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A3DEA3-07EC-471F-8744-1FB69BD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FCFBDA-91FC-4672-990C-597581D4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F7AE8-B9D9-494D-ABB9-524CE8A1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2503B-7EDF-40A5-A73A-76F21BB1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B4BDB-1473-420E-A008-B3AAB50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FEE0E0-1A37-4686-B8CA-F2238C0B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1F71F-5DDB-492E-BF8E-DC0590BE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DFBAA-BD0D-4297-885A-A393BF64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F5A4D-015E-4183-AD63-13B32A0D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71A22-F962-4BEF-AEE6-FC41254D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DC42-8089-46AB-8B0D-C8E98013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41C70-7725-4A27-B382-5BC73447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A08D3B-6FDA-4D8C-9BD7-C9DB4719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527C2-F430-44DA-98E9-900A6060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291E1-8BEC-4189-BAED-F41075B0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2D878-A6E8-4702-9DE2-B33708B0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90F17-DEDD-4489-81BB-3F75F726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AECAF6-D730-472E-A30F-893009C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8AD7E-F0F8-49BB-AA71-1E61376D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5C13F-25B2-4964-9E6D-6520BD80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07077-F25C-4AB6-9CE9-8FF01B1F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E3E9-3C31-4640-AC99-1673DB8C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DAED5-7B0D-4884-84F5-2E80BCA0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9E454F-D145-4B5B-8932-FF89EADA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7FA65-3203-4E2F-8CCA-E570D2FB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C86F1-10CB-42CA-8BC8-89FEE7CD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A8C99A-DDC0-4B89-A8CD-4179A44D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B10BB-362A-4D09-B8E8-F878B40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0D27B2-54FB-4934-A852-575F32C4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AF3BB9-4ADB-4F83-904D-26019D5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447B6-CEF3-4FE5-8671-1074B3B8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1927E-271B-4BD9-92B1-93C088B0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91C6-7418-49BA-8C28-211E690E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A81B55-5D94-4FC9-8966-667F0B78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E843E-8270-4EF5-984E-7A343667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4C9BB0-8C63-44ED-BF4C-E7F8CF88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50071-3668-446F-9A20-C548C139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01C43-1510-4DCA-A086-DD5A3CC6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F087EF-874A-496A-82B9-296644A0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403969-01B1-4803-AF05-F469C964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4E68D-150D-4B63-A082-E6ECD0C8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6C57D-4C4A-4BF8-94CB-10586B24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B58025-BE06-4716-B889-90A6E51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A57C-BC13-4472-8615-355129EE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5D14D-94AC-435F-89E2-7ADA5005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BC185D-F286-4B53-8EFF-9B897DF4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D5F090-6716-42C3-BF65-184AF5A4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11C1C-72E5-4EF7-B442-D05B08F2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B5FC7-0D41-444A-B30B-0F9A2FC9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8D571B-D623-4F9D-BF78-5091929B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E01E06-371E-4911-9638-9589E236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B9D704-BB47-41B2-A2F1-7F47797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C0FE8C-46E0-40A0-8C68-A17AF344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E69F46-9A7D-4E3B-8253-49F87C85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6B2C-33E2-4CE3-BA85-562B650F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B85F03-B692-42E0-AFDA-85E2998B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F6DEB-F8B7-4077-B702-DA9D8339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7F9674-7B22-42E7-BE9F-4E99EE94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6AD4DF-6C3B-46EC-B5C6-28E2DF58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90ED76-4921-4ED8-B944-A3F764C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DF8287-083C-4463-862F-03229A5B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C7A88E-DFC6-4007-84C1-D1F9A26B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41CD7B-F210-4788-B0B7-1C1405A5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24825B-00A5-42BA-ABCD-98D38FD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7E8D68-A551-4B36-AB22-56643F85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19F38-5353-4246-969E-66C4EE45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EED215-D30C-456E-89BC-D18F787A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7B9869-9CCA-4456-9EB0-0F33CB1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280C34-B9D0-42C6-BCC0-FEB00D55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6E0E88-1A65-418A-AAEC-EA53A21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4A17C9-383A-492A-9687-1F5FE0B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BA0FC2-A156-4572-A9BF-A324163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8C04DC-0B33-4D64-8B72-15EE8234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70F968-9FA3-4CF7-BC52-4E4521C4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277586-BF4D-4C91-A873-AF569A64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49FC-7AC4-4518-AC63-15654A94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5F4-5FA9-4882-8445-7711B1E5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1D9F-7010-4FA6-BFB2-29046633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C812-6EA6-4F48-968E-C80E0658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402D-809D-4FA6-89F4-B90732E8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4229-A196-4006-B2C7-45643D5D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BAB6-AEF3-4C38-8C60-2309D49B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AB98-83E6-4EA7-96D6-5C86F788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03CE7-B28B-4884-A161-CA876BFB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021D-3F40-407D-BAC2-B549A421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DA7BC-1233-4C2F-854F-0132657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1E1A-7F3C-43DC-8B98-9EF318C0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8D4-A039-4EB1-A4D8-AFD86FFE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F7AA-F109-4F0D-8175-3A3A4C19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41AA-C1B2-472A-8FE0-3C0F8227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711EB-3120-4ECB-9087-E1D5E8EC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188B-CB39-41FC-9B75-50F6688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B959-8497-4D86-8AB0-D7AB4791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2F77-D332-4CC0-BDA7-BD6E488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D4153-70E2-4A4B-9DCA-5B0672D0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6E309-41D5-42CD-A8A5-BBAE9E37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70C9-E0D4-45D1-B526-C2EA690B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46028-BA9C-4FA4-907A-EDB6BD8E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01E-9071-404A-80FF-EFE3BA6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28AB-98C5-4C17-BC46-41AEC6EE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9504-28BB-478A-8729-80203B3C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86FC-F4F2-4B44-91D9-FFFC313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6F2C-5FCA-4910-87AC-3383D6B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94B84-7079-4136-9C64-27798F29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990F-5DBE-48D3-B439-07AFE42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CC28-37AB-4A4E-B16C-ED1D26F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99E73-22FC-4E09-B34B-A80B048B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AB291-6C9D-472F-B088-507B739F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57EA-6047-4C3A-B14A-33FE5E67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F89-2462-4A0A-AC47-10C07FF0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2D0C-B99A-40CD-AB3F-C2342FB6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C71B6-14F7-430B-A34A-A3AA96C5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39554-C9F8-48B6-B222-D4B3340E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7689-B47F-467C-9C2B-E3B45336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09D88-7847-4924-B086-61ADD1D6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BE822-DFAE-45DF-97D8-0C35E9A8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45C1D-91E2-48CA-847A-E9D8D4A9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31D1-88F8-434A-BAE6-900C12BE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C1752-E1D1-495B-BC4A-8B6564A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AABD0-296C-4D25-9089-904E08C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19E-16EB-427F-8F11-14E00A0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69D1-A6C5-4212-94BF-163F7FDA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C999-FAB2-4F3A-85F3-A3ADA406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6FC7C-1348-4632-AA56-E7AC553C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07065-32B3-4A18-814A-46CD5AFF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3C3F8-616C-468F-AA0C-E42D4D15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2DBE4-D42F-4ADC-97A9-92D009E9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7A31-6872-4BF6-A9AF-EBCDFD09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240FF-F679-4EC9-99C7-795B5942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45294-A563-43C2-8F54-FC0D4D7A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45D50-1E8A-4CF5-B193-E542AD10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201-C6F2-4D3B-B68B-07EB8D4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59393-B442-4152-A216-FA11C23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C6F62-9D31-4754-9E93-0DA1662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FC5D-38E2-40B4-8427-50514787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3B23-5C81-4600-A0B4-04EB28D3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38D36-F906-4B10-86EF-7BE4F905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B094A-C203-4384-94EB-398E55E3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418B4-E669-4BCE-B7F4-12CB2C62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4C4DE-4BE0-4DD9-8C83-0DFE48D3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14518-DABA-4368-BB67-C22FEE29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CC6CE-ECE5-4A16-83B1-1A28D34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3C3-504F-4BD0-A9C2-30C4BCD0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A48F-2209-49FF-A9EC-3F9E904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8F14B-0D2B-4B8F-A3BC-6AD775A7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8FDD6-336A-4EF9-ADF4-5D3E14A9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41A8E-58CD-4429-8062-9A500A6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95388-E7B0-43FE-8B46-E4B5C78D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CCC2B-7ED4-452A-B00E-CB7A6A6B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C62D7-DDF0-43C5-B12E-3AF5935D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F875B-DBC4-4942-BB67-1C3994A0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B448D-D367-4284-9E71-7BBA437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5C978-29E2-4DB6-99DB-9A0AD470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A85E-D025-444F-B65C-918A4649C2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675E-E2BD-43DE-AFCA-1834A8508E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3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4890-860D-4C7E-99EA-5AFC5FB6B4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8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4D56-9291-4046-B9AF-95D90B4E59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2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F8EA-EA1B-46F7-A0C6-177E3C546A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3B66-8B65-404D-B452-FEBE5DBBD0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969-FB32-4AB0-89B3-F6FEC85A6D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D0E9-D6F7-4B1D-80FB-D95D7D7058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408E-57FD-45C4-A899-622F07898F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31F-D296-4CD3-B6CD-F0BFD5B9EF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8C94-DA33-4C7C-A358-FF03DF583B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94B3-337E-417A-85A6-A340F3D8E1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A48C-2B0B-428F-8DC9-E4E6CCE62A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3E4-DFD9-4A27-A235-13E81AC1CC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AC92-A093-4611-9972-E022D67E02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70E2-7CA8-48C6-9C83-0F9785F287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19B4-AB1B-429B-8E49-39224BA8B5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4722-F811-45B0-8E11-F64B44D7C3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02E-86B1-467F-AA5B-AA0C87AF2E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2978-BF6E-4553-A817-F957C17953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165C-FD2F-4E6C-ABE0-EFF7EB6C90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F5A-E24D-45E7-93B8-73F07A76F1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9A23-767C-455E-BB60-040598C969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4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653-DEB4-420C-B293-AAFE1205B2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16"/>
          <p:cNvSpPr/>
          <p:nvPr/>
        </p:nvSpPr>
        <p:spPr>
          <a:xfrm>
            <a:off x="0" y="325800"/>
            <a:ext cx="74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доровое питание - один из основополагающих моментов здорового образа жизни и, следовательно, сохранения и укрепления здоровья. Это существенный и постоянно действующий фактор, обеспечивающий адекватные процессы роста и развития организма. Рациональное здоровое питание обеспечивает гармоничное физическое и нервно-психическое развитие детей, повышает сопротивляемость к инфекционным заболеваниям и устойчивость к неблагоприятным условиям внешне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7"/>
          <p:cNvSpPr/>
          <p:nvPr/>
        </p:nvSpPr>
        <p:spPr>
          <a:xfrm>
            <a:off x="0" y="4164480"/>
            <a:ext cx="32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едует помнить, что питание является одним из важнейших факторов, способным оказывать негативное влияние на формирующийся организм детей и подростков при неправильной его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19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5651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 последнее время медики с сожалением констатируют значительное ухудшение состояния здоровья у детей и подростков – изменение показателей физического развития, обменных процессов, заболевания желудочно-кишечного тракта, сердечно-сосудистой системы, опорно-двигательной, неврологические нарушения, различные аллергические проявления, возникающие еще в самом раннем возрасте и усугубляющиеся к школьному возрасту. Повышается утомляемость. Возникают различные депрессивные состояния. Широко известен синдром хронической устал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2"/>
          <a:stretch/>
        </p:blipFill>
        <p:spPr>
          <a:xfrm>
            <a:off x="5219640" y="3141720"/>
            <a:ext cx="3924360" cy="371628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9"/>
          <p:cNvSpPr/>
          <p:nvPr/>
        </p:nvSpPr>
        <p:spPr>
          <a:xfrm>
            <a:off x="5033880" y="720"/>
            <a:ext cx="4110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сходящее в настоящее время укоренение новых пищевых привычек и смещение приоритетов питания в сторону фаст-фудов,высокожировых, рафинированных продуктов и блюд, газированных напитков – разнообразные фанты и колы, чипсы, гамбургеры, хот-доги, супы, лапша, пюре быстрого пригот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1"/>
          <p:cNvSpPr/>
          <p:nvPr/>
        </p:nvSpPr>
        <p:spPr>
          <a:xfrm>
            <a:off x="0" y="505944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Бутербродный» стиль питания. Уменьшение в рационе питания количества овощей, фруктов, кисломолочных продуктов, рыбы, мяса - это реалии сегодняшнего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4" descr="здоровое питание юного спортсмена"/>
          <p:cNvPicPr/>
          <p:nvPr/>
        </p:nvPicPr>
        <p:blipFill>
          <a:blip r:embed="rId1"/>
          <a:stretch/>
        </p:blipFill>
        <p:spPr>
          <a:xfrm>
            <a:off x="-5056200" y="1900080"/>
            <a:ext cx="2476440" cy="305784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8"/>
          <p:cNvSpPr/>
          <p:nvPr/>
        </p:nvSpPr>
        <p:spPr>
          <a:xfrm>
            <a:off x="0" y="-186480"/>
            <a:ext cx="48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очень много тратит времени на дорогу к месту учебы, тренировок. Зачастую в суточном бюджете времени дорога занимает от 2 до 4-5 часов. И это происходит практически ежедневно. Ребенок лишен возможности домашнего здорового питания и с самого раннего возраста знакомится с ассортиментом школьных буфетов, столовых и и кафе спортивных комплексов. В большинстве случаев картина выглядит крайне безрадостно. Не смотря на активно проводящуюся работу, которую было бы правильнее назвать борьбой за здоровое питание, наличие в школах и других учебных заведения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7" descr="здоровое питание юного спортсмена"/>
          <p:cNvPicPr/>
          <p:nvPr/>
        </p:nvPicPr>
        <p:blipFill>
          <a:blip r:embed="rId2"/>
          <a:stretch/>
        </p:blipFill>
        <p:spPr>
          <a:xfrm>
            <a:off x="-5056200" y="1900080"/>
            <a:ext cx="2476440" cy="3057840"/>
          </a:xfrm>
          <a:prstGeom prst="rect">
            <a:avLst/>
          </a:prstGeom>
          <a:ln w="0">
            <a:noFill/>
          </a:ln>
        </p:spPr>
      </p:pic>
      <p:sp>
        <p:nvSpPr>
          <p:cNvPr id="1029" name="Rectangle 10"/>
          <p:cNvSpPr/>
          <p:nvPr/>
        </p:nvSpPr>
        <p:spPr>
          <a:xfrm>
            <a:off x="5003640" y="2457360"/>
            <a:ext cx="385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редко ребенку предоставляется еще и право выбора – есть горячий завтрак или покупать себе что-то в школьном буфете, где в ассортименте представлены те самые чипсы, соленые орешки и сухарики, пицца, хот-доги, жвачка, разнообразные крашенные сладкие газированные напитки. Устоять перед соблазном практически невозможно. Так формируются и закрепляются привычки в питании, устойчивое пищевое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13" descr=""/>
          <p:cNvPicPr/>
          <p:nvPr/>
        </p:nvPicPr>
        <p:blipFill>
          <a:blip r:embed="rId3"/>
          <a:stretch/>
        </p:blipFill>
        <p:spPr>
          <a:xfrm>
            <a:off x="0" y="4221000"/>
            <a:ext cx="3995640" cy="2637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4" descr="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4"/>
          <p:cNvSpPr/>
          <p:nvPr/>
        </p:nvSpPr>
        <p:spPr>
          <a:xfrm>
            <a:off x="0" y="288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ЛКИ – это основной пластический материал для роста, развития и обновления организма. Они представляют собой основные структурные элементы всех тканей, входят в состав жидкой среды организма. Белки пищи расходуются на построение эритроцитов и гемоглобина, ферментов и гормонов, принимают активное участие в выработке защитных факторов – антит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"/>
          <p:cNvSpPr/>
          <p:nvPr/>
        </p:nvSpPr>
        <p:spPr>
          <a:xfrm>
            <a:off x="4859280" y="115200"/>
            <a:ext cx="428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недостаточном содержании белка в рационе в организме могут развиться тяжелые нарушения (гипотрофия, анемия, пр.), чаще возникают острые респираторные заболевания, которые принимают затяжное течение. Однако и избыток белка может отрицательно сказываться на здоровье. При длительном использовании высокобелковой пищи страдает функция почек и печени, повышается нервная возбудимость, часто появляются аллергические реакции, возможны интоксикации вследствие неполного распада и окисления белков с образованием токсических веществ.Биологическая ценность белка в пищевом рационе значительно возрастает при условии здорового питания</a:t>
            </a:r>
            <a:r>
              <a:rPr b="0" i="1" lang="ru-RU" sz="1800" spc="-1" strike="noStrike">
                <a:solidFill>
                  <a:srgbClr val="ff993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6" descr=""/>
          <p:cNvPicPr/>
          <p:nvPr/>
        </p:nvPicPr>
        <p:blipFill>
          <a:blip r:embed="rId1"/>
          <a:stretch/>
        </p:blipFill>
        <p:spPr>
          <a:xfrm>
            <a:off x="0" y="3933720"/>
            <a:ext cx="44276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4"/>
          <p:cNvSpPr/>
          <p:nvPr/>
        </p:nvSpPr>
        <p:spPr>
          <a:xfrm>
            <a:off x="0" y="13104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ильное питание – определенные и постоянные часы приема еды. При этом пища распределяется в течение суток по количеству калорий, набору химических элементов содержащихся в еде. Кроме того, обязательно учитывается набор блюд и их количество. Зрелым и физически здоровым людям специалисты по правильному питанию рекомендуют кушать в течение суток три или четыре 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пределение продуктов по часам приема очень сильно зависит от состава и энергетического потенциала. Например: продукты с высоким содержанием белка – мясо, рыба, бобовые стоит употреблять на завтрак или обед. Такие продукты повышают активность центральной нервной системы. Перед сном стоит кушать кисломолочные продукты, фрукты и овощи. Они не нагружают пищеварительные органы. Не стоит употреблять на ночь чай, кофе, острые приправы. Так вы можете активизировать нервную систему и нарушить сон. Излишнее количество еды или ее недостаток тоже ухудшают сон. Прием еды лучше всего стоит начинать с салатов или овощей. Так вы активизируете деятельность желудка и увеличите выделение желудочного сока.. Для хорошей усвояемости пищи, ее необходимо тщательно пережевы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Picture 6" descr=""/>
          <p:cNvPicPr/>
          <p:nvPr/>
        </p:nvPicPr>
        <p:blipFill>
          <a:blip r:embed="rId1"/>
          <a:stretch/>
        </p:blipFill>
        <p:spPr>
          <a:xfrm>
            <a:off x="4716360" y="0"/>
            <a:ext cx="2303640" cy="18446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7" descr=""/>
          <p:cNvPicPr/>
          <p:nvPr/>
        </p:nvPicPr>
        <p:blipFill>
          <a:blip r:embed="rId2"/>
          <a:stretch/>
        </p:blipFill>
        <p:spPr>
          <a:xfrm>
            <a:off x="6877080" y="1844640"/>
            <a:ext cx="2266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7:20:12Z</dcterms:created>
  <dc:creator>ann</dc:creator>
  <dc:description/>
  <dc:language>en-US</dc:language>
  <cp:lastModifiedBy>Кирилл</cp:lastModifiedBy>
  <dcterms:modified xsi:type="dcterms:W3CDTF">2014-09-11T16:38:35Z</dcterms:modified>
  <cp:revision>11</cp:revision>
  <dc:subject/>
  <dc:title>Правильное пит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60000000000010243000207f6000400038000</vt:lpwstr>
  </property>
</Properties>
</file>