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81D5-D871-4A38-9570-BCC551E4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7164-6645-45D1-AD44-6FC30A29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23EB4-FFC7-4C40-B677-82C9B851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18E0D-0363-4F97-89A1-1D797B59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708E0-4564-4626-94BD-7BE4B136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5BA92-5DE2-41BB-A721-F13AAD5E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7899D-071F-484D-8C50-EBF4A26E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67366-72F3-4D8D-BE8C-340A5681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0A51C-F899-4E7C-994A-1929D676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CFEE0-089F-44A5-A4A3-6C527EEF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7ADB3-2913-45D6-854E-D8DE839F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83DD1-F229-47E9-93A2-1B8093D1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0F4E-FEBB-48D5-AA7A-18596CB3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A65B1-306D-4701-91CB-D9E2D082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798EB-6151-4D88-AFDE-AB536FB5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EB047-D7B9-42C8-A2C2-E7E3DC23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E0D2B-73BB-41C6-828A-263924CB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5E1E7-F0D2-4E30-BF7D-F9D406F0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389BC-B060-42F1-9573-A154AB5A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40CDD-5895-4AAB-BC61-A55CE1C1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6FD58-BDEE-45CA-9C71-757B4665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DFA19-DADE-465D-AF2B-E2CCEB37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4580E-E4C9-4777-94FB-307FED99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6BDA-37C4-4672-8B30-961C75E5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C4E02-C131-4C8A-B2AD-28743092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83090-6880-4130-B963-88D0867A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F9750-020E-4251-BAA6-D7B5926C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F44F1-874F-479F-A804-37B827FF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880CC-781B-40F4-ABB4-8D1D2C71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01DD4-9754-4628-86B4-3FCCA787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A22E1-D897-43B0-AC49-AF990BCA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089D5-2E82-4724-9193-23D23ED0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B6DFE-1AD7-4E40-9DD4-97769E3E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4F14D-8B72-4ADA-89AC-C9434D94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23A5-3921-4369-A40D-BAEAAFB4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694EC-C107-46CF-8D6B-38C860CC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BE4BE-0CDD-4C88-AA93-FEDF9271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F8444-DD7C-4FAF-86C3-253B6DA7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ED8C8-9C3B-41C9-A11E-9FBAC974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09449-2910-4137-8F30-252B0C28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39AEE-776F-424B-B0DA-DCAC3991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D8BBF-985C-4C2C-9EB4-8D5C13CA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43962-3CD4-44C2-A4BC-D5E09E93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8784C-9890-4631-86E2-3E95B31C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C374E-467C-4F57-8D9D-0E8E9C8D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0EAF-6770-4752-AC18-E5BB0E8F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9D9E4-22D1-4CA0-B4F8-5B7901FE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86F28-24FF-425F-B3BA-EC290D03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D0AA1-F133-432D-8730-C484351C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05193-8694-4F2D-8A84-D2DAE34D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F46ED-9E0B-4BA5-A90B-34AA3CD4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FEC496-4965-4F50-BC01-F9C3974A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54799-9A13-4869-9E8F-9E0CF679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9CDD86-D5AE-4728-88FE-88C1B9FE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C284B9-0DEC-454C-93B7-0BE056A3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1A591-73A6-4FBD-8929-8EDBA8BD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F6C7-1286-4A66-80D4-C2213792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D82A61-BD5F-4C40-A48E-34313ECB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8CC7C-EC46-4F19-B037-B707555B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0D96B-6632-4194-9BBE-553BB747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2EB59-E454-49B1-9CD0-43933E1A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FF86FC-6151-4B41-B5B0-AAB527F9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98D0EF-61FB-48B0-9ACC-85C32CC1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B45A2-C348-4B4D-BC98-66BD7C42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833C7-DCD5-4CB0-9EF2-1ECA517D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AF33C7-A363-4D08-8D1A-CDACB0FB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77E0B4-4B10-4F5F-8D94-1FDCA604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8263-74A7-46A8-96D4-E100CAF6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1715EF-F49F-4D30-A7F6-50A17CF7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2F7D24-B238-423D-8E93-F85EAF00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A13EA3-8FD9-486B-BB42-643E1577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30A746-9796-443B-A651-87EC0E12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23BA2A-0C4E-4499-B714-15CD1ABF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3AF48D-D782-4F08-8B7A-CB465C0F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A75F36-40D8-4E3E-A867-7376077D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3AAA92-F02B-41FF-9FF4-94139519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273AB2-337B-48B0-BA41-974D9158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72D09A-A658-4592-B9E0-36925D4F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DAD5-BA68-47DA-A8EC-9BEFA1C6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1F02FD-06A0-4BED-B2AF-154244E0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8055AE-51F5-4E43-AED5-092AC52A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E22383-0E69-4D77-8A0A-CC27C8DC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97007C-513D-45C3-8EF4-6BD6D806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7819B4-F729-4722-B56D-13CC42F3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31C388-8F16-42A2-9E17-D88374DB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B97C9C-3025-43CB-964E-304F2846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FA2C27-5BDF-4DB2-B990-DF1CAD5C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6990BA-9430-473D-B473-D2B749C6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55C918-75E0-434B-85FA-DF961A6F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441C-9066-4012-A186-FF620F0B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2306B7-10A4-4A2C-93A2-7723144E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026321-82DB-45A8-B583-751DD885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B1FB93-7182-403C-AA9A-40B0C394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66228B-89C4-4D24-B550-FD5EAA64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840C17-523F-41E8-B12A-FBF6B887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270F4A-6EE9-4386-8F2C-6663F8C0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1B2B2F-EFD2-48A3-9964-CE4E7A6C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61F6A0-20A7-4784-9D4C-F1FB53B2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80BC38-60EF-4012-A08A-53DE972C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9E0357-7D9C-4A52-B7E7-445215D5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C754-9C06-42D8-A918-825BC5A8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0D5661-01CF-4DC5-84CF-6C0754E2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B517FB-5C48-468F-AF66-2831EF51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1F677D-99ED-4666-868A-A71CB88F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B25870-06E5-44FC-8C90-810C9FE4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87CBE7-0B8C-40AD-94EC-E472B879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8CFF72-7D61-4057-B81D-2ED28921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9024A4-5E36-4A22-8BBF-D23A7BAB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09C7C2-5432-428F-BF5C-EBC276E0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D0247B-EA28-4174-A00D-7E02AEFB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6B7A04-45CE-44FE-BCD3-8424E04F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ADA8-E233-4C5F-8ED3-BEC60783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7630-2548-4B53-AA27-F31C8995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559436-19C3-4A97-B306-BB03136D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CE494A-2039-41CB-94D4-05AE3294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7E54A7-278B-42BE-9A6E-CA7A41E2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A1CA1B-B6DD-4D00-A994-7BD4AD62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7834FA-067E-451D-A123-DF6D1F0D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59B2D1-6A5F-4CD5-98BD-42B05A2D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1157B5-AE37-41BB-A042-0B47C041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4357E1-B6B7-4339-9D74-4B52A9C4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C497FB-4926-475C-A8CC-3949198F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6C88CC-604E-4036-B430-91649F1D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351C-5621-4D47-A4A8-2BE70F59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2AFCF9-218B-44A6-BA8D-F69081EE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5AD6AE-32EA-41AB-B323-BC9F25A7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23E5E3-8677-472D-8CB0-97DC9DCD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39F233-4C1D-4EBA-9354-AFC7C1C1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770413-1672-4BDD-B1A1-64B1E2E2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59DBBC-5AB1-4D3F-8A42-2145847C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95932B-C260-4E19-9268-1224E862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38A23B-7BE7-4834-80A3-7A9EABE1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B3E138-DF29-46BA-BFF7-B40B9B6B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60FB0B-729B-4BDA-8BA4-996A4693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0373-786B-471F-9E81-BC2E2742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B0E437-941F-458F-B72E-C6FAEDDE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A3EE31-1C13-446C-A7F5-6957E1BD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8DD2D4-DF74-433B-951D-DD5CAF73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9D94D4-B931-4AD4-881E-D1D1DA8E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F647DC-1146-41FB-897E-D7AAC158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74D87A-7FFE-46FD-956B-5729829A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7C1F1E-9F7B-4363-BB89-9647CD21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71EC5B-AB25-4D63-B63D-2DD0F036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06B909-987A-4380-808E-AAF62DE8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0459A5-E6C7-4E25-93C2-9B9200F2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B1A0-1868-4584-9011-5B269661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407E40-10CD-4B2A-AE25-E180165A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50B3E7-79FF-4644-8B09-80766D19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642243-BDC1-4E65-BA6F-168AF699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055999-737E-4D4A-B0CE-6EFD937A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0DAC07-94F3-4E1B-8B72-DB1838ED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AFF55F-4CEC-4A0C-866E-7A16D261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5AB817-E9C0-4693-AC36-0CE79842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0F111F-4D59-4DD3-AEB9-E30D9121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7F0FD8-C08A-4584-88C2-3E81A3C5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16233C-036C-4F4C-BD2C-A84789F9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6D47-229F-4E8F-9C3D-E7AB9EDA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5963C2-50CA-4627-8194-AE2119BD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CA56CF-34A8-4416-BE66-8E5632F9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6D4C6E-9862-4535-8A33-F5B94A32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12D63D-9185-4B2A-922C-A13373C1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C4ED30-04C1-482F-B3C7-091AD015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72B567-AB89-4160-BDF5-C6E771F3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0EBA92-B206-4A1B-96B6-FC226955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2A2D18-224A-4346-BA0F-4AB6AFE1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A6E97A-EEA9-4EEB-9E6B-66D6E1EE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EF7B50-CBF8-440A-9F74-A52D9D34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B175E-56BA-44DC-93A4-4D2D5862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B5283D-B19A-40FF-BF95-8F27F25E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5AAFA0-5C3D-4C15-98C2-4E4C7143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CE5A47-4667-465D-8509-DACC79B7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253842-A64C-4C50-BA6E-47AEB4BF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57585A-04E8-4BA5-ACA2-854FD93C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E165D5-F3E2-4E93-BFC5-A0A0D156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166ECB-C04D-4C64-BDD6-9997617C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BA513D-B1CE-4786-8B78-1ECE5B34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55DA4B-A9C0-4306-ABE4-3A15DEAA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C14054-1B54-453B-ACC9-6469457D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DE572-2456-4A0E-89C7-C7314607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C3EDFF-C4D2-44AA-833F-490E7D6F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F21931-411B-4BD1-9A5F-5A6DAEAA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978DAB-1AF7-4CA9-ABA7-04710A7D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45BEF3-BAAB-409E-A249-387E1C9B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820334-6F87-4FD3-86F0-65BE4407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2E46E3-8984-4364-A765-254C3C86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E70FB5-63BF-4E00-8180-0710EE0B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8625E3-0E66-4AA0-85A3-5D978953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804678-627A-47DF-BC75-B6D623FD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50ADCC-4244-495F-9F9C-A268676F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B200D-D578-45AD-ADF7-06E2B5D1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E647F4-004D-4C65-AD6D-761DC9F5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021602-3FC7-4F67-B2CD-D1EF2BCC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F8458F-CF37-4EB2-AA0F-4A7D6402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4340E8-7EEB-4C47-8556-47A4B7C9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34F94E-1EF0-4C13-9958-A784FEE4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04995E-ACF4-42E0-868B-64BC0BF9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7D02E2-93F2-40A2-9D79-55339041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038C21-DD0A-46A8-A991-4CDD2EBD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0EBF3D-B2BF-4C46-88EC-F2E3A045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8CF3AF-4B5A-4A25-BAE5-7052F6B9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3D8C9-CE37-4F43-85F9-6C52E5D9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D83FFA-172F-4CE5-92CC-875FE25B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A18E2A-91CE-486D-BA6A-CA04E38E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91667C-7570-45F7-935B-3E0CB504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C32BBD-E955-4549-ABFF-6D0F01AA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A4A5C9-5025-4342-BB33-208D57C4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A0F063-A496-43DE-AA8C-81D23EB0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DDF071-0F84-43B1-8637-716BF439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89CB9D-B669-4986-8721-566EFA8F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45322A-A563-410E-B491-723BABDD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A7B91-E1F2-4A2A-8AD3-4B6DCE9F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A09E-DA55-4DCB-AD06-C9428FA4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88935-82AE-40EA-8BE8-951D67E2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2CAE9-0207-4E54-A88D-B534BA85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842B8-350B-4A51-8107-736B6F76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43B3F-93CA-4660-AA1F-96CCE15A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3751A-3A3F-43A7-8CC6-20CF9A79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BFE5C-632C-476C-ACA6-8172D84D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37AF3-B0BD-4CC6-9DA4-984294DD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95B09-A252-42B6-B00C-B20EB5F9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67CFF-F671-4D6E-A275-6A4B310C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476A8-4250-4625-B602-59432F04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1244-41D6-4C9D-A442-18BC3B44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E29C1-20AB-4BC2-84F7-D4118F33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0A1F8-E430-4AD4-81E6-D0EAB226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D1470-9B65-4711-ABEC-45F5737F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651AC-C841-41CE-8176-B0DFFB6A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07121-1DBB-4E4F-85DC-4F9F76EF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0A601-9298-4B78-A14C-AF25B984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73EBE-0526-45FA-AF19-13A4C21E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496FC-CD90-4458-BF79-87C965DE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AA1B5-936C-44C7-9CE3-54E277C9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2FA28-5EEC-4BF5-867B-148A539A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0574-50C8-4250-9941-9E05B02B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9421B-5AD6-4085-8B3D-0FAD7000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F0481-83C0-4AA8-89BF-F4310F43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61113-7041-47C7-93D2-4F494D97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E2212-F1A6-47E8-B557-49544F8F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E22F5-5703-41A1-84C8-5B607805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A46EB-197F-4EE0-B8A9-C4BE4182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1EEC6-DED4-4BE5-A3C0-7108D619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D09B4-FB70-4490-A3E5-A8A50F20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7AD4E-ABA4-497B-A3C0-331EA766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E8A5D-159B-4147-98FF-909D11CB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79B6-B683-468C-8C4C-90EFF102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6814A-0C87-43F0-B405-16938452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D7AB3-8457-4394-80EC-1782FAE3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EC68A-BA17-4FAE-8267-517AE209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23727-9031-4468-AA96-7B64B6CE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060BA-E0D6-449B-8FCD-D3A99AA8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ADA2B-3CFE-41C7-ADCD-8BBB0F59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43834-2457-404E-B4F7-1EB86700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4FB65-7F47-4E79-866C-323F00E3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A7B97-231B-4A77-A90F-BD0B68AD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6EA8A-8AAC-4615-A873-F49CC1AD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2C2-3BF6-4144-B091-993B338A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C3265-B164-439B-A883-DD57DF41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50670-EA0D-40F2-B84D-0D1589C2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2703D-1460-4917-9597-7CB5977E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6948D-3727-47E7-9A77-A8E8F974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85D4E-BDDD-45A1-8B22-856A47C0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DA50A-9F77-4CAA-AC92-8F7DC829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E0C78-5ECD-4ECF-9ADA-A903944E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4BCBB-816C-4788-9D48-C4682B53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A6BC3-B3E2-45B5-901F-1D981F31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7D738-71DD-428D-9646-5BD2ABCD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3E0-5F9F-49B8-B261-E89D1961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CFA36-6962-42A7-9D2C-5CA7E287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AA067-227A-442A-B123-1B3FEC22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28147-2259-4A2F-9430-7ED9C220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AB9D2-6324-4A0D-8BA6-9D5A1716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54ABB-D88A-4BBB-A40F-BEBAEB34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833CA-0BC2-4E0C-9917-1DE7B2E3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2981F-671E-46B4-B091-85933C0C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1840E-6DC1-4613-945C-71EDA843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2BFD4-3EB5-4799-A773-5FE592E8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5B604-80E6-4697-80DA-5DA2AB4B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AE16-23B0-49BC-9CE8-FD7C20F6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E5824-D174-4C8D-A4AF-5FA0A548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D4898-DBF4-4ED1-B56D-9B7F1C6E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B1DE0-CC18-4770-9547-10DFF04A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AE263-26F1-4AFD-ADCA-D2F54A0E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72E71-CF23-40A1-983F-46F7C596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52DF0-FA16-4B57-978E-6E47AFB6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39C74-B2B2-49E0-9896-E913B662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33638-9291-426C-8E9C-5F23E9BC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D9BA8-53F4-4328-A62E-472149AE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F17CA-C470-4748-B9DC-BE8AAB58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8E19-C3DA-4FEC-A575-BD0A96B9BA9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9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8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30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B376-7A19-4803-97C0-87B2968647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36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7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3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F4AF-1161-4E59-8DBE-06C8C55F592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8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0CF6-33BD-4A88-B661-B387FDE94D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52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5660-4850-4EB7-B284-9D574B3DFD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B8BC-F055-4342-8FD1-75232E83F57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9538-3F29-4B9C-942C-C6E54E3D84E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9B7F-0C84-4CE5-B9EB-8C4E4CCA249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D075-40B0-4AE6-A7F5-AFFE4259176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2C82-201A-4E0D-8E47-785A7AB60A1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F243-8EC9-4126-B848-EDDC4F7FAED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8013-5532-4230-B048-6768D10A5F5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7F2B-C58F-445C-83DF-D15723A0AB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5605-0020-4936-BAA3-E9F8FB607E4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3D7B-D025-42E7-B2DF-6F2750BB0E8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C4E4-3496-4942-9688-CBF09959489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2B42-C6BF-47AC-88CD-F751B1DFCCC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47F0-A973-4AF1-8BEF-0A13241CFE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28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5F73-BF7F-408E-8AC8-421D4D6540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F86B-FB7A-47C9-BDEC-4433602CC0A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16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5624-2D26-4F09-B0BD-95648B80E43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6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552B-3C49-443F-B1B7-B327E9E8CB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0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FCE2-B4AC-41EF-9948-EAE015D4027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48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9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D297-B721-4D60-B864-CB7DB09C0E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авильное и здоровое питание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16"/>
          <p:cNvSpPr/>
          <p:nvPr/>
        </p:nvSpPr>
        <p:spPr>
          <a:xfrm>
            <a:off x="0" y="325800"/>
            <a:ext cx="745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доровое питание - один из основополагающих моментов здорового образа жизни и, следовательно, сохранения и укрепления здоровья. Это существенный и постоянно действующий фактор, обеспечивающий адекватные процессы роста и развития организма. Рациональное здоровое питание обеспечивает гармоничное физическое и нервно-психическое развитие детей, повышает сопротивляемость к инфекционным заболеваниям и устойчивость к неблагоприятным условиям внешней ср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17"/>
          <p:cNvSpPr/>
          <p:nvPr/>
        </p:nvSpPr>
        <p:spPr>
          <a:xfrm>
            <a:off x="0" y="4164480"/>
            <a:ext cx="327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едует помнить, что питание является одним из важнейших факторов, способным оказывать негативное влияние на формирующийся организм детей и подростков при неправильной его 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Picture 19" descr=""/>
          <p:cNvPicPr/>
          <p:nvPr/>
        </p:nvPicPr>
        <p:blipFill>
          <a:blip r:embed="rId1"/>
          <a:stretch/>
        </p:blipFill>
        <p:spPr>
          <a:xfrm>
            <a:off x="3492360" y="2924280"/>
            <a:ext cx="565164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 последнее время медики с сожалением констатируют значительное ухудшение состояния здоровья у детей и подростков – изменение показателей физического развития, обменных процессов, заболевания желудочно-кишечного тракта, сердечно-сосудистой системы, опорно-двигательной, неврологические нарушения, различные аллергические проявления, возникающие еще в самом раннем возрасте и усугубляющиеся к школьному возрасту. Повышается утомляемость. Возникают различные депрессивные состояния. Широко известен синдром хронической устал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3" name="Picture 8" descr=""/>
          <p:cNvPicPr/>
          <p:nvPr/>
        </p:nvPicPr>
        <p:blipFill>
          <a:blip r:embed="rId2"/>
          <a:stretch/>
        </p:blipFill>
        <p:spPr>
          <a:xfrm>
            <a:off x="5219640" y="3141720"/>
            <a:ext cx="3924360" cy="3716280"/>
          </a:xfrm>
          <a:prstGeom prst="rect">
            <a:avLst/>
          </a:prstGeom>
          <a:ln w="0">
            <a:noFill/>
          </a:ln>
        </p:spPr>
      </p:pic>
      <p:sp>
        <p:nvSpPr>
          <p:cNvPr id="1024" name="Rectangle 9"/>
          <p:cNvSpPr/>
          <p:nvPr/>
        </p:nvSpPr>
        <p:spPr>
          <a:xfrm>
            <a:off x="5033880" y="720"/>
            <a:ext cx="4110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исходящее в настоящее время укоренение новых пищевых привычек и смещение приоритетов питания в сторону фаст-фудов,высокожировых, рафинированных продуктов и блюд, газированных напитков – разнообразные фанты и колы, чипсы, гамбургеры, хот-доги, супы, лапша, пюре быстрого пригото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11"/>
          <p:cNvSpPr/>
          <p:nvPr/>
        </p:nvSpPr>
        <p:spPr>
          <a:xfrm>
            <a:off x="0" y="5059440"/>
            <a:ext cx="40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Бутербродный» стиль питания. Уменьшение в рационе питания количества овощей, фруктов, кисломолочных продуктов, рыбы, мяса - это реалии сегодняшнего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99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4" descr="здоровое питание юного спортсмена"/>
          <p:cNvPicPr/>
          <p:nvPr/>
        </p:nvPicPr>
        <p:blipFill>
          <a:blip r:embed="rId1"/>
          <a:stretch/>
        </p:blipFill>
        <p:spPr>
          <a:xfrm>
            <a:off x="-5056200" y="1900080"/>
            <a:ext cx="2476440" cy="3057840"/>
          </a:xfrm>
          <a:prstGeom prst="rect">
            <a:avLst/>
          </a:prstGeom>
          <a:ln w="0">
            <a:noFill/>
          </a:ln>
        </p:spPr>
      </p:pic>
      <p:sp>
        <p:nvSpPr>
          <p:cNvPr id="1027" name="Rectangle 8"/>
          <p:cNvSpPr/>
          <p:nvPr/>
        </p:nvSpPr>
        <p:spPr>
          <a:xfrm>
            <a:off x="0" y="-186480"/>
            <a:ext cx="489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бенок очень много тратит времени на дорогу к месту учебы, тренировок. Зачастую в суточном бюджете времени дорога занимает от 2 до 4-5 часов. И это происходит практически ежедневно. Ребенок лишен возможности домашнего здорового питания и с самого раннего возраста знакомится с ассортиментом школьных буфетов, столовых и и кафе спортивных комплексов. В большинстве случаев картина выглядит крайне безрадостно. Не смотря на активно проводящуюся работу, которую было бы правильнее назвать борьбой за здоровое питание, наличие в школах и других учебных заведениях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8" name="Picture 7" descr="здоровое питание юного спортсмена"/>
          <p:cNvPicPr/>
          <p:nvPr/>
        </p:nvPicPr>
        <p:blipFill>
          <a:blip r:embed="rId2"/>
          <a:stretch/>
        </p:blipFill>
        <p:spPr>
          <a:xfrm>
            <a:off x="-5056200" y="1900080"/>
            <a:ext cx="2476440" cy="3057840"/>
          </a:xfrm>
          <a:prstGeom prst="rect">
            <a:avLst/>
          </a:prstGeom>
          <a:ln w="0">
            <a:noFill/>
          </a:ln>
        </p:spPr>
      </p:pic>
      <p:sp>
        <p:nvSpPr>
          <p:cNvPr id="1029" name="Rectangle 10"/>
          <p:cNvSpPr/>
          <p:nvPr/>
        </p:nvSpPr>
        <p:spPr>
          <a:xfrm>
            <a:off x="5003640" y="2457360"/>
            <a:ext cx="3851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редко ребенку предоставляется еще и право выбора – есть горячий завтрак или покупать себе что-то в школьном буфете, где в ассортименте представлены те самые чипсы, соленые орешки и сухарики, пицца, хот-доги, жвачка, разнообразные крашенные сладкие газированные напитки. Устоять перед соблазном практически невозможно. Так формируются и закрепляются привычки в питании, устойчивое пищевое повед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Picture 13" descr=""/>
          <p:cNvPicPr/>
          <p:nvPr/>
        </p:nvPicPr>
        <p:blipFill>
          <a:blip r:embed="rId3"/>
          <a:stretch/>
        </p:blipFill>
        <p:spPr>
          <a:xfrm>
            <a:off x="0" y="4221000"/>
            <a:ext cx="3995640" cy="26370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4" descr=""/>
          <p:cNvPicPr/>
          <p:nvPr/>
        </p:nvPicPr>
        <p:blipFill>
          <a:blip r:embed="rId4"/>
          <a:stretch/>
        </p:blipFill>
        <p:spPr>
          <a:xfrm>
            <a:off x="5292720" y="0"/>
            <a:ext cx="385128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4"/>
          <p:cNvSpPr/>
          <p:nvPr/>
        </p:nvSpPr>
        <p:spPr>
          <a:xfrm>
            <a:off x="0" y="2880"/>
            <a:ext cx="381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ЕЛКИ – это основной пластический материал для роста, развития и обновления организма. Они представляют собой основные структурные элементы всех тканей, входят в состав жидкой среды организма. Белки пищи расходуются на построение эритроцитов и гемоглобина, ферментов и гормонов, принимают активное участие в выработке защитных факторов – антите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5"/>
          <p:cNvSpPr/>
          <p:nvPr/>
        </p:nvSpPr>
        <p:spPr>
          <a:xfrm>
            <a:off x="4859280" y="115200"/>
            <a:ext cx="4284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 недостаточном содержании белка в рационе в организме могут развиться тяжелые нарушения (гипотрофия, анемия, пр.), чаще возникают острые респираторные заболевания, которые принимают затяжное течение. Однако и избыток белка может отрицательно сказываться на здоровье. При длительном использовании высокобелковой пищи страдает функция почек и печени, повышается нервная возбудимость, часто появляются аллергические реакции, возможны интоксикации вследствие неполного распада и окисления белков с образованием токсических веществ.Биологическая ценность белка в пищевом рационе значительно возрастает при условии здорового питания</a:t>
            </a:r>
            <a:r>
              <a:rPr b="0" i="1" lang="ru-RU" sz="1800" spc="-1" strike="noStrike">
                <a:solidFill>
                  <a:srgbClr val="ff993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4" name="Picture 6" descr=""/>
          <p:cNvPicPr/>
          <p:nvPr/>
        </p:nvPicPr>
        <p:blipFill>
          <a:blip r:embed="rId1"/>
          <a:stretch/>
        </p:blipFill>
        <p:spPr>
          <a:xfrm>
            <a:off x="0" y="3933720"/>
            <a:ext cx="442764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4"/>
          <p:cNvSpPr/>
          <p:nvPr/>
        </p:nvSpPr>
        <p:spPr>
          <a:xfrm>
            <a:off x="0" y="131040"/>
            <a:ext cx="48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авильное питание – определенные и постоянные часы приема еды. При этом пища распределяется в течение суток по количеству калорий, набору химических элементов содержащихся в еде. Кроме того, обязательно учитывается набор блюд и их количество. Зрелым и физически здоровым людям специалисты по правильному питанию рекомендуют кушать в течение суток три или четыре р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37458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спределение продуктов по часам приема очень сильно зависит от состава и энергетического потенциала. Например: продукты с высоким содержанием белка – мясо, рыба, бобовые стоит употреблять на завтрак или обед. Такие продукты повышают активность центральной нервной системы. Перед сном стоит кушать кисломолочные продукты, фрукты и овощи. Они не нагружают пищеварительные органы. Не стоит употреблять на ночь чай, кофе, острые приправы. Так вы можете активизировать нервную систему и нарушить сон. Излишнее количество еды или ее недостаток тоже ухудшают сон. Прием еды лучше всего стоит начинать с салатов или овощей. Так вы активизируете деятельность желудка и увеличите выделение желудочного сока.. Для хорошей усвояемости пищи, ее необходимо тщательно пережевы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7" name="Picture 6" descr=""/>
          <p:cNvPicPr/>
          <p:nvPr/>
        </p:nvPicPr>
        <p:blipFill>
          <a:blip r:embed="rId1"/>
          <a:stretch/>
        </p:blipFill>
        <p:spPr>
          <a:xfrm>
            <a:off x="4716360" y="0"/>
            <a:ext cx="2303640" cy="18446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7" descr=""/>
          <p:cNvPicPr/>
          <p:nvPr/>
        </p:nvPicPr>
        <p:blipFill>
          <a:blip r:embed="rId2"/>
          <a:stretch/>
        </p:blipFill>
        <p:spPr>
          <a:xfrm>
            <a:off x="6877080" y="1844640"/>
            <a:ext cx="22669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07:20:12Z</dcterms:created>
  <dc:creator>ann</dc:creator>
  <dc:description/>
  <dc:language>en-US</dc:language>
  <cp:lastModifiedBy>Кирилл</cp:lastModifiedBy>
  <dcterms:modified xsi:type="dcterms:W3CDTF">2014-09-11T16:38:35Z</dcterms:modified>
  <cp:revision>11</cp:revision>
  <dc:subject/>
  <dc:title>Правильное пита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60000000000010243000207f6000400038000</vt:lpwstr>
  </property>
</Properties>
</file>