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1497-C66C-4066-9243-A2BD79CC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5444-F4DF-41F1-BA36-5FA90301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E8B6-1C8C-43C9-8FFA-E791E6648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4500-CC84-4CA6-9EFB-716ED6683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034A-912B-49C4-9982-63C97407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09A6-2E17-4B39-8A9B-D0267959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AAEC-8989-4C28-B1AC-C37CFB1E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E364-5F38-458D-A066-BACCDC84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05EC-BDA6-494B-BC67-C425DA26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84EF-D5DD-463B-9D29-FA4388C9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A668-609F-42D8-B9A7-469231E3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C8F0-F403-40B4-B946-D9683DBB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657B3BB-A6C0-4D48-97B5-36BC548C141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"/>
          <p:cNvSpPr txBox="1"/>
          <p:nvPr/>
        </p:nvSpPr>
        <p:spPr>
          <a:xfrm>
            <a:off x="755640" y="476280"/>
            <a:ext cx="6480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5724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latin typeface="Arial"/>
              </a:rPr>
              <a:t>ЗОНА </a:t>
            </a:r>
            <a:endParaRPr b="1" lang="en-US" sz="1800" spc="1" strike="noStrike">
              <a:ln cap="sq" w="5724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5724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latin typeface="Arial"/>
              </a:rPr>
              <a:t>АРКТИЧЕСКИХ</a:t>
            </a:r>
            <a:endParaRPr b="1" lang="en-US" sz="1800" spc="1" strike="noStrike">
              <a:ln cap="sq" w="5724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5724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latin typeface="Arial"/>
              </a:rPr>
              <a:t>ПУСТЫНЬ</a:t>
            </a:r>
            <a:endParaRPr b="1" lang="en-US" sz="1800" spc="1" strike="noStrike">
              <a:ln cap="sq" w="5724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5040360" cy="295596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4584240" y="5376960"/>
            <a:ext cx="408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у выполнил ученик 4 А класс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гимназии №1 г. Липец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рьяновский Давид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: Андриянова Е.В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1"/>
          <p:cNvSpPr/>
          <p:nvPr/>
        </p:nvSpPr>
        <p:spPr>
          <a:xfrm>
            <a:off x="2987640" y="765000"/>
            <a:ext cx="5832360" cy="1872000"/>
          </a:xfrm>
          <a:prstGeom prst="wedgeRoundRectCallout">
            <a:avLst>
              <a:gd name="adj1" fmla="val -64398"/>
              <a:gd name="adj2" fmla="val -22601"/>
              <a:gd name="adj3" fmla="val 16667"/>
            </a:avLst>
          </a:prstGeom>
          <a:solidFill>
            <a:srgbClr val="ffffff"/>
          </a:solidFill>
          <a:ln cap="sq"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omic Sans MS"/>
              </a:rPr>
              <a:t>Что такое «</a:t>
            </a:r>
            <a:r>
              <a:rPr b="1" lang="ru-RU" sz="4400" spc="-1" strike="noStrike">
                <a:solidFill>
                  <a:srgbClr val="800000"/>
                </a:solidFill>
                <a:latin typeface="Comic Sans MS"/>
              </a:rPr>
              <a:t>архипелаг</a:t>
            </a:r>
            <a:r>
              <a:rPr b="1" lang="ru-RU" sz="4400" spc="-1" strike="noStrike">
                <a:solidFill>
                  <a:srgbClr val="000066"/>
                </a:solidFill>
                <a:latin typeface="Comic Sans MS"/>
              </a:rPr>
              <a:t>»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620640"/>
            <a:ext cx="3160800" cy="42544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2771640" y="3357720"/>
            <a:ext cx="6121440" cy="308016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Значительная </a:t>
            </a: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группа</a:t>
            </a: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 морских </a:t>
            </a: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островов</a:t>
            </a: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, расположенных на небольшом расстоянии друг от друга и обычно имеющих одинаковое происхождение и сходное геологическое стро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6300720" cy="4741920"/>
          </a:xfrm>
          <a:prstGeom prst="rect">
            <a:avLst/>
          </a:prstGeom>
          <a:ln w="0">
            <a:noFill/>
          </a:ln>
        </p:spPr>
      </p:pic>
      <p:sp>
        <p:nvSpPr>
          <p:cNvPr id="45" name="WordArt 2"/>
          <p:cNvSpPr txBox="1"/>
          <p:nvPr/>
        </p:nvSpPr>
        <p:spPr>
          <a:xfrm>
            <a:off x="900000" y="476280"/>
            <a:ext cx="7488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ТЕПЛОВЫЕ ПОЯСА ЗЕМЛИ</a:t>
            </a:r>
            <a:endParaRPr b="1" lang="en-US" sz="1800" spc="1" strike="noStrike">
              <a:ln cap="sq"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6" name="WordArt 3"/>
          <p:cNvSpPr txBox="1"/>
          <p:nvPr/>
        </p:nvSpPr>
        <p:spPr>
          <a:xfrm>
            <a:off x="3851280" y="3789360"/>
            <a:ext cx="15112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кватор</a:t>
            </a:r>
            <a:endParaRPr b="0" lang="en-US" sz="1800" spc="1" strike="noStrike">
              <a:ln cap="sq"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3924360" y="4292640"/>
            <a:ext cx="14288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тропик</a:t>
            </a:r>
            <a:endParaRPr b="0" lang="en-US" sz="1800" spc="1" strike="noStrike">
              <a:ln cap="sq"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3924360" y="3141720"/>
            <a:ext cx="14288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тропик</a:t>
            </a:r>
            <a:endParaRPr b="0" lang="en-US" sz="1800" spc="1" strike="noStrike">
              <a:ln cap="sq"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971640" y="5877000"/>
            <a:ext cx="2592360" cy="39888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ЮЖНЫЙ ПОЛЮ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364000" y="1268280"/>
            <a:ext cx="2737080" cy="39888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ЕВРНЫЙ ПОЛЮ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8"/>
          <p:cNvSpPr txBox="1"/>
          <p:nvPr/>
        </p:nvSpPr>
        <p:spPr>
          <a:xfrm>
            <a:off x="3924360" y="2349360"/>
            <a:ext cx="142884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66"/>
                  </a:solidFill>
                  <a:miter/>
                </a:ln>
                <a:solidFill>
                  <a:srgbClr val="000066"/>
                </a:solidFill>
                <a:latin typeface="Arial"/>
              </a:rPr>
              <a:t>полярный круг</a:t>
            </a:r>
            <a:endParaRPr b="0" lang="en-US" sz="1800" spc="1" strike="noStrike">
              <a:ln cap="sq" w="9360">
                <a:solidFill>
                  <a:srgbClr val="000066"/>
                </a:solidFill>
                <a:miter/>
              </a:ln>
              <a:solidFill>
                <a:srgbClr val="000066"/>
              </a:solidFill>
              <a:latin typeface="Arial"/>
              <a:ea typeface="Arial"/>
            </a:endParaRPr>
          </a:p>
        </p:txBody>
      </p:sp>
      <p:sp>
        <p:nvSpPr>
          <p:cNvPr id="52" name="WordArt 9"/>
          <p:cNvSpPr txBox="1"/>
          <p:nvPr/>
        </p:nvSpPr>
        <p:spPr>
          <a:xfrm>
            <a:off x="3924360" y="5084640"/>
            <a:ext cx="142884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66"/>
                  </a:solidFill>
                  <a:miter/>
                </a:ln>
                <a:solidFill>
                  <a:srgbClr val="000066"/>
                </a:solidFill>
                <a:latin typeface="Arial"/>
              </a:rPr>
              <a:t>полярный круг</a:t>
            </a:r>
            <a:endParaRPr b="0" lang="en-US" sz="1800" spc="1" strike="noStrike">
              <a:ln cap="sq" w="9360">
                <a:solidFill>
                  <a:srgbClr val="000066"/>
                </a:solidFill>
                <a:miter/>
              </a:ln>
              <a:solidFill>
                <a:srgbClr val="000066"/>
              </a:solidFill>
              <a:latin typeface="Arial"/>
              <a:ea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6588000" y="4076640"/>
            <a:ext cx="2305080" cy="70380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ТРОПИЧЕСКИЙ ПОЯ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6300720" y="1844640"/>
            <a:ext cx="2376720" cy="70380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еверный полярный поя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755640" y="5013360"/>
            <a:ext cx="2376360" cy="70380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Южный полярный поя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108000" y="2781360"/>
            <a:ext cx="2376360" cy="70380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ТРОПИЧЕСКИЙ ПОЯ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6588000" y="5300640"/>
            <a:ext cx="2160720" cy="70380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УМЕРЕННЫЙ ПОЯ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826920" y="1484280"/>
            <a:ext cx="2160720" cy="70380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УМЕРЕННЫЙ ПОЯ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6"/>
          <p:cNvSpPr/>
          <p:nvPr/>
        </p:nvSpPr>
        <p:spPr>
          <a:xfrm>
            <a:off x="4500720" y="5516640"/>
            <a:ext cx="288720" cy="287280"/>
          </a:xfrm>
          <a:prstGeom prst="irregularSeal1">
            <a:avLst/>
          </a:prstGeom>
          <a:solidFill>
            <a:srgbClr val="00ffff"/>
          </a:solidFill>
          <a:ln cap="sq"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7"/>
          <p:cNvSpPr/>
          <p:nvPr/>
        </p:nvSpPr>
        <p:spPr>
          <a:xfrm>
            <a:off x="4500720" y="1844640"/>
            <a:ext cx="288720" cy="287280"/>
          </a:xfrm>
          <a:prstGeom prst="irregularSeal1">
            <a:avLst/>
          </a:prstGeom>
          <a:solidFill>
            <a:srgbClr val="00ffff"/>
          </a:solidFill>
          <a:ln cap="sq"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Line 18"/>
          <p:cNvSpPr/>
          <p:nvPr/>
        </p:nvSpPr>
        <p:spPr>
          <a:xfrm flipH="1">
            <a:off x="5433480" y="1989000"/>
            <a:ext cx="868680" cy="71640"/>
          </a:xfrm>
          <a:prstGeom prst="line">
            <a:avLst/>
          </a:prstGeom>
          <a:ln cap="sq"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 flipH="1">
            <a:off x="4786200" y="1700280"/>
            <a:ext cx="795600" cy="142920"/>
          </a:xfrm>
          <a:prstGeom prst="line">
            <a:avLst/>
          </a:prstGeom>
          <a:ln cap="sq"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 flipH="1">
            <a:off x="5649840" y="4508640"/>
            <a:ext cx="868320" cy="71280"/>
          </a:xfrm>
          <a:prstGeom prst="line">
            <a:avLst/>
          </a:prstGeom>
          <a:ln cap="sq"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Line 21"/>
          <p:cNvSpPr/>
          <p:nvPr/>
        </p:nvSpPr>
        <p:spPr>
          <a:xfrm flipH="1" flipV="1">
            <a:off x="5433480" y="5443200"/>
            <a:ext cx="1155960" cy="291960"/>
          </a:xfrm>
          <a:prstGeom prst="line">
            <a:avLst/>
          </a:prstGeom>
          <a:ln cap="sq"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22"/>
          <p:cNvSpPr/>
          <p:nvPr/>
        </p:nvSpPr>
        <p:spPr>
          <a:xfrm flipV="1">
            <a:off x="3564000" y="5803560"/>
            <a:ext cx="1008000" cy="361800"/>
          </a:xfrm>
          <a:prstGeom prst="line">
            <a:avLst/>
          </a:prstGeom>
          <a:ln cap="sq"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Line 23"/>
          <p:cNvSpPr/>
          <p:nvPr/>
        </p:nvSpPr>
        <p:spPr>
          <a:xfrm flipV="1">
            <a:off x="3132000" y="5372280"/>
            <a:ext cx="792360" cy="217440"/>
          </a:xfrm>
          <a:prstGeom prst="line">
            <a:avLst/>
          </a:prstGeom>
          <a:ln cap="sq"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24"/>
          <p:cNvSpPr/>
          <p:nvPr/>
        </p:nvSpPr>
        <p:spPr>
          <a:xfrm>
            <a:off x="2484360" y="3282840"/>
            <a:ext cx="792360" cy="1800"/>
          </a:xfrm>
          <a:prstGeom prst="line">
            <a:avLst/>
          </a:prstGeom>
          <a:ln cap="sq"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25"/>
          <p:cNvSpPr/>
          <p:nvPr/>
        </p:nvSpPr>
        <p:spPr>
          <a:xfrm>
            <a:off x="3059280" y="2133720"/>
            <a:ext cx="720720" cy="358560"/>
          </a:xfrm>
          <a:prstGeom prst="line">
            <a:avLst/>
          </a:prstGeom>
          <a:ln cap="sq"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1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1"/>
          <p:cNvSpPr/>
          <p:nvPr/>
        </p:nvSpPr>
        <p:spPr>
          <a:xfrm>
            <a:off x="2987640" y="765000"/>
            <a:ext cx="5832360" cy="5256360"/>
          </a:xfrm>
          <a:prstGeom prst="wedgeRoundRectCallout">
            <a:avLst>
              <a:gd name="adj1" fmla="val -59171"/>
              <a:gd name="adj2" fmla="val -32814"/>
              <a:gd name="adj3" fmla="val 16667"/>
            </a:avLst>
          </a:prstGeom>
          <a:solidFill>
            <a:srgbClr val="ffffff"/>
          </a:solidFill>
          <a:ln cap="sq"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omic Sans MS"/>
              </a:rPr>
              <a:t>Сегодня я буду сопровождать вас по зонам </a:t>
            </a:r>
            <a:r>
              <a:rPr b="1" lang="ru-RU" sz="4400" spc="-1" strike="noStrike">
                <a:solidFill>
                  <a:srgbClr val="800000"/>
                </a:solidFill>
                <a:latin typeface="Comic Sans MS"/>
              </a:rPr>
              <a:t>арктических пустынь -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omic Sans MS"/>
              </a:rPr>
              <a:t>Я там каждую льдинку зна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620640"/>
            <a:ext cx="3160800" cy="42544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0" y="4172040"/>
            <a:ext cx="9144000" cy="26542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Арктическая пустыня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 («Арктос» в переводе с греческого — </a:t>
            </a: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медведь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) — природная зона, часть арктического географического пояса, бассейна </a:t>
            </a: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Северного Ледовитого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 океана. Это самая северная из природных зон, характеризуется арктическим климатом. Пространства покрыты ледниками, щебнем и обломками камне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WordArt 2"/>
          <p:cNvSpPr txBox="1"/>
          <p:nvPr/>
        </p:nvSpPr>
        <p:spPr>
          <a:xfrm>
            <a:off x="1116000" y="260280"/>
            <a:ext cx="7561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57240">
                  <a:solidFill>
                    <a:srgbClr val="000066"/>
                  </a:solidFill>
                  <a:miter/>
                </a:ln>
                <a:solidFill>
                  <a:srgbClr val="66ffff"/>
                </a:solidFill>
                <a:latin typeface="Arial"/>
              </a:rPr>
              <a:t>ЧТО СКАЖЕТ </a:t>
            </a:r>
            <a:endParaRPr b="1" lang="en-US" sz="1800" spc="1" strike="noStrike">
              <a:ln cap="sq" w="57240">
                <a:solidFill>
                  <a:srgbClr val="000066"/>
                </a:solidFill>
                <a:miter/>
              </a:ln>
              <a:solidFill>
                <a:srgbClr val="66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57240">
                  <a:solidFill>
                    <a:srgbClr val="000066"/>
                  </a:solidFill>
                  <a:miter/>
                </a:ln>
                <a:solidFill>
                  <a:srgbClr val="66ffff"/>
                </a:solidFill>
                <a:latin typeface="Arial"/>
              </a:rPr>
              <a:t>ЭНЦИКЛОПЕДИЯ?</a:t>
            </a:r>
            <a:endParaRPr b="1" lang="en-US" sz="1800" spc="1" strike="noStrike">
              <a:ln cap="sq" w="57240">
                <a:solidFill>
                  <a:srgbClr val="000066"/>
                </a:solidFill>
                <a:miter/>
              </a:ln>
              <a:solidFill>
                <a:srgbClr val="66ffff"/>
              </a:solidFill>
              <a:latin typeface="Arial"/>
              <a:ea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2195640" y="1484280"/>
            <a:ext cx="4608360" cy="26510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75" name="WordArt 2"/>
          <p:cNvSpPr txBox="1"/>
          <p:nvPr/>
        </p:nvSpPr>
        <p:spPr>
          <a:xfrm>
            <a:off x="684360" y="260280"/>
            <a:ext cx="7775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28440">
                  <a:solidFill>
                    <a:srgbClr val="99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Где зона Арктических пустынь?</a:t>
            </a:r>
            <a:endParaRPr b="1" lang="en-US" sz="1800" spc="1" strike="noStrike">
              <a:ln cap="sq" w="28440">
                <a:solidFill>
                  <a:srgbClr val="99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7596360" y="765000"/>
            <a:ext cx="320400" cy="4320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2083 C -0.02257 0.01041 -0.00694 0.0155 -0.04791 0.01828 C -0.05329 0.02083 -0.0592 0.0206 -0.06458 0.02314 C -0.06632 0.02407 -0.06684 0.02708 -0.0684 0.02824 C -0.07066 0.02963 -0.07326 0.02986 -0.07569 0.03055 C -0.08454 0.03842 -0.09323 0.04838 -0.10347 0.05277 C -0.10625 0.05648 -0.11007 0.05902 -0.11284 0.06273 C -0.11441 0.06481 -0.1151 0.06782 -0.11649 0.07013 C -0.12309 0.08078 -0.15746 0.13171 -0.16458 0.14166 C -0.16909 0.15925 -0.29045 0.10347 -0.29982 0.12199 C -0.30694 0.13611 -0.36718 0.05949 -0.37951 0.07013 C -0.38385 0.07916 -0.49496 0.14421 -0.49791 0.15162 E">
                                      <p:cBhvr>
                                        <p:cTn id="29" dur="5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0" y="549360"/>
            <a:ext cx="8964720" cy="478764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Арктические пустын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Арктика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 — край незаходящего солнца летом и затяжной зимней ночи, озаряемой полярными сияниями; мир морозов, метелей, дрейфующих льдов, обширных ледников и арктических пустынь. Арктика делится на </a:t>
            </a: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две 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зоны: </a:t>
            </a: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ледяную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 зону и зону </a:t>
            </a: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арктических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пустынь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. </a:t>
            </a: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Ледяная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 зона — это моря </a:t>
            </a: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Северного Ледовитого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 океана вместе с островами. А зона арктических пустынь занимает ничтожные лоскутки каменистой суши, на короткий срок освобождающихся из-под снега на островах и на материке.</a:t>
            </a: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0" y="4902120"/>
            <a:ext cx="9144000" cy="192276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О́стров </a:t>
            </a: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Вра́нгеля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 — российский остров в </a:t>
            </a: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Северном Ледовитом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 океане между </a:t>
            </a: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Восточно-Сибирским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 и </a:t>
            </a: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Чукотским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 морями. Назван в честь российского мореплавателя и государственного деятеля </a:t>
            </a: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XIX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 века </a:t>
            </a: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Фердинанда Петровича Врангеля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.</a:t>
            </a: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348000" y="122400"/>
            <a:ext cx="5796000" cy="4641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468360" y="0"/>
            <a:ext cx="2557440" cy="28479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0" y="2924280"/>
            <a:ext cx="3203640" cy="201420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Барон </a:t>
            </a:r>
            <a:r>
              <a:rPr b="1" lang="ru-RU" sz="1800" spc="-1" strike="noStrike">
                <a:solidFill>
                  <a:srgbClr val="800000"/>
                </a:solidFill>
                <a:latin typeface="Comic Sans MS"/>
              </a:rPr>
              <a:t>Фердина́нд (Фёдор) Петро́вич Вра́нгель</a:t>
            </a: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— российский мореплаватель и полярный исследователь, адмира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9145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"/>
          <p:cNvSpPr/>
          <p:nvPr/>
        </p:nvSpPr>
        <p:spPr>
          <a:xfrm>
            <a:off x="0" y="2997360"/>
            <a:ext cx="9144000" cy="375300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Comic Sans MS"/>
              </a:rPr>
              <a:t>Остров </a:t>
            </a:r>
            <a:r>
              <a:rPr b="1" i="1" lang="ru-RU" sz="2000" spc="-1" strike="noStrike">
                <a:solidFill>
                  <a:srgbClr val="800000"/>
                </a:solidFill>
                <a:latin typeface="Comic Sans MS"/>
              </a:rPr>
              <a:t>Врангеля</a:t>
            </a:r>
            <a:r>
              <a:rPr b="1" i="1" lang="ru-RU" sz="20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- уникальный регион в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Арктике</a:t>
            </a: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. На острове расположен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Национальный</a:t>
            </a: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 заповедник «Остров Врангеля», включенный в список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Мирового Наследия Юнеско</a:t>
            </a: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. Остров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Врангеля</a:t>
            </a: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 известен благодаря огромным лежбищам моржа (одни из крупнейших в Арктике), а также наибольшей во всем мире плотностью родовых берлог белого медведя. Этот район важен как место нагула серых китов, мигрирующих сюда со стороны Калифорнии, и как место гнездования для более чем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 50</a:t>
            </a: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 видов птиц, многие из которых отнесены к редким и исчезающим. На острове зафиксировано более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400</a:t>
            </a: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 видов и разновидностей сосудистых растений, то есть больше, чем на любом другом арктическом остров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"/>
          <p:cNvSpPr/>
          <p:nvPr/>
        </p:nvSpPr>
        <p:spPr>
          <a:xfrm>
            <a:off x="0" y="4594320"/>
            <a:ext cx="9144000" cy="222840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Новосиби́рские </a:t>
            </a: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острова́ — принадлежащий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России</a:t>
            </a: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 архипелаг в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Северном Ледовитом</a:t>
            </a: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 океане между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Морем Лаптевых</a:t>
            </a: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 и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Восточно-Сибирским </a:t>
            </a: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морем, административно относится к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Якутии</a:t>
            </a: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.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Новосибирские</a:t>
            </a: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 острова входят в состав охранной зоны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Государственного</a:t>
            </a: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 природного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заповедника «Усть-Ленский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остоит из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3-х</a:t>
            </a: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 групп островов: Ляховские острова, острова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Анжу</a:t>
            </a: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 и острова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Де-Лонга</a:t>
            </a: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1:17:46Z</dcterms:created>
  <dc:creator>Элла</dc:creator>
  <dc:description/>
  <dc:language>en-US</dc:language>
  <cp:lastModifiedBy>User</cp:lastModifiedBy>
  <dcterms:modified xsi:type="dcterms:W3CDTF">2016-11-21T20:14:48Z</dcterms:modified>
  <cp:revision>53</cp:revision>
  <dc:subject/>
  <dc:title>Слайд 1</dc:title>
</cp:coreProperties>
</file>