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6C1-7BE2-4EF2-9BD7-4959CBC2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602-CB0C-4C4D-980F-4DF2BF3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639-C303-471D-9F54-75B6721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8CD-4020-41D3-9498-FB62A5FB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038-C777-46BF-8CE6-0710204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407-25B0-49DD-8CBC-175F72A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C7B-6724-49B8-9EC9-3CB86961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D0F-90C7-43D6-A010-1A426A0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844-2713-4A12-B2FA-275FC7F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A58-3CC2-4C2B-8773-514C2EE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DB7-21AC-45DC-99C6-9B2BAE7C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14C-31D5-4251-8FC1-6A9A3EE0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FB2588-9B3A-4D8E-AF16-D2E2E700A7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755640" y="47628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ЗОНА 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АРКТИЧЕСКИХ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ПУСТЫНЬ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040360" cy="2955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584240" y="5376960"/>
            <a:ext cx="40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4 А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и №1 г. Липец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ьяновский Дав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Андриянова Е.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5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0" y="4898880"/>
            <a:ext cx="9144000" cy="19234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́верная Земля́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(ранее Земля́ Никола́я II) — российский архипелаг 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м Ледовит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кеане. Административно входит в соста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Таймырск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(Долгано-Ненецкого) муниципального района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Красноярск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края. Необита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На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й Земле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находится самая северная островная точка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Азии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— мыс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Арктический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на острове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Комсомолец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0" y="4902120"/>
            <a:ext cx="9144000" cy="19227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Земля́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Фра́нца-Ио́сифа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— архипелаг в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м Ледовито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кеане, на севере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Европы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 Часть полярных владений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России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, входит в состав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Приморског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района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Архангельской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бласти. Состоит из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191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стр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472000" cy="4104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0" y="4902120"/>
            <a:ext cx="9144000" cy="19227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Земля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Франца-Иосифа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— одна из самых северных территорий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России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мира. Состоит из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191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строва. Делится на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части: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восточную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, отделённую от других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Австрийски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проливом, с крупными островами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Земля Вильчека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8657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573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4594320"/>
            <a:ext cx="9144000" cy="2228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Но́вая Земля́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— архипелаг 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м Ледовит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кеане между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Баренцевы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Карским морями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 Архипелаг состоит из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двух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больших островов —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Южн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, разделённых узким проливом (2—3 км)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Маточкин Шар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, и множеством относительно малых, крупнейший из которых остро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Междушарский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 Северо-восточная оконечность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Северн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строва — мыс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Флиссингский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— является самой восточной точкой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  <a:ea typeface="Microsoft YaHei"/>
              </a:rPr>
              <a:t>Европы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0" y="1251000"/>
            <a:ext cx="9144000" cy="55803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Климат в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Арктике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очень суровый: низкие температуры воздуха зимой (до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−60 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°), в среднем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−30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˚С в январе и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+3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˚С в ию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Ледяной и снежный покровы держатся почти весь год. Зимой здесь долгая полярная ночь (на 75° с. . —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98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суток; на 80° . . —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127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суток; в районе полюса —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полгода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). Это очень суровое время года. Температура понижается до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−40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 ° и ниже, дуют сильные ураганные ветры, часты бураны.                                                        Летом — круглосуточное освещение, но тепла мало, почва не успевает полностью оттаять. Температура воздуха чуть выше 0 ° . Небо часто затянуто серыми облаками, идет дождь (нередко со снегом), из-за сильного испарения воды с поверхности океана образуются густые тум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2843280" y="260280"/>
            <a:ext cx="48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38160">
                  <a:solidFill>
                    <a:srgbClr val="0000ff"/>
                  </a:solidFill>
                  <a:custDash>
                    <a:ds d="100000" sp="100000"/>
                  </a:custDash>
                  <a:miter/>
                </a:ln>
                <a:solidFill>
                  <a:srgbClr val="61e1ff"/>
                </a:solidFill>
                <a:latin typeface="Arial"/>
              </a:rPr>
              <a:t>КЛИМАТ</a:t>
            </a:r>
            <a:endParaRPr b="1" lang="en-US" sz="1800" spc="1" strike="noStrike">
              <a:ln cap="sq" w="38160">
                <a:solidFill>
                  <a:srgbClr val="0000ff"/>
                </a:solidFill>
                <a:custDash>
                  <a:ds d="100000" sp="100000"/>
                </a:custDash>
                <a:miter/>
              </a:ln>
              <a:solidFill>
                <a:srgbClr val="61e1ff"/>
              </a:solidFill>
              <a:latin typeface="Arial"/>
              <a:ea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826920" y="0"/>
            <a:ext cx="9432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2987640" y="476280"/>
            <a:ext cx="5832360" cy="792000"/>
          </a:xfrm>
          <a:prstGeom prst="wedgeRoundRectCallout">
            <a:avLst>
              <a:gd name="adj1" fmla="val -59171"/>
              <a:gd name="adj2" fmla="val 100499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Отгадайте загад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3160800" cy="4254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/>
          <p:cNvSpPr/>
          <p:nvPr/>
        </p:nvSpPr>
        <p:spPr>
          <a:xfrm>
            <a:off x="2843280" y="2205000"/>
            <a:ext cx="6300720" cy="439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Что за чудо-чуде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Загорелись небес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Ой, горит-пылает пла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Над сверкающими льда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Кто зажёг огонь чудесн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Никого за тучей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Это с неба льётся с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1908000" y="6237360"/>
            <a:ext cx="46674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61e1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НОЕ СИЯНИЕ</a:t>
            </a:r>
            <a:endParaRPr b="1" lang="en-US" sz="1800" spc="1" strike="noStrike">
              <a:ln cap="sq" w="9360">
                <a:solidFill>
                  <a:srgbClr val="61e1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1"/>
          <p:cNvSpPr txBox="1"/>
          <p:nvPr/>
        </p:nvSpPr>
        <p:spPr>
          <a:xfrm>
            <a:off x="2843280" y="260280"/>
            <a:ext cx="489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38160">
                  <a:solidFill>
                    <a:srgbClr val="003300"/>
                  </a:solidFill>
                  <a:custDash>
                    <a:ds d="100000" sp="100000"/>
                  </a:custDash>
                  <a:miter/>
                </a:ln>
                <a:solidFill>
                  <a:srgbClr val="66ff66"/>
                </a:solidFill>
                <a:latin typeface="Arial"/>
              </a:rPr>
              <a:t>ФЛОРА</a:t>
            </a:r>
            <a:endParaRPr b="1" lang="en-US" sz="1800" spc="1" strike="noStrike">
              <a:ln cap="sq" w="38160">
                <a:solidFill>
                  <a:srgbClr val="003300"/>
                </a:solidFill>
                <a:custDash>
                  <a:ds d="100000" sp="100000"/>
                </a:custDash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1424160" cy="1916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2205000"/>
            <a:ext cx="9144000" cy="39333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Арктическая пустыня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 практически лишена растительности: нет кустарников,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лишайники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мхи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не образуют сплошного покрова. Почвы, маломощные, с пятнистым (островным) распространением в основном только под растительностью, которая состоит главным образом из осок, некоторых злаков, лишайников и мхов. Крайне </a:t>
            </a: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медленная восстанавливаемость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расти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17:46Z</dcterms:created>
  <dc:creator>Элла</dc:creator>
  <dc:description/>
  <dc:language>en-US</dc:language>
  <cp:lastModifiedBy>User</cp:lastModifiedBy>
  <dcterms:modified xsi:type="dcterms:W3CDTF">2016-11-21T20:15:37Z</dcterms:modified>
  <cp:revision>54</cp:revision>
  <dc:subject/>
  <dc:title>Слайд 1</dc:title>
</cp:coreProperties>
</file>