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D6D-54FC-4FD1-B0E4-6DFCD6FC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239-2530-4E48-A40D-F438780D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89D-75E7-4E9A-8594-E2A21A2A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B6D-F1ED-45F3-A2D3-66ABB221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3FD-CD6C-47E2-ADF3-0CD6C1FA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D51-1EC3-41B1-9FF1-F9E75E24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C96-6BBF-44EC-BEA2-9C739403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795-DC02-4082-9BF3-0FB656E6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171-320A-40D9-8747-380AC1E5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E4F-1F80-492A-A24F-7386DE18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65F-C73C-42AE-A961-E926C39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87C-C25C-44FB-936D-308BBC0D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E217FA-0AE8-4BC8-AB64-9B36AD8B8C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"/>
          <p:cNvSpPr txBox="1"/>
          <p:nvPr/>
        </p:nvSpPr>
        <p:spPr>
          <a:xfrm>
            <a:off x="755640" y="476280"/>
            <a:ext cx="6480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57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</a:rPr>
              <a:t>ЗОНА </a:t>
            </a:r>
            <a:endParaRPr b="1" lang="en-US" sz="1800" spc="1" strike="noStrike">
              <a:ln cap="sq" w="572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57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</a:rPr>
              <a:t>АРКТИЧЕСКИХ</a:t>
            </a:r>
            <a:endParaRPr b="1" lang="en-US" sz="1800" spc="1" strike="noStrike">
              <a:ln cap="sq" w="572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572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</a:rPr>
              <a:t>ПУСТЫНЬ</a:t>
            </a:r>
            <a:endParaRPr b="1" lang="en-US" sz="1800" spc="1" strike="noStrike">
              <a:ln cap="sq" w="572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040360" cy="29559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4584240" y="5376960"/>
            <a:ext cx="40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 ученик 4 А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имназии №1 г. Липец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рьяновский Дави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Андриянова Е.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673520" cy="349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3429000"/>
            <a:ext cx="4500720" cy="374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4572000" y="44280"/>
            <a:ext cx="4572000" cy="33134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"/>
          <p:cNvSpPr txBox="1"/>
          <p:nvPr/>
        </p:nvSpPr>
        <p:spPr>
          <a:xfrm>
            <a:off x="2843280" y="549360"/>
            <a:ext cx="489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38160">
                  <a:solidFill>
                    <a:srgbClr val="003300"/>
                  </a:solidFill>
                  <a:custDash>
                    <a:ds d="100000" sp="100000"/>
                  </a:custDash>
                  <a:miter/>
                </a:ln>
                <a:solidFill>
                  <a:srgbClr val="ff6600"/>
                </a:solidFill>
                <a:latin typeface="Arial"/>
              </a:rPr>
              <a:t>ФАУНА</a:t>
            </a:r>
            <a:endParaRPr b="1" lang="en-US" sz="1800" spc="1" strike="noStrike">
              <a:ln cap="sq" w="38160">
                <a:solidFill>
                  <a:srgbClr val="003300"/>
                </a:solidFill>
                <a:custDash>
                  <a:ds d="100000" sp="100000"/>
                </a:custDash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1532160" cy="2060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2133720"/>
            <a:ext cx="9144000" cy="33858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Животный мир более разнообразен, но большая часть животных живет в морях 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— Карском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и море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Лаптевых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. Это рыбы — сайка, треска, ряпушка, нельма, корюшка. Млекопитающие — тюлени, морж, дельфин. На побережья и острова весной прилетают птицы — гуси, гага, кулики, чистики, кайры. На островах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Северной Земли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и льдах морей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Карского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и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Лаптевых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властвует белый медведь. Так же создан заповедник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Остров Вранг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0" y="5877000"/>
            <a:ext cx="9144000" cy="9471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Белые медведи и моржи главные обитатели многих северных зем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5613480"/>
            <a:ext cx="9144000" cy="11912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В наше время стадо из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20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голов было завезено на остров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Врангеля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в апреле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  <a:ea typeface="Microsoft YaHei"/>
              </a:rPr>
              <a:t>1975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  <a:ea typeface="Microsoft YaHei"/>
              </a:rPr>
              <a:t> года с американского острова Нунив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1:17:46Z</dcterms:created>
  <dc:creator>Элла</dc:creator>
  <dc:description/>
  <dc:language>en-US</dc:language>
  <cp:lastModifiedBy>User</cp:lastModifiedBy>
  <dcterms:modified xsi:type="dcterms:W3CDTF">2016-11-21T20:17:27Z</dcterms:modified>
  <cp:revision>56</cp:revision>
  <dc:subject/>
  <dc:title>Слайд 1</dc:title>
</cp:coreProperties>
</file>