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20E8-B17F-4F83-AD11-425027F07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3BD8-9CE6-4809-AF78-2ACDDAB9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BD30-39EE-4099-8B0F-938969EE8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22E8-5181-4D9E-93DB-DAF127372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3A7F-1A78-499E-8022-26221E15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7E80-B2A5-40D7-A359-45BA5558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FB01-EB97-425D-81F6-56B11293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0338-10BB-4354-ABC2-96601DBA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4626-6442-4F82-A57E-B8C325B9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F674-7F17-4F5A-845F-C80F9D46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1B43-F86A-44B5-AA54-1AE44F6D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36C0-6456-4E55-A194-4814573F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F07A883-7773-4819-B9A1-A013A896CD5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708280"/>
            <a:ext cx="4176720" cy="2952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4094280" y="2708280"/>
            <a:ext cx="5049720" cy="2946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3203640" cy="2716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4"/>
          <a:stretch/>
        </p:blipFill>
        <p:spPr>
          <a:xfrm>
            <a:off x="3203640" y="0"/>
            <a:ext cx="2952720" cy="27082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0" y="5629320"/>
            <a:ext cx="9144000" cy="119124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Из животных постоянно обитают: северный олень, песец, лемминг, белый медведь. Из птиц — полярная сова, белая куропатка. Обилие водоёмов сюда привлекает в летнее время: уток, гусей, куликов. В прибрежных районах обитают чайки, гагары, чистики, кай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5"/>
          <a:stretch/>
        </p:blipFill>
        <p:spPr>
          <a:xfrm>
            <a:off x="6097680" y="0"/>
            <a:ext cx="3046320" cy="27813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1"/>
          <p:cNvSpPr/>
          <p:nvPr/>
        </p:nvSpPr>
        <p:spPr>
          <a:xfrm>
            <a:off x="2987640" y="765000"/>
            <a:ext cx="5761080" cy="2159280"/>
          </a:xfrm>
          <a:prstGeom prst="wedgeRoundRectCallout">
            <a:avLst>
              <a:gd name="adj1" fmla="val -64578"/>
              <a:gd name="adj2" fmla="val -26250"/>
              <a:gd name="adj3" fmla="val 16667"/>
            </a:avLst>
          </a:prstGeom>
          <a:solidFill>
            <a:srgbClr val="ffffff"/>
          </a:solidFill>
          <a:ln cap="sq"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Человек исследует и осваивает арктическую пустын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620640"/>
            <a:ext cx="3160800" cy="4254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2987640" y="3357720"/>
            <a:ext cx="5162760" cy="32572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5724360" cy="3813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5148360" y="3784680"/>
            <a:ext cx="3995640" cy="3073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5724360" y="0"/>
            <a:ext cx="3419640" cy="37893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324000" y="4221000"/>
            <a:ext cx="4392360" cy="155700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Красота Севера завораживает, заставляет терпеть холод и неустроенность бы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1"/>
          <p:cNvSpPr/>
          <p:nvPr/>
        </p:nvSpPr>
        <p:spPr>
          <a:xfrm>
            <a:off x="2987640" y="765000"/>
            <a:ext cx="5761080" cy="2159280"/>
          </a:xfrm>
          <a:prstGeom prst="wedgeRoundRectCallout">
            <a:avLst>
              <a:gd name="adj1" fmla="val -64578"/>
              <a:gd name="adj2" fmla="val -26250"/>
              <a:gd name="adj3" fmla="val 16667"/>
            </a:avLst>
          </a:prstGeom>
          <a:solidFill>
            <a:srgbClr val="ffffff"/>
          </a:solidFill>
          <a:ln cap="sq"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Нам, северным жителям, бывает стыдно за Челове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620640"/>
            <a:ext cx="3160800" cy="4254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2556000" y="3213000"/>
            <a:ext cx="5182920" cy="3333960"/>
          </a:xfrm>
          <a:prstGeom prst="rect">
            <a:avLst/>
          </a:prstGeom>
          <a:ln w="0">
            <a:noFill/>
          </a:ln>
        </p:spPr>
      </p:pic>
      <p:sp>
        <p:nvSpPr>
          <p:cNvPr id="57" name="WordArt 4"/>
          <p:cNvSpPr txBox="1"/>
          <p:nvPr/>
        </p:nvSpPr>
        <p:spPr>
          <a:xfrm>
            <a:off x="7812000" y="3429000"/>
            <a:ext cx="10080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9360">
                  <a:solidFill>
                    <a:srgbClr val="990000"/>
                  </a:solidFill>
                  <a:miter/>
                </a:ln>
                <a:solidFill>
                  <a:srgbClr val="990000"/>
                </a:solidFill>
                <a:latin typeface="Arial"/>
              </a:rPr>
              <a:t>?</a:t>
            </a:r>
            <a:endParaRPr b="1" lang="en-US" sz="1800" spc="1" strike="noStrike">
              <a:ln cap="sq" w="9360">
                <a:solidFill>
                  <a:srgbClr val="990000"/>
                </a:solidFill>
                <a:miter/>
              </a:ln>
              <a:solidFill>
                <a:srgbClr val="990000"/>
              </a:solidFill>
              <a:latin typeface="Arial"/>
              <a:ea typeface="Arial"/>
            </a:endParaRPr>
          </a:p>
        </p:txBody>
      </p:sp>
    </p:spTree>
  </p:cSld>
  <p:transition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0" y="476280"/>
            <a:ext cx="1658880" cy="223200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3"/>
          <p:cNvSpPr/>
          <p:nvPr/>
        </p:nvSpPr>
        <p:spPr>
          <a:xfrm>
            <a:off x="1979640" y="549360"/>
            <a:ext cx="4608360" cy="792000"/>
          </a:xfrm>
          <a:prstGeom prst="wedgeRoundRectCallout">
            <a:avLst>
              <a:gd name="adj1" fmla="val -64365"/>
              <a:gd name="adj2" fmla="val -11120"/>
              <a:gd name="adj3" fmla="val 16667"/>
            </a:avLst>
          </a:prstGeom>
          <a:solidFill>
            <a:srgbClr val="ffffff"/>
          </a:solidFill>
          <a:ln cap="sq"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Эта свалка - дело рук Чело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2556000" y="3040200"/>
            <a:ext cx="4537080" cy="1066680"/>
          </a:xfrm>
          <a:prstGeom prst="rect">
            <a:avLst/>
          </a:prstGeom>
          <a:solidFill>
            <a:srgbClr val="ffffff"/>
          </a:solidFill>
          <a:ln cap="sq"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  <a:ea typeface="Microsoft YaHei"/>
              </a:rPr>
              <a:t>Зона арктических пусты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611280" y="1557360"/>
            <a:ext cx="2881080" cy="649440"/>
          </a:xfrm>
          <a:prstGeom prst="rect">
            <a:avLst/>
          </a:prstGeom>
          <a:solidFill>
            <a:srgbClr val="ffffff"/>
          </a:solidFill>
          <a:ln cap="sq"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мор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059280" y="260280"/>
            <a:ext cx="3600360" cy="649440"/>
          </a:xfrm>
          <a:prstGeom prst="rect">
            <a:avLst/>
          </a:prstGeom>
          <a:solidFill>
            <a:srgbClr val="ffffff"/>
          </a:solidFill>
          <a:ln cap="sq"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океа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6372360" y="1557360"/>
            <a:ext cx="2376360" cy="649440"/>
          </a:xfrm>
          <a:prstGeom prst="rect">
            <a:avLst/>
          </a:prstGeom>
          <a:solidFill>
            <a:srgbClr val="ffffff"/>
          </a:solidFill>
          <a:ln cap="sq"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остро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468360" y="4797360"/>
            <a:ext cx="2808360" cy="649440"/>
          </a:xfrm>
          <a:prstGeom prst="rect">
            <a:avLst/>
          </a:prstGeom>
          <a:solidFill>
            <a:srgbClr val="ffffff"/>
          </a:solidFill>
          <a:ln cap="sq"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фло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6443640" y="4797360"/>
            <a:ext cx="2376360" cy="649440"/>
          </a:xfrm>
          <a:prstGeom prst="rect">
            <a:avLst/>
          </a:prstGeom>
          <a:solidFill>
            <a:srgbClr val="ffffff"/>
          </a:solidFill>
          <a:ln cap="sq"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фау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3419640" y="5950080"/>
            <a:ext cx="2376360" cy="649080"/>
          </a:xfrm>
          <a:prstGeom prst="rect">
            <a:avLst/>
          </a:prstGeom>
          <a:solidFill>
            <a:srgbClr val="ffffff"/>
          </a:solidFill>
          <a:ln cap="sq"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Челове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 flipV="1">
            <a:off x="4788000" y="1123560"/>
            <a:ext cx="1440" cy="1730520"/>
          </a:xfrm>
          <a:prstGeom prst="line">
            <a:avLst/>
          </a:prstGeom>
          <a:ln cap="sq"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9"/>
          <p:cNvSpPr/>
          <p:nvPr/>
        </p:nvSpPr>
        <p:spPr>
          <a:xfrm flipV="1">
            <a:off x="6156360" y="2347560"/>
            <a:ext cx="503280" cy="577800"/>
          </a:xfrm>
          <a:prstGeom prst="line">
            <a:avLst/>
          </a:prstGeom>
          <a:ln cap="sq"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 flipH="1" flipV="1">
            <a:off x="3274560" y="2347560"/>
            <a:ext cx="505080" cy="506520"/>
          </a:xfrm>
          <a:prstGeom prst="line">
            <a:avLst/>
          </a:prstGeom>
          <a:ln cap="sq"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11"/>
          <p:cNvSpPr/>
          <p:nvPr/>
        </p:nvSpPr>
        <p:spPr>
          <a:xfrm>
            <a:off x="6588000" y="4005360"/>
            <a:ext cx="648000" cy="647640"/>
          </a:xfrm>
          <a:prstGeom prst="line">
            <a:avLst/>
          </a:prstGeom>
          <a:ln cap="sq"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 flipH="1">
            <a:off x="2770200" y="4149720"/>
            <a:ext cx="652320" cy="720720"/>
          </a:xfrm>
          <a:prstGeom prst="line">
            <a:avLst/>
          </a:prstGeom>
          <a:ln cap="sq"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13"/>
          <p:cNvSpPr/>
          <p:nvPr/>
        </p:nvSpPr>
        <p:spPr>
          <a:xfrm>
            <a:off x="4859280" y="4221000"/>
            <a:ext cx="1800" cy="1729080"/>
          </a:xfrm>
          <a:prstGeom prst="line">
            <a:avLst/>
          </a:prstGeom>
          <a:ln cap="sq"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14" descr=""/>
          <p:cNvPicPr/>
          <p:nvPr/>
        </p:nvPicPr>
        <p:blipFill>
          <a:blip r:embed="rId1"/>
          <a:stretch/>
        </p:blipFill>
        <p:spPr>
          <a:xfrm>
            <a:off x="611280" y="2708280"/>
            <a:ext cx="720720" cy="13683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1:17:46Z</dcterms:created>
  <dc:creator>Элла</dc:creator>
  <dc:description/>
  <dc:language>en-US</dc:language>
  <cp:lastModifiedBy>User</cp:lastModifiedBy>
  <dcterms:modified xsi:type="dcterms:W3CDTF">2016-11-21T20:18:17Z</dcterms:modified>
  <cp:revision>57</cp:revision>
  <dc:subject/>
  <dc:title>Слайд 1</dc:title>
</cp:coreProperties>
</file>