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D712-A51F-45C0-BF59-ABDD290FC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291F-2554-42C6-900E-E36EEFD4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5B95-F4B7-4098-AA05-A60F07A85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68EA-B1B8-45F7-BDA2-6D5EEC2FE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4B20-D617-4870-A90A-C8D2B674A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0FC5-5DA5-45F3-8B3B-D5D11056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394F-8FED-491C-A4DB-CD859339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5641-17C2-4731-8AE3-4DB6E317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5323-2631-4069-9EBB-C6B18B96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5371-925A-476A-B6E9-639E6C86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6733-ACBD-48CA-875E-244C0D35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87E1-D1A7-44CB-B895-36D7E036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4E85-CF82-4732-8629-1DF942CA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A71D-65B1-4A9F-B6DA-4BAE93EA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F97D-9A22-44E2-8E2A-4DD78DE5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84D3-ABE0-4AB4-8DE0-BB7BBBEF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0AB1-2E0D-45BB-A035-107CA7C10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0ADE-F177-49BC-A03D-2D3A9F3A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491E-F8B7-47DF-86EE-A142EAF3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796D-122A-4D23-A1BB-043A11DA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E7A4-4BF2-4250-A2C0-58A64A12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1550-161A-43E3-B632-9A5F16F3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9381-5EEE-46FF-88EE-7E6B148D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CAE2-C44E-46A0-A19B-C2135294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CF94-02CD-414E-BB2C-2F7773C27C8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E27E-18E4-4F7D-BD54-CC1E2F305A1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895400"/>
            <a:ext cx="7623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Интерьер  жилого  дома</a:t>
            </a: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62240" y="4096800"/>
            <a:ext cx="5973840" cy="15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у выполнили: Ивашура Виктория Палий Алина ученицы 8 В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подаватель: Гузенко Галина Александро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Garamond"/>
              </a:rPr>
              <a:t>Оформление  оконных</a:t>
            </a:r>
            <a:br>
              <a:rPr sz="4000"/>
            </a:br>
            <a:r>
              <a:rPr b="1" lang="ru-RU" sz="4000" spc="-1" strike="noStrike">
                <a:solidFill>
                  <a:srgbClr val="006633"/>
                </a:solidFill>
                <a:latin typeface="Garamond"/>
              </a:rPr>
              <a:t> и  дверных проёмов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то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занавеси из непросвечивающихся тканей (бывают подъёмными и раздвижны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арди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занавеси на окне из мягкой набивной или прозрачной ткани, тюля, кружева, сетки, которые драпиру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ртьер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занавеси на двери из непросвечивающейся плотной ткани, используемые для изоляции от света и шума и маскировки дверного проё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алюз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ряд пластин, соединённых  между собой так, что они способны открываться, пропуская солнечный свет, и закрываться, изолируя комнату от ул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Garamond"/>
              </a:rPr>
              <a:t>Декоративные ткани </a:t>
            </a:r>
            <a:br>
              <a:rPr sz="4000"/>
            </a:br>
            <a:r>
              <a:rPr b="1" lang="ru-RU" sz="4000" spc="-1" strike="noStrike">
                <a:solidFill>
                  <a:srgbClr val="006633"/>
                </a:solidFill>
                <a:latin typeface="Garamond"/>
              </a:rPr>
              <a:t>в  интерьере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1"/>
          <a:stretch/>
        </p:blipFill>
        <p:spPr>
          <a:xfrm>
            <a:off x="4572000" y="1628640"/>
            <a:ext cx="4392720" cy="2935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"/>
          <p:cNvPicPr/>
          <p:nvPr/>
        </p:nvPicPr>
        <p:blipFill>
          <a:blip r:embed="rId2"/>
          <a:stretch/>
        </p:blipFill>
        <p:spPr>
          <a:xfrm>
            <a:off x="179280" y="2997360"/>
            <a:ext cx="4256280" cy="30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Garamond"/>
              </a:rPr>
              <a:t>Отделка  квартиры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ая  цветовая гамма помещения выбирается в зависимости от его назначения, размеров, освещенности и ориентации на стороны с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материалы должны быть экологически чист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лишняя пестрота  рано или поздно начинает раздражать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кани придают интерьеру неповторимый характер, создают атмосферу уюта и тепло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Garamond"/>
              </a:rPr>
              <a:t>Интерьер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388944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ировочное решение, позволяющее собрать в единое  целое внутреннее пространство  помещений и мебель,  декоративное  убранство и различное  оборуд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1"/>
          <a:stretch/>
        </p:blipFill>
        <p:spPr>
          <a:xfrm>
            <a:off x="4406760" y="1052640"/>
            <a:ext cx="426888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Garamond"/>
              </a:rPr>
              <a:t>На интерьер жилого дома </a:t>
            </a:r>
            <a:br>
              <a:rPr sz="4000"/>
            </a:br>
            <a:r>
              <a:rPr b="1" lang="ru-RU" sz="4000" spc="-1" strike="noStrike">
                <a:solidFill>
                  <a:srgbClr val="006633"/>
                </a:solidFill>
                <a:latin typeface="Garamond"/>
              </a:rPr>
              <a:t>влияют следующие факторы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28908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ребности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диции об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ловия  строи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3348000" y="1844640"/>
            <a:ext cx="555300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Garamond"/>
              </a:rPr>
              <a:t>Основные качества интерьера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435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ональные  качеств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пособствуют  нормальным  условиям  жизни  семьи,  чем  рациональнее  планировка,  чем  удобнее  расставлена  мебель и  оборудование,  тем  проще  и  комфортнее  жиль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игиенические  кач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обеспечение  звуковой  изоляции,  хорошего  воздухообмена,  нормальной  тепловоздушной  среды,  бесперебойной  работы  санитарно-гигиенического   оборуд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стетические  кач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интерьера – это гармония  вещей  и  пространства,  их  целостность  и  согласованность.  Выбирают  как  расположить вещи  в  пространстве,  их  соответствие  друг  другу,  озелен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Garamond"/>
              </a:rPr>
              <a:t>Композиция  интерьера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776240"/>
            <a:ext cx="3241440" cy="43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ое расположение и соотношение составных част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б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ти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тов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ру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3635280" y="1413000"/>
            <a:ext cx="526896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Garamond"/>
              </a:rPr>
              <a:t>Зонирование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38880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деление пространства на  отдельные з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ональная зона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дельный участок помещения, где проходят определённые жизненные процессы (сон, питание, обучение, отды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3995640" y="1413000"/>
            <a:ext cx="476244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Garamond"/>
              </a:rPr>
              <a:t>Декоративное  убранство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17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коративные элементы, украшающ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т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в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т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tretch/>
        </p:blipFill>
        <p:spPr>
          <a:xfrm>
            <a:off x="3637080" y="1644480"/>
            <a:ext cx="504972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Garamond"/>
              </a:rPr>
              <a:t>Освещение жилого дома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е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равномерно наполняет всё пространство светом (люстра в центре потол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стн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свещает одну функциональную зону или рабочую плоскость (торшер, бра, настольная ламп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бинированн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очетание общего и местного освещения  отдельных з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авленн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одчёркивает какой-либо элемент интерьера картину, статуэтку или цветы, узким световым пото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коративн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одчёркивает общий эстетический замыс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Garamond"/>
              </a:rPr>
              <a:t>Освещение в интерьере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4788000" y="2781360"/>
            <a:ext cx="4182840" cy="3281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43909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13:42:13Z</dcterms:created>
  <dc:creator>Пользователь</dc:creator>
  <dc:description/>
  <dc:language>en-US</dc:language>
  <cp:lastModifiedBy>Admin</cp:lastModifiedBy>
  <dcterms:modified xsi:type="dcterms:W3CDTF">2016-11-21T16:28:02Z</dcterms:modified>
  <cp:revision>6</cp:revision>
  <dc:subject/>
  <dc:title>Интерьер жилого  дома </dc:title>
</cp:coreProperties>
</file>