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AE5B-7772-40DB-B855-C125FE742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57480"/>
            <a:ext cx="68644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689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440" y="4039920"/>
            <a:ext cx="7689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7679-CD22-4038-A53A-886C8928A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57480"/>
            <a:ext cx="68644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752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6000" y="1828440"/>
            <a:ext cx="3752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440" y="4039920"/>
            <a:ext cx="3752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6000" y="4039920"/>
            <a:ext cx="3752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755D-8B36-42B1-9C8A-4AF18BFC4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57480"/>
            <a:ext cx="68644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2476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5720" y="1828440"/>
            <a:ext cx="2476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6000" y="1828440"/>
            <a:ext cx="2476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440" y="4039920"/>
            <a:ext cx="2476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5720" y="4039920"/>
            <a:ext cx="2476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6000" y="4039920"/>
            <a:ext cx="2476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542B-F76A-4BC2-861F-EA26F9022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BF1D4-40E7-48B8-9A8F-B35E8140B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57480"/>
            <a:ext cx="68644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7689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FFBD8-7C78-466F-945A-6C7CC6578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57480"/>
            <a:ext cx="68644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689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11539-2089-47D6-A5BC-D967A7380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357480"/>
            <a:ext cx="68644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752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6000" y="1828440"/>
            <a:ext cx="3752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A054A-1802-42FD-AC6F-1D3981D15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357480"/>
            <a:ext cx="68644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BC281-4454-4F0E-9393-EC999CFC2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800" y="-357480"/>
            <a:ext cx="686448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647A0-F69C-4A11-A824-3B691EDF0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357480"/>
            <a:ext cx="68644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752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6000" y="1828440"/>
            <a:ext cx="3752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440" y="4039920"/>
            <a:ext cx="3752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27B90-071B-4B61-B6C0-ACF79BA8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57480"/>
            <a:ext cx="68644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7689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6B1C-8897-4275-B152-0822A7532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357480"/>
            <a:ext cx="68644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752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6000" y="1828440"/>
            <a:ext cx="3752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6000" y="4039920"/>
            <a:ext cx="3752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1EC5D-6C8D-4639-BA6F-BFDBC58A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357480"/>
            <a:ext cx="68644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752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6000" y="1828440"/>
            <a:ext cx="3752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440" y="4039920"/>
            <a:ext cx="7689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AABAE-CB2C-46D0-BF8E-EBF458F1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357480"/>
            <a:ext cx="68644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689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440" y="4039920"/>
            <a:ext cx="7689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3C103-7C16-4019-9E37-86125B3B0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357480"/>
            <a:ext cx="68644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752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6000" y="1828440"/>
            <a:ext cx="3752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440" y="4039920"/>
            <a:ext cx="3752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6000" y="4039920"/>
            <a:ext cx="3752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1525D-0E6F-4B04-953C-3972D3141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357480"/>
            <a:ext cx="68644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2476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5720" y="1828440"/>
            <a:ext cx="2476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6000" y="1828440"/>
            <a:ext cx="2476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440" y="4039920"/>
            <a:ext cx="2476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5720" y="4039920"/>
            <a:ext cx="2476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6000" y="4039920"/>
            <a:ext cx="2476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CF181-76FF-4592-AEBF-A927BFFC6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57480"/>
            <a:ext cx="68644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689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4D83-8C29-4396-8136-82F5EB00D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57480"/>
            <a:ext cx="68644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752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6000" y="1828440"/>
            <a:ext cx="3752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7648-799F-4299-ADF5-DF15F7313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57480"/>
            <a:ext cx="68644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9953-67CB-456A-9B6E-048F10E6E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-357480"/>
            <a:ext cx="686448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677A-8D26-4524-B31A-2CB761D17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57480"/>
            <a:ext cx="68644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752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6000" y="1828440"/>
            <a:ext cx="3752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440" y="4039920"/>
            <a:ext cx="3752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5626-8270-4960-9E28-855EAB12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57480"/>
            <a:ext cx="68644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752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6000" y="1828440"/>
            <a:ext cx="3752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6000" y="4039920"/>
            <a:ext cx="3752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74AB-B6FE-4146-9417-63DAC80A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57480"/>
            <a:ext cx="68644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752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6000" y="1828440"/>
            <a:ext cx="3752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440" y="4039920"/>
            <a:ext cx="7689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EE47-83F6-44B1-A884-3329A374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"/>
          <p:cNvSpPr/>
          <p:nvPr/>
        </p:nvSpPr>
        <p:spPr>
          <a:xfrm rot="18420000">
            <a:off x="7776360" y="-13680"/>
            <a:ext cx="116172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-357480"/>
            <a:ext cx="68644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828440"/>
            <a:ext cx="7689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890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4EA1F25-1072-4133-A3F5-43D1A601702F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7"/>
          <p:cNvSpPr/>
          <p:nvPr/>
        </p:nvSpPr>
        <p:spPr>
          <a:xfrm rot="18420000">
            <a:off x="7860240" y="27000"/>
            <a:ext cx="1165320" cy="209736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Freeform 8"/>
          <p:cNvSpPr/>
          <p:nvPr/>
        </p:nvSpPr>
        <p:spPr>
          <a:xfrm rot="18420000">
            <a:off x="7826400" y="192960"/>
            <a:ext cx="1025640" cy="157176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Group 9"/>
          <p:cNvGrpSpPr/>
          <p:nvPr/>
        </p:nvGrpSpPr>
        <p:grpSpPr>
          <a:xfrm>
            <a:off x="7920" y="5540400"/>
            <a:ext cx="1779480" cy="1241280"/>
            <a:chOff x="7920" y="5540400"/>
            <a:chExt cx="1779480" cy="1241280"/>
          </a:xfrm>
        </p:grpSpPr>
        <p:sp>
          <p:nvSpPr>
            <p:cNvPr id="9" name="Freeform 10"/>
            <p:cNvSpPr/>
            <p:nvPr/>
          </p:nvSpPr>
          <p:spPr>
            <a:xfrm>
              <a:off x="38160" y="5564160"/>
              <a:ext cx="1724040" cy="10256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>
              <a:off x="1622520" y="5686560"/>
              <a:ext cx="108000" cy="19980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2"/>
            <p:cNvSpPr/>
            <p:nvPr/>
          </p:nvSpPr>
          <p:spPr>
            <a:xfrm>
              <a:off x="31680" y="5991120"/>
              <a:ext cx="1252440" cy="6462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3"/>
            <p:cNvSpPr/>
            <p:nvPr/>
          </p:nvSpPr>
          <p:spPr>
            <a:xfrm>
              <a:off x="204840" y="6045120"/>
              <a:ext cx="828720" cy="5889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4"/>
            <p:cNvSpPr/>
            <p:nvPr/>
          </p:nvSpPr>
          <p:spPr>
            <a:xfrm>
              <a:off x="770040" y="5607000"/>
              <a:ext cx="209520" cy="18720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5"/>
            <p:cNvSpPr/>
            <p:nvPr/>
          </p:nvSpPr>
          <p:spPr>
            <a:xfrm>
              <a:off x="1017720" y="6608880"/>
              <a:ext cx="115920" cy="17280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6"/>
            <p:cNvSpPr/>
            <p:nvPr/>
          </p:nvSpPr>
          <p:spPr>
            <a:xfrm>
              <a:off x="800280" y="5726160"/>
              <a:ext cx="301320" cy="6033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7"/>
            <p:cNvSpPr/>
            <p:nvPr/>
          </p:nvSpPr>
          <p:spPr>
            <a:xfrm>
              <a:off x="1060560" y="5699160"/>
              <a:ext cx="573120" cy="2714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8"/>
            <p:cNvSpPr/>
            <p:nvPr/>
          </p:nvSpPr>
          <p:spPr>
            <a:xfrm>
              <a:off x="550800" y="5862600"/>
              <a:ext cx="243000" cy="10152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Group 19"/>
            <p:cNvGrpSpPr/>
            <p:nvPr/>
          </p:nvGrpSpPr>
          <p:grpSpPr>
            <a:xfrm>
              <a:off x="7920" y="5540400"/>
              <a:ext cx="1779480" cy="1233360"/>
              <a:chOff x="7920" y="5540400"/>
              <a:chExt cx="1779480" cy="1233360"/>
            </a:xfrm>
          </p:grpSpPr>
          <p:grpSp>
            <p:nvGrpSpPr>
              <p:cNvPr id="19" name="Group 20"/>
              <p:cNvGrpSpPr/>
              <p:nvPr/>
            </p:nvGrpSpPr>
            <p:grpSpPr>
              <a:xfrm>
                <a:off x="792000" y="5654520"/>
                <a:ext cx="865440" cy="1119240"/>
                <a:chOff x="792000" y="5654520"/>
                <a:chExt cx="865440" cy="1119240"/>
              </a:xfrm>
            </p:grpSpPr>
            <p:sp>
              <p:nvSpPr>
                <p:cNvPr id="20" name="Freeform 21"/>
                <p:cNvSpPr/>
                <p:nvPr/>
              </p:nvSpPr>
              <p:spPr>
                <a:xfrm>
                  <a:off x="792000" y="5694480"/>
                  <a:ext cx="244800" cy="1332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2"/>
                <p:cNvSpPr/>
                <p:nvPr/>
              </p:nvSpPr>
              <p:spPr>
                <a:xfrm>
                  <a:off x="1009800" y="6567480"/>
                  <a:ext cx="177480" cy="206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3"/>
                <p:cNvSpPr/>
                <p:nvPr/>
              </p:nvSpPr>
              <p:spPr>
                <a:xfrm>
                  <a:off x="1593720" y="5654520"/>
                  <a:ext cx="63720" cy="1810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4"/>
              <p:cNvSpPr/>
              <p:nvPr/>
            </p:nvSpPr>
            <p:spPr>
              <a:xfrm>
                <a:off x="120600" y="5924520"/>
                <a:ext cx="939960" cy="392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5"/>
              <p:cNvSpPr/>
              <p:nvPr/>
            </p:nvSpPr>
            <p:spPr>
              <a:xfrm>
                <a:off x="412920" y="6168960"/>
                <a:ext cx="382320" cy="230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6"/>
              <p:cNvSpPr/>
              <p:nvPr/>
            </p:nvSpPr>
            <p:spPr>
              <a:xfrm>
                <a:off x="896760" y="5842080"/>
                <a:ext cx="165240" cy="37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Group 27"/>
              <p:cNvGrpSpPr/>
              <p:nvPr/>
            </p:nvGrpSpPr>
            <p:grpSpPr>
              <a:xfrm>
                <a:off x="7920" y="5540400"/>
                <a:ext cx="1779480" cy="1071360"/>
                <a:chOff x="7920" y="5540400"/>
                <a:chExt cx="1779480" cy="1071360"/>
              </a:xfrm>
            </p:grpSpPr>
            <p:sp>
              <p:nvSpPr>
                <p:cNvPr id="27" name="Freeform 28"/>
                <p:cNvSpPr/>
                <p:nvPr/>
              </p:nvSpPr>
              <p:spPr>
                <a:xfrm>
                  <a:off x="1062000" y="6426360"/>
                  <a:ext cx="114480" cy="1332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29"/>
                <p:cNvSpPr/>
                <p:nvPr/>
              </p:nvSpPr>
              <p:spPr>
                <a:xfrm>
                  <a:off x="7920" y="5918040"/>
                  <a:ext cx="1332000" cy="693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0"/>
                <p:cNvSpPr/>
                <p:nvPr/>
              </p:nvSpPr>
              <p:spPr>
                <a:xfrm>
                  <a:off x="168120" y="5985000"/>
                  <a:ext cx="122400" cy="26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1"/>
                <p:cNvSpPr/>
                <p:nvPr/>
              </p:nvSpPr>
              <p:spPr>
                <a:xfrm>
                  <a:off x="712800" y="5540400"/>
                  <a:ext cx="506520" cy="938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2"/>
                <p:cNvSpPr/>
                <p:nvPr/>
              </p:nvSpPr>
              <p:spPr>
                <a:xfrm>
                  <a:off x="917640" y="5794200"/>
                  <a:ext cx="147600" cy="395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3"/>
                <p:cNvSpPr/>
                <p:nvPr/>
              </p:nvSpPr>
              <p:spPr>
                <a:xfrm>
                  <a:off x="520560" y="5762520"/>
                  <a:ext cx="304920" cy="209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4"/>
                <p:cNvSpPr/>
                <p:nvPr/>
              </p:nvSpPr>
              <p:spPr>
                <a:xfrm>
                  <a:off x="1044720" y="5616720"/>
                  <a:ext cx="742680" cy="331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5"/>
                <p:cNvSpPr/>
                <p:nvPr/>
              </p:nvSpPr>
              <p:spPr>
                <a:xfrm>
                  <a:off x="1138320" y="5724360"/>
                  <a:ext cx="384120" cy="131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6"/>
          <p:cNvGrpSpPr/>
          <p:nvPr/>
        </p:nvGrpSpPr>
        <p:grpSpPr>
          <a:xfrm>
            <a:off x="8679960" y="2116080"/>
            <a:ext cx="381240" cy="4303800"/>
            <a:chOff x="8679960" y="2116080"/>
            <a:chExt cx="381240" cy="4303800"/>
          </a:xfrm>
        </p:grpSpPr>
        <p:sp>
          <p:nvSpPr>
            <p:cNvPr id="36" name="Freeform 37"/>
            <p:cNvSpPr/>
            <p:nvPr/>
          </p:nvSpPr>
          <p:spPr>
            <a:xfrm flipH="1">
              <a:off x="8679600" y="4159080"/>
              <a:ext cx="320760" cy="226080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Freeform 38"/>
            <p:cNvSpPr/>
            <p:nvPr/>
          </p:nvSpPr>
          <p:spPr>
            <a:xfrm flipH="1">
              <a:off x="8740080" y="2116080"/>
              <a:ext cx="320760" cy="25876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Group 39"/>
          <p:cNvGrpSpPr/>
          <p:nvPr/>
        </p:nvGrpSpPr>
        <p:grpSpPr>
          <a:xfrm>
            <a:off x="6097680" y="-246240"/>
            <a:ext cx="4568400" cy="4376160"/>
            <a:chOff x="6097680" y="-246240"/>
            <a:chExt cx="4568400" cy="4376160"/>
          </a:xfrm>
        </p:grpSpPr>
        <p:grpSp>
          <p:nvGrpSpPr>
            <p:cNvPr id="39" name="Group 40"/>
            <p:cNvGrpSpPr/>
            <p:nvPr/>
          </p:nvGrpSpPr>
          <p:grpSpPr>
            <a:xfrm>
              <a:off x="6097680" y="-246240"/>
              <a:ext cx="4568400" cy="4376160"/>
              <a:chOff x="6097680" y="-246240"/>
              <a:chExt cx="4568400" cy="4376160"/>
            </a:xfrm>
          </p:grpSpPr>
          <p:sp>
            <p:nvSpPr>
              <p:cNvPr id="40" name="Freeform 41"/>
              <p:cNvSpPr/>
              <p:nvPr/>
            </p:nvSpPr>
            <p:spPr>
              <a:xfrm rot="18420000">
                <a:off x="8618400" y="1730160"/>
                <a:ext cx="93600" cy="45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Group 42"/>
              <p:cNvGrpSpPr/>
              <p:nvPr/>
            </p:nvGrpSpPr>
            <p:grpSpPr>
              <a:xfrm>
                <a:off x="6097680" y="-246240"/>
                <a:ext cx="4568400" cy="4376160"/>
                <a:chOff x="6097680" y="-246240"/>
                <a:chExt cx="4568400" cy="4376160"/>
              </a:xfrm>
            </p:grpSpPr>
            <p:sp>
              <p:nvSpPr>
                <p:cNvPr id="42" name="Freeform 43"/>
                <p:cNvSpPr/>
                <p:nvPr/>
              </p:nvSpPr>
              <p:spPr>
                <a:xfrm rot="18420000">
                  <a:off x="7458120" y="-92520"/>
                  <a:ext cx="5389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4"/>
                <p:cNvSpPr/>
                <p:nvPr/>
              </p:nvSpPr>
              <p:spPr>
                <a:xfrm rot="18420000">
                  <a:off x="7629840" y="975600"/>
                  <a:ext cx="955080" cy="11941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5"/>
                <p:cNvSpPr/>
                <p:nvPr/>
              </p:nvSpPr>
              <p:spPr>
                <a:xfrm rot="18420000">
                  <a:off x="7017480" y="627480"/>
                  <a:ext cx="1800360" cy="2459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6"/>
                <p:cNvSpPr/>
                <p:nvPr/>
              </p:nvSpPr>
              <p:spPr>
                <a:xfrm rot="18420000">
                  <a:off x="7029720" y="100440"/>
                  <a:ext cx="2703960" cy="3682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7"/>
                <p:cNvSpPr/>
                <p:nvPr/>
              </p:nvSpPr>
              <p:spPr>
                <a:xfrm rot="18420000">
                  <a:off x="8354880" y="2870640"/>
                  <a:ext cx="596160" cy="326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8"/>
                <p:cNvSpPr/>
                <p:nvPr/>
              </p:nvSpPr>
              <p:spPr>
                <a:xfrm rot="18420000">
                  <a:off x="8228520" y="2549160"/>
                  <a:ext cx="641160" cy="3852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49"/>
                <p:cNvSpPr/>
                <p:nvPr/>
              </p:nvSpPr>
              <p:spPr>
                <a:xfrm rot="18420000">
                  <a:off x="7493040" y="421200"/>
                  <a:ext cx="639000" cy="395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0"/>
                <p:cNvSpPr/>
                <p:nvPr/>
              </p:nvSpPr>
              <p:spPr>
                <a:xfrm rot="18420000">
                  <a:off x="7396920" y="163800"/>
                  <a:ext cx="633600" cy="371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1"/>
            <p:cNvSpPr/>
            <p:nvPr/>
          </p:nvSpPr>
          <p:spPr>
            <a:xfrm>
              <a:off x="7731000" y="133200"/>
              <a:ext cx="61920" cy="147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1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3943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F7F0071-93C6-48F6-A0C9-03DBAA2677B9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Group 6"/>
          <p:cNvGrpSpPr/>
          <p:nvPr/>
        </p:nvGrpSpPr>
        <p:grpSpPr>
          <a:xfrm>
            <a:off x="195120" y="235080"/>
            <a:ext cx="3783240" cy="1773000"/>
            <a:chOff x="195120" y="235080"/>
            <a:chExt cx="3783240" cy="1773000"/>
          </a:xfrm>
        </p:grpSpPr>
        <p:sp>
          <p:nvSpPr>
            <p:cNvPr id="93" name="Freeform 7"/>
            <p:cNvSpPr/>
            <p:nvPr/>
          </p:nvSpPr>
          <p:spPr>
            <a:xfrm>
              <a:off x="281160" y="281160"/>
              <a:ext cx="3566880" cy="160956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8"/>
            <p:cNvSpPr/>
            <p:nvPr/>
          </p:nvSpPr>
          <p:spPr>
            <a:xfrm>
              <a:off x="263520" y="414360"/>
              <a:ext cx="3557520" cy="159372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9"/>
            <p:cNvSpPr/>
            <p:nvPr/>
          </p:nvSpPr>
          <p:spPr>
            <a:xfrm>
              <a:off x="752400" y="546120"/>
              <a:ext cx="2357640" cy="1454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Group 10"/>
            <p:cNvGrpSpPr/>
            <p:nvPr/>
          </p:nvGrpSpPr>
          <p:grpSpPr>
            <a:xfrm>
              <a:off x="195120" y="235080"/>
              <a:ext cx="3783240" cy="1711080"/>
              <a:chOff x="195120" y="235080"/>
              <a:chExt cx="3783240" cy="1711080"/>
            </a:xfrm>
          </p:grpSpPr>
          <p:sp>
            <p:nvSpPr>
              <p:cNvPr id="97" name="Freeform 11"/>
              <p:cNvSpPr/>
              <p:nvPr/>
            </p:nvSpPr>
            <p:spPr>
              <a:xfrm>
                <a:off x="3182760" y="1482840"/>
                <a:ext cx="331920" cy="33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Freeform 12"/>
              <p:cNvSpPr/>
              <p:nvPr/>
            </p:nvSpPr>
            <p:spPr>
              <a:xfrm>
                <a:off x="195120" y="235080"/>
                <a:ext cx="3783240" cy="171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Freeform 13"/>
              <p:cNvSpPr/>
              <p:nvPr/>
            </p:nvSpPr>
            <p:spPr>
              <a:xfrm>
                <a:off x="514440" y="250920"/>
                <a:ext cx="2671560" cy="969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Freeform 14"/>
              <p:cNvSpPr/>
              <p:nvPr/>
            </p:nvSpPr>
            <p:spPr>
              <a:xfrm>
                <a:off x="649440" y="398520"/>
                <a:ext cx="355320" cy="64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Freeform 15"/>
              <p:cNvSpPr/>
              <p:nvPr/>
            </p:nvSpPr>
            <p:spPr>
              <a:xfrm>
                <a:off x="1343160" y="851040"/>
                <a:ext cx="1092240" cy="573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Group 16"/>
          <p:cNvGrpSpPr/>
          <p:nvPr/>
        </p:nvGrpSpPr>
        <p:grpSpPr>
          <a:xfrm>
            <a:off x="7504560" y="4003560"/>
            <a:ext cx="1586520" cy="1783800"/>
            <a:chOff x="7504560" y="4003560"/>
            <a:chExt cx="1586520" cy="1783800"/>
          </a:xfrm>
        </p:grpSpPr>
        <p:sp>
          <p:nvSpPr>
            <p:cNvPr id="103" name="Freeform 17"/>
            <p:cNvSpPr/>
            <p:nvPr/>
          </p:nvSpPr>
          <p:spPr>
            <a:xfrm rot="7320000">
              <a:off x="7797240" y="4655520"/>
              <a:ext cx="993600" cy="4604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18"/>
            <p:cNvSpPr/>
            <p:nvPr/>
          </p:nvSpPr>
          <p:spPr>
            <a:xfrm rot="7320000">
              <a:off x="7777800" y="4637880"/>
              <a:ext cx="990720" cy="4557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19"/>
            <p:cNvSpPr/>
            <p:nvPr/>
          </p:nvSpPr>
          <p:spPr>
            <a:xfrm rot="7320000">
              <a:off x="7942680" y="4626360"/>
              <a:ext cx="655560" cy="4158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Group 20"/>
            <p:cNvGrpSpPr/>
            <p:nvPr/>
          </p:nvGrpSpPr>
          <p:grpSpPr>
            <a:xfrm>
              <a:off x="7504560" y="4003560"/>
              <a:ext cx="1586520" cy="1783800"/>
              <a:chOff x="7504560" y="4003560"/>
              <a:chExt cx="1586520" cy="1783800"/>
            </a:xfrm>
          </p:grpSpPr>
          <p:sp>
            <p:nvSpPr>
              <p:cNvPr id="107" name="Freeform 21"/>
              <p:cNvSpPr/>
              <p:nvPr/>
            </p:nvSpPr>
            <p:spPr>
              <a:xfrm rot="7320000">
                <a:off x="7633440" y="5123520"/>
                <a:ext cx="128880" cy="171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Freeform 22"/>
              <p:cNvSpPr/>
              <p:nvPr/>
            </p:nvSpPr>
            <p:spPr>
              <a:xfrm rot="7320000">
                <a:off x="7531200" y="4438800"/>
                <a:ext cx="1532880" cy="9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Freeform 23"/>
              <p:cNvSpPr/>
              <p:nvPr/>
            </p:nvSpPr>
            <p:spPr>
              <a:xfrm rot="7320000">
                <a:off x="7979760" y="4628160"/>
                <a:ext cx="1083960" cy="512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Freeform 24"/>
              <p:cNvSpPr/>
              <p:nvPr/>
            </p:nvSpPr>
            <p:spPr>
              <a:xfrm rot="7320000">
                <a:off x="8731440" y="4374360"/>
                <a:ext cx="139680" cy="340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Freeform 25"/>
              <p:cNvSpPr/>
              <p:nvPr/>
            </p:nvSpPr>
            <p:spPr>
              <a:xfrm rot="7320000">
                <a:off x="8105400" y="4663800"/>
                <a:ext cx="437760" cy="299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Freeform 26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7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Прямоугольник 3" descr=""/>
          <p:cNvPicPr/>
          <p:nvPr/>
        </p:nvPicPr>
        <p:blipFill>
          <a:blip r:embed="rId2"/>
          <a:stretch/>
        </p:blipFill>
        <p:spPr>
          <a:xfrm>
            <a:off x="2341440" y="633240"/>
            <a:ext cx="4383360" cy="1152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732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Условные обозначени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9" name="Group 2"/>
          <p:cNvGrpSpPr/>
          <p:nvPr/>
        </p:nvGrpSpPr>
        <p:grpSpPr>
          <a:xfrm>
            <a:off x="755640" y="1341360"/>
            <a:ext cx="909720" cy="223920"/>
            <a:chOff x="755640" y="1341360"/>
            <a:chExt cx="909720" cy="223920"/>
          </a:xfrm>
        </p:grpSpPr>
        <p:sp>
          <p:nvSpPr>
            <p:cNvPr id="170" name="Line 3"/>
            <p:cNvSpPr/>
            <p:nvPr/>
          </p:nvSpPr>
          <p:spPr>
            <a:xfrm>
              <a:off x="755640" y="1341360"/>
              <a:ext cx="0" cy="22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Line 4"/>
            <p:cNvSpPr/>
            <p:nvPr/>
          </p:nvSpPr>
          <p:spPr>
            <a:xfrm>
              <a:off x="1270080" y="1341360"/>
              <a:ext cx="0" cy="22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Line 5"/>
            <p:cNvSpPr/>
            <p:nvPr/>
          </p:nvSpPr>
          <p:spPr>
            <a:xfrm>
              <a:off x="870120" y="1477800"/>
              <a:ext cx="28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6"/>
            <p:cNvSpPr/>
            <p:nvPr/>
          </p:nvSpPr>
          <p:spPr>
            <a:xfrm>
              <a:off x="1384200" y="1477800"/>
              <a:ext cx="28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4" name="Text Box 7"/>
          <p:cNvSpPr/>
          <p:nvPr/>
        </p:nvSpPr>
        <p:spPr>
          <a:xfrm>
            <a:off x="2342880" y="1268280"/>
            <a:ext cx="398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казывают порядок действ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2341440" y="1989000"/>
            <a:ext cx="340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чало, конец алгорит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2270520" y="2854440"/>
            <a:ext cx="41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стое действие, вычисл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10"/>
          <p:cNvSpPr/>
          <p:nvPr/>
        </p:nvSpPr>
        <p:spPr>
          <a:xfrm>
            <a:off x="684360" y="1989000"/>
            <a:ext cx="1218960" cy="381240"/>
          </a:xfrm>
          <a:prstGeom prst="flowChartTerminator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11"/>
          <p:cNvSpPr/>
          <p:nvPr/>
        </p:nvSpPr>
        <p:spPr>
          <a:xfrm>
            <a:off x="755640" y="2924280"/>
            <a:ext cx="1143000" cy="38088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12"/>
          <p:cNvSpPr/>
          <p:nvPr/>
        </p:nvSpPr>
        <p:spPr>
          <a:xfrm>
            <a:off x="539640" y="3860640"/>
            <a:ext cx="1676520" cy="381240"/>
          </a:xfrm>
          <a:prstGeom prst="flowChartInputOutpu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13"/>
          <p:cNvSpPr/>
          <p:nvPr/>
        </p:nvSpPr>
        <p:spPr>
          <a:xfrm>
            <a:off x="2344680" y="3716280"/>
            <a:ext cx="60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дание исходных данных, вывод результа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14"/>
          <p:cNvSpPr/>
          <p:nvPr/>
        </p:nvSpPr>
        <p:spPr>
          <a:xfrm>
            <a:off x="468360" y="4941720"/>
            <a:ext cx="1752480" cy="533520"/>
          </a:xfrm>
          <a:prstGeom prst="flowChartDecision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15"/>
          <p:cNvSpPr/>
          <p:nvPr/>
        </p:nvSpPr>
        <p:spPr>
          <a:xfrm>
            <a:off x="2557080" y="4869000"/>
            <a:ext cx="247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верка услов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5280" y="-11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Виды алгоритмов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 Box 2"/>
          <p:cNvSpPr/>
          <p:nvPr/>
        </p:nvSpPr>
        <p:spPr>
          <a:xfrm>
            <a:off x="611280" y="1413000"/>
            <a:ext cx="5329080" cy="22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Линейные алгоритмы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алгоритмическая конструкция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следовани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се команды алгоритма следуют последовательно друг за друг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Group 3"/>
          <p:cNvGrpSpPr/>
          <p:nvPr/>
        </p:nvGrpSpPr>
        <p:grpSpPr>
          <a:xfrm>
            <a:off x="6084720" y="549360"/>
            <a:ext cx="2156040" cy="4674960"/>
            <a:chOff x="6084720" y="549360"/>
            <a:chExt cx="2156040" cy="4674960"/>
          </a:xfrm>
        </p:grpSpPr>
        <p:cxnSp>
          <p:nvCxnSpPr>
            <p:cNvPr id="186" name="AutoShape 4"/>
            <p:cNvCxnSpPr>
              <a:stCxn id="187" idx="2"/>
              <a:endCxn id="188" idx="0"/>
            </p:cNvCxnSpPr>
            <p:nvPr/>
          </p:nvCxnSpPr>
          <p:spPr>
            <a:xfrm>
              <a:off x="7165440" y="1341000"/>
              <a:ext cx="2520" cy="429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9" name="AutoShape 5"/>
            <p:cNvCxnSpPr>
              <a:stCxn id="190" idx="2"/>
              <a:endCxn id="191" idx="0"/>
            </p:cNvCxnSpPr>
            <p:nvPr/>
          </p:nvCxnSpPr>
          <p:spPr>
            <a:xfrm>
              <a:off x="7164000" y="4075200"/>
              <a:ext cx="1080" cy="43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2" name="AutoShape 6"/>
            <p:cNvCxnSpPr>
              <a:stCxn id="188" idx="2"/>
            </p:cNvCxnSpPr>
            <p:nvPr/>
          </p:nvCxnSpPr>
          <p:spPr>
            <a:xfrm>
              <a:off x="7164000" y="2274480"/>
              <a:ext cx="1080" cy="35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3" name="AutoShape 7"/>
            <p:cNvCxnSpPr>
              <a:endCxn id="190" idx="0"/>
            </p:cNvCxnSpPr>
            <p:nvPr/>
          </p:nvCxnSpPr>
          <p:spPr>
            <a:xfrm>
              <a:off x="7164000" y="3139920"/>
              <a:ext cx="1080" cy="43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94" name="Group 8"/>
            <p:cNvGrpSpPr/>
            <p:nvPr/>
          </p:nvGrpSpPr>
          <p:grpSpPr>
            <a:xfrm>
              <a:off x="7164360" y="2708280"/>
              <a:ext cx="68400" cy="357120"/>
              <a:chOff x="7164360" y="2708280"/>
              <a:chExt cx="68400" cy="357120"/>
            </a:xfrm>
          </p:grpSpPr>
          <p:sp>
            <p:nvSpPr>
              <p:cNvPr id="195" name="Oval 9"/>
              <p:cNvSpPr/>
              <p:nvPr/>
            </p:nvSpPr>
            <p:spPr>
              <a:xfrm>
                <a:off x="7164360" y="2708280"/>
                <a:ext cx="68400" cy="68400"/>
              </a:xfrm>
              <a:prstGeom prst="ellipse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Oval 10"/>
              <p:cNvSpPr/>
              <p:nvPr/>
            </p:nvSpPr>
            <p:spPr>
              <a:xfrm>
                <a:off x="7164360" y="2852640"/>
                <a:ext cx="68400" cy="68400"/>
              </a:xfrm>
              <a:prstGeom prst="ellipse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Oval 11"/>
              <p:cNvSpPr/>
              <p:nvPr/>
            </p:nvSpPr>
            <p:spPr>
              <a:xfrm>
                <a:off x="7164360" y="2997360"/>
                <a:ext cx="68400" cy="68040"/>
              </a:xfrm>
              <a:prstGeom prst="ellipse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198" name="AutoShape 12"/>
            <p:cNvCxnSpPr>
              <a:endCxn id="187" idx="0"/>
            </p:cNvCxnSpPr>
            <p:nvPr/>
          </p:nvCxnSpPr>
          <p:spPr>
            <a:xfrm>
              <a:off x="7164000" y="549360"/>
              <a:ext cx="1080" cy="286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9" name="AutoShape 13"/>
            <p:cNvCxnSpPr>
              <a:stCxn id="191" idx="2"/>
            </p:cNvCxnSpPr>
            <p:nvPr/>
          </p:nvCxnSpPr>
          <p:spPr>
            <a:xfrm>
              <a:off x="7164000" y="5011200"/>
              <a:ext cx="1080" cy="213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200" name="Group 14"/>
            <p:cNvGrpSpPr/>
            <p:nvPr/>
          </p:nvGrpSpPr>
          <p:grpSpPr>
            <a:xfrm>
              <a:off x="6084720" y="836640"/>
              <a:ext cx="2156040" cy="500040"/>
              <a:chOff x="6084720" y="836640"/>
              <a:chExt cx="2156040" cy="500040"/>
            </a:xfrm>
          </p:grpSpPr>
          <p:sp>
            <p:nvSpPr>
              <p:cNvPr id="187" name="AutoShape 15"/>
              <p:cNvSpPr/>
              <p:nvPr/>
            </p:nvSpPr>
            <p:spPr>
              <a:xfrm>
                <a:off x="6084720" y="836640"/>
                <a:ext cx="2156040" cy="500040"/>
              </a:xfrm>
              <a:prstGeom prst="flowChartProcess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Text Box 16"/>
              <p:cNvSpPr/>
              <p:nvPr/>
            </p:nvSpPr>
            <p:spPr>
              <a:xfrm>
                <a:off x="6229440" y="907920"/>
                <a:ext cx="1866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действие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2" name="Group 17"/>
            <p:cNvGrpSpPr/>
            <p:nvPr/>
          </p:nvGrpSpPr>
          <p:grpSpPr>
            <a:xfrm>
              <a:off x="6084720" y="1773360"/>
              <a:ext cx="2156040" cy="500040"/>
              <a:chOff x="6084720" y="1773360"/>
              <a:chExt cx="2156040" cy="500040"/>
            </a:xfrm>
          </p:grpSpPr>
          <p:sp>
            <p:nvSpPr>
              <p:cNvPr id="188" name="AutoShape 18"/>
              <p:cNvSpPr/>
              <p:nvPr/>
            </p:nvSpPr>
            <p:spPr>
              <a:xfrm>
                <a:off x="6084720" y="1773360"/>
                <a:ext cx="2156040" cy="500040"/>
              </a:xfrm>
              <a:prstGeom prst="flowChartProcess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Text Box 19"/>
              <p:cNvSpPr/>
              <p:nvPr/>
            </p:nvSpPr>
            <p:spPr>
              <a:xfrm>
                <a:off x="6229440" y="1844640"/>
                <a:ext cx="1866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действие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4" name="Group 20"/>
            <p:cNvGrpSpPr/>
            <p:nvPr/>
          </p:nvGrpSpPr>
          <p:grpSpPr>
            <a:xfrm>
              <a:off x="6084720" y="3573360"/>
              <a:ext cx="2156040" cy="500040"/>
              <a:chOff x="6084720" y="3573360"/>
              <a:chExt cx="2156040" cy="500040"/>
            </a:xfrm>
          </p:grpSpPr>
          <p:sp>
            <p:nvSpPr>
              <p:cNvPr id="190" name="AutoShape 21"/>
              <p:cNvSpPr/>
              <p:nvPr/>
            </p:nvSpPr>
            <p:spPr>
              <a:xfrm>
                <a:off x="6084720" y="3573360"/>
                <a:ext cx="2156040" cy="500040"/>
              </a:xfrm>
              <a:prstGeom prst="flowChartProcess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Text Box 22"/>
              <p:cNvSpPr/>
              <p:nvPr/>
            </p:nvSpPr>
            <p:spPr>
              <a:xfrm>
                <a:off x="6229440" y="3645000"/>
                <a:ext cx="1866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действие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6" name="Group 23"/>
            <p:cNvGrpSpPr/>
            <p:nvPr/>
          </p:nvGrpSpPr>
          <p:grpSpPr>
            <a:xfrm>
              <a:off x="6084720" y="4510080"/>
              <a:ext cx="2156040" cy="500040"/>
              <a:chOff x="6084720" y="4510080"/>
              <a:chExt cx="2156040" cy="500040"/>
            </a:xfrm>
          </p:grpSpPr>
          <p:sp>
            <p:nvSpPr>
              <p:cNvPr id="191" name="AutoShape 24"/>
              <p:cNvSpPr/>
              <p:nvPr/>
            </p:nvSpPr>
            <p:spPr>
              <a:xfrm>
                <a:off x="6084720" y="4510080"/>
                <a:ext cx="2156040" cy="500040"/>
              </a:xfrm>
              <a:prstGeom prst="flowChartProcess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Text Box 25"/>
              <p:cNvSpPr/>
              <p:nvPr/>
            </p:nvSpPr>
            <p:spPr>
              <a:xfrm>
                <a:off x="6229440" y="4581360"/>
                <a:ext cx="1866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действие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"/>
          <p:cNvSpPr/>
          <p:nvPr/>
        </p:nvSpPr>
        <p:spPr>
          <a:xfrm>
            <a:off x="395280" y="333360"/>
            <a:ext cx="8229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Условные алгоритм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250920" y="981000"/>
            <a:ext cx="8207280" cy="22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алгоритмическая конструкция </a:t>
            </a: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ветвлени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бор действия зависит от выполнения некоторого услов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Условие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– выражение, которое может принимать значение либо истина, либо лож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етвления бывают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полные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неполн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1332000" y="3213000"/>
            <a:ext cx="7408440" cy="2651400"/>
            <a:chOff x="1332000" y="3213000"/>
            <a:chExt cx="7408440" cy="2651400"/>
          </a:xfrm>
        </p:grpSpPr>
        <p:sp>
          <p:nvSpPr>
            <p:cNvPr id="211" name="Line 4"/>
            <p:cNvSpPr/>
            <p:nvPr/>
          </p:nvSpPr>
          <p:spPr>
            <a:xfrm flipH="1">
              <a:off x="3840120" y="3213000"/>
              <a:ext cx="1062000" cy="3938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Line 5"/>
            <p:cNvSpPr/>
            <p:nvPr/>
          </p:nvSpPr>
          <p:spPr>
            <a:xfrm>
              <a:off x="5979960" y="3230640"/>
              <a:ext cx="605160" cy="4525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3" name="Group 6"/>
            <p:cNvGrpSpPr/>
            <p:nvPr/>
          </p:nvGrpSpPr>
          <p:grpSpPr>
            <a:xfrm>
              <a:off x="1332000" y="3448080"/>
              <a:ext cx="4127400" cy="2368440"/>
              <a:chOff x="1332000" y="3448080"/>
              <a:chExt cx="4127400" cy="2368440"/>
            </a:xfrm>
          </p:grpSpPr>
          <p:grpSp>
            <p:nvGrpSpPr>
              <p:cNvPr id="214" name="Group 7"/>
              <p:cNvGrpSpPr/>
              <p:nvPr/>
            </p:nvGrpSpPr>
            <p:grpSpPr>
              <a:xfrm>
                <a:off x="1332000" y="3448080"/>
                <a:ext cx="3917880" cy="2368440"/>
                <a:chOff x="1332000" y="3448080"/>
                <a:chExt cx="3917880" cy="2368440"/>
              </a:xfrm>
            </p:grpSpPr>
            <p:grpSp>
              <p:nvGrpSpPr>
                <p:cNvPr id="215" name="Group 8"/>
                <p:cNvGrpSpPr/>
                <p:nvPr/>
              </p:nvGrpSpPr>
              <p:grpSpPr>
                <a:xfrm>
                  <a:off x="1332000" y="3745080"/>
                  <a:ext cx="2727360" cy="1412280"/>
                  <a:chOff x="1332000" y="3745080"/>
                  <a:chExt cx="2727360" cy="1412280"/>
                </a:xfrm>
              </p:grpSpPr>
              <p:sp>
                <p:nvSpPr>
                  <p:cNvPr id="216" name="AutoShape 9"/>
                  <p:cNvSpPr/>
                  <p:nvPr/>
                </p:nvSpPr>
                <p:spPr>
                  <a:xfrm>
                    <a:off x="2522520" y="3745080"/>
                    <a:ext cx="1536840" cy="584280"/>
                  </a:xfrm>
                  <a:prstGeom prst="flowChartDecision">
                    <a:avLst/>
                  </a:prstGeom>
                  <a:solidFill>
                    <a:srgbClr val="ffef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AutoShape 10"/>
                  <p:cNvSpPr/>
                  <p:nvPr/>
                </p:nvSpPr>
                <p:spPr>
                  <a:xfrm>
                    <a:off x="1332000" y="4631400"/>
                    <a:ext cx="1395360" cy="525960"/>
                  </a:xfrm>
                  <a:prstGeom prst="flowChartProcess">
                    <a:avLst/>
                  </a:prstGeom>
                  <a:solidFill>
                    <a:srgbClr val="ffef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Line 11"/>
                  <p:cNvSpPr/>
                  <p:nvPr/>
                </p:nvSpPr>
                <p:spPr>
                  <a:xfrm flipH="1">
                    <a:off x="2027160" y="4040280"/>
                    <a:ext cx="496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cxnSp>
                <p:nvCxnSpPr>
                  <p:cNvPr id="219" name="AutoShape 12"/>
                  <p:cNvCxnSpPr>
                    <a:stCxn id="218" idx="0"/>
                    <a:endCxn id="217" idx="0"/>
                  </p:cNvCxnSpPr>
                  <p:nvPr/>
                </p:nvCxnSpPr>
                <p:spPr>
                  <a:xfrm flipH="1">
                    <a:off x="2029680" y="4036680"/>
                    <a:ext cx="1080" cy="5900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</p:grpSp>
            <p:grpSp>
              <p:nvGrpSpPr>
                <p:cNvPr id="220" name="Group 13"/>
                <p:cNvGrpSpPr/>
                <p:nvPr/>
              </p:nvGrpSpPr>
              <p:grpSpPr>
                <a:xfrm>
                  <a:off x="2522160" y="3745080"/>
                  <a:ext cx="2727720" cy="1412280"/>
                  <a:chOff x="2522160" y="3745080"/>
                  <a:chExt cx="2727720" cy="1412280"/>
                </a:xfrm>
              </p:grpSpPr>
              <p:sp>
                <p:nvSpPr>
                  <p:cNvPr id="221" name="AutoShape 14"/>
                  <p:cNvSpPr/>
                  <p:nvPr/>
                </p:nvSpPr>
                <p:spPr>
                  <a:xfrm flipH="1">
                    <a:off x="2521800" y="3745080"/>
                    <a:ext cx="1536840" cy="584280"/>
                  </a:xfrm>
                  <a:prstGeom prst="flowChartDecision">
                    <a:avLst/>
                  </a:prstGeom>
                  <a:solidFill>
                    <a:srgbClr val="ffef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AutoShape 15"/>
                  <p:cNvSpPr/>
                  <p:nvPr/>
                </p:nvSpPr>
                <p:spPr>
                  <a:xfrm flipH="1">
                    <a:off x="3854520" y="4631400"/>
                    <a:ext cx="1395360" cy="525960"/>
                  </a:xfrm>
                  <a:prstGeom prst="flowChartProcess">
                    <a:avLst/>
                  </a:prstGeom>
                  <a:solidFill>
                    <a:srgbClr val="ffef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16"/>
                  <p:cNvSpPr/>
                  <p:nvPr/>
                </p:nvSpPr>
                <p:spPr>
                  <a:xfrm>
                    <a:off x="4064040" y="4040280"/>
                    <a:ext cx="484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cxnSp>
                <p:nvCxnSpPr>
                  <p:cNvPr id="224" name="AutoShape 17"/>
                  <p:cNvCxnSpPr>
                    <a:endCxn id="222" idx="0"/>
                  </p:cNvCxnSpPr>
                  <p:nvPr/>
                </p:nvCxnSpPr>
                <p:spPr>
                  <a:xfrm>
                    <a:off x="4551120" y="4038480"/>
                    <a:ext cx="1080" cy="5918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</p:grpSp>
            <p:sp>
              <p:nvSpPr>
                <p:cNvPr id="225" name="Line 18"/>
                <p:cNvSpPr/>
                <p:nvPr/>
              </p:nvSpPr>
              <p:spPr>
                <a:xfrm>
                  <a:off x="3292560" y="3448080"/>
                  <a:ext cx="0" cy="291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cxnSp>
              <p:nvCxnSpPr>
                <p:cNvPr id="226" name="AutoShape 19"/>
                <p:cNvCxnSpPr>
                  <a:stCxn id="217" idx="2"/>
                </p:cNvCxnSpPr>
                <p:nvPr/>
              </p:nvCxnSpPr>
              <p:spPr>
                <a:xfrm>
                  <a:off x="2031480" y="5165640"/>
                  <a:ext cx="2520" cy="2930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227" name="AutoShape 20"/>
                <p:cNvCxnSpPr/>
                <p:nvPr/>
              </p:nvCxnSpPr>
              <p:spPr>
                <a:xfrm>
                  <a:off x="2031480" y="5341680"/>
                  <a:ext cx="252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28" name="AutoShape 21"/>
                <p:cNvCxnSpPr/>
                <p:nvPr/>
              </p:nvCxnSpPr>
              <p:spPr>
                <a:xfrm>
                  <a:off x="2033640" y="5460480"/>
                  <a:ext cx="125640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229" name="AutoShape 22"/>
                <p:cNvCxnSpPr/>
                <p:nvPr/>
              </p:nvCxnSpPr>
              <p:spPr>
                <a:xfrm>
                  <a:off x="3292200" y="5462280"/>
                  <a:ext cx="1080" cy="3546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230" name="AutoShape 23"/>
                <p:cNvCxnSpPr/>
                <p:nvPr/>
              </p:nvCxnSpPr>
              <p:spPr>
                <a:xfrm flipH="1">
                  <a:off x="4482360" y="5341680"/>
                  <a:ext cx="108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31" name="AutoShape 24"/>
                <p:cNvCxnSpPr/>
                <p:nvPr/>
              </p:nvCxnSpPr>
              <p:spPr>
                <a:xfrm flipH="1">
                  <a:off x="3292200" y="5460480"/>
                  <a:ext cx="125640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232" name="AutoShape 25"/>
                <p:cNvCxnSpPr>
                  <a:stCxn id="222" idx="2"/>
                </p:cNvCxnSpPr>
                <p:nvPr/>
              </p:nvCxnSpPr>
              <p:spPr>
                <a:xfrm>
                  <a:off x="4552560" y="5162040"/>
                  <a:ext cx="1080" cy="2962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  <p:sp>
            <p:nvSpPr>
              <p:cNvPr id="233" name="Text Box 26"/>
              <p:cNvSpPr/>
              <p:nvPr/>
            </p:nvSpPr>
            <p:spPr>
              <a:xfrm>
                <a:off x="2786040" y="3854520"/>
                <a:ext cx="106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услови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Text Box 27"/>
              <p:cNvSpPr/>
              <p:nvPr/>
            </p:nvSpPr>
            <p:spPr>
              <a:xfrm>
                <a:off x="1403280" y="4667400"/>
                <a:ext cx="1536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действие 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Text Box 28"/>
              <p:cNvSpPr/>
              <p:nvPr/>
            </p:nvSpPr>
            <p:spPr>
              <a:xfrm>
                <a:off x="3922560" y="4737240"/>
                <a:ext cx="1536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действие 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Text Box 29"/>
              <p:cNvSpPr/>
              <p:nvPr/>
            </p:nvSpPr>
            <p:spPr>
              <a:xfrm>
                <a:off x="3992400" y="3719520"/>
                <a:ext cx="11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истина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Text Box 30"/>
              <p:cNvSpPr/>
              <p:nvPr/>
            </p:nvSpPr>
            <p:spPr>
              <a:xfrm>
                <a:off x="1890720" y="3719520"/>
                <a:ext cx="836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ложь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8" name="Group 31"/>
            <p:cNvGrpSpPr/>
            <p:nvPr/>
          </p:nvGrpSpPr>
          <p:grpSpPr>
            <a:xfrm>
              <a:off x="5176800" y="3570120"/>
              <a:ext cx="3563640" cy="2294280"/>
              <a:chOff x="5176800" y="3570120"/>
              <a:chExt cx="3563640" cy="2294280"/>
            </a:xfrm>
          </p:grpSpPr>
          <p:grpSp>
            <p:nvGrpSpPr>
              <p:cNvPr id="239" name="Group 32"/>
              <p:cNvGrpSpPr/>
              <p:nvPr/>
            </p:nvGrpSpPr>
            <p:grpSpPr>
              <a:xfrm>
                <a:off x="5394240" y="3570120"/>
                <a:ext cx="3346200" cy="2294280"/>
                <a:chOff x="5394240" y="3570120"/>
                <a:chExt cx="3346200" cy="2294280"/>
              </a:xfrm>
            </p:grpSpPr>
            <p:grpSp>
              <p:nvGrpSpPr>
                <p:cNvPr id="240" name="Group 33"/>
                <p:cNvGrpSpPr/>
                <p:nvPr/>
              </p:nvGrpSpPr>
              <p:grpSpPr>
                <a:xfrm>
                  <a:off x="5394240" y="3570120"/>
                  <a:ext cx="3346200" cy="2294280"/>
                  <a:chOff x="5394240" y="3570120"/>
                  <a:chExt cx="3346200" cy="2294280"/>
                </a:xfrm>
              </p:grpSpPr>
              <p:grpSp>
                <p:nvGrpSpPr>
                  <p:cNvPr id="241" name="Group 34"/>
                  <p:cNvGrpSpPr/>
                  <p:nvPr/>
                </p:nvGrpSpPr>
                <p:grpSpPr>
                  <a:xfrm>
                    <a:off x="5394240" y="3857400"/>
                    <a:ext cx="2108520" cy="1661040"/>
                    <a:chOff x="5394240" y="3857400"/>
                    <a:chExt cx="2108520" cy="1661040"/>
                  </a:xfrm>
                </p:grpSpPr>
                <p:sp>
                  <p:nvSpPr>
                    <p:cNvPr id="242" name="AutoShape 35"/>
                    <p:cNvSpPr/>
                    <p:nvPr/>
                  </p:nvSpPr>
                  <p:spPr>
                    <a:xfrm>
                      <a:off x="5908320" y="3857400"/>
                      <a:ext cx="1594440" cy="567000"/>
                    </a:xfrm>
                    <a:prstGeom prst="flowChartDecision">
                      <a:avLst/>
                    </a:prstGeom>
                    <a:solidFill>
                      <a:srgbClr val="ffef66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Line 36"/>
                    <p:cNvSpPr/>
                    <p:nvPr/>
                  </p:nvSpPr>
                  <p:spPr>
                    <a:xfrm flipH="1">
                      <a:off x="5394240" y="4142160"/>
                      <a:ext cx="5155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cxnSp>
                  <p:nvCxnSpPr>
                    <p:cNvPr id="244" name="AutoShape 37"/>
                    <p:cNvCxnSpPr>
                      <a:stCxn id="243" idx="0"/>
                    </p:cNvCxnSpPr>
                    <p:nvPr/>
                  </p:nvCxnSpPr>
                  <p:spPr>
                    <a:xfrm flipH="1">
                      <a:off x="5396400" y="4142160"/>
                      <a:ext cx="1080" cy="137664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</p:cxnSp>
              </p:grpSp>
              <p:sp>
                <p:nvSpPr>
                  <p:cNvPr id="245" name="AutoShape 38"/>
                  <p:cNvSpPr/>
                  <p:nvPr/>
                </p:nvSpPr>
                <p:spPr>
                  <a:xfrm flipH="1">
                    <a:off x="5904720" y="3857400"/>
                    <a:ext cx="1597320" cy="567720"/>
                  </a:xfrm>
                  <a:prstGeom prst="flowChartDecision">
                    <a:avLst/>
                  </a:prstGeom>
                  <a:solidFill>
                    <a:srgbClr val="ffef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AutoShape 39"/>
                  <p:cNvSpPr/>
                  <p:nvPr/>
                </p:nvSpPr>
                <p:spPr>
                  <a:xfrm flipH="1">
                    <a:off x="7288920" y="4717440"/>
                    <a:ext cx="1451520" cy="510840"/>
                  </a:xfrm>
                  <a:prstGeom prst="flowChartProcess">
                    <a:avLst/>
                  </a:prstGeom>
                  <a:solidFill>
                    <a:srgbClr val="ffef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Line 40"/>
                  <p:cNvSpPr/>
                  <p:nvPr/>
                </p:nvSpPr>
                <p:spPr>
                  <a:xfrm>
                    <a:off x="7509600" y="4142880"/>
                    <a:ext cx="503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cxnSp>
                <p:nvCxnSpPr>
                  <p:cNvPr id="248" name="AutoShape 41"/>
                  <p:cNvCxnSpPr>
                    <a:endCxn id="246" idx="0"/>
                  </p:cNvCxnSpPr>
                  <p:nvPr/>
                </p:nvCxnSpPr>
                <p:spPr>
                  <a:xfrm>
                    <a:off x="8017560" y="4142520"/>
                    <a:ext cx="2520" cy="5720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49" name="Line 42"/>
                  <p:cNvSpPr/>
                  <p:nvPr/>
                </p:nvSpPr>
                <p:spPr>
                  <a:xfrm>
                    <a:off x="6707520" y="3570120"/>
                    <a:ext cx="0" cy="282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cxnSp>
                <p:nvCxnSpPr>
                  <p:cNvPr id="250" name="AutoShape 43"/>
                  <p:cNvCxnSpPr/>
                  <p:nvPr/>
                </p:nvCxnSpPr>
                <p:spPr>
                  <a:xfrm>
                    <a:off x="5397120" y="5405400"/>
                    <a:ext cx="1080" cy="10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251" name="AutoShape 44"/>
                  <p:cNvCxnSpPr/>
                  <p:nvPr/>
                </p:nvCxnSpPr>
                <p:spPr>
                  <a:xfrm>
                    <a:off x="5397120" y="5521320"/>
                    <a:ext cx="1309320" cy="216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52" name="AutoShape 45"/>
                  <p:cNvCxnSpPr/>
                  <p:nvPr/>
                </p:nvCxnSpPr>
                <p:spPr>
                  <a:xfrm>
                    <a:off x="6707160" y="5521320"/>
                    <a:ext cx="1080" cy="343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53" name="AutoShape 46"/>
                  <p:cNvCxnSpPr/>
                  <p:nvPr/>
                </p:nvCxnSpPr>
                <p:spPr>
                  <a:xfrm flipH="1">
                    <a:off x="7945920" y="5405400"/>
                    <a:ext cx="1080" cy="10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254" name="AutoShape 47"/>
                  <p:cNvCxnSpPr/>
                  <p:nvPr/>
                </p:nvCxnSpPr>
                <p:spPr>
                  <a:xfrm flipH="1">
                    <a:off x="6707160" y="5521320"/>
                    <a:ext cx="1307520" cy="216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55" name="AutoShape 48"/>
                  <p:cNvCxnSpPr>
                    <a:stCxn id="246" idx="2"/>
                  </p:cNvCxnSpPr>
                  <p:nvPr/>
                </p:nvCxnSpPr>
                <p:spPr>
                  <a:xfrm>
                    <a:off x="8020800" y="5234040"/>
                    <a:ext cx="1080" cy="28620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</p:grpSp>
            <p:sp>
              <p:nvSpPr>
                <p:cNvPr id="256" name="Text Box 49"/>
                <p:cNvSpPr/>
                <p:nvPr/>
              </p:nvSpPr>
              <p:spPr>
                <a:xfrm>
                  <a:off x="6202440" y="3963960"/>
                  <a:ext cx="1089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"/>
                    </a:rPr>
                    <a:t>условие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7" name="Text Box 50"/>
                <p:cNvSpPr/>
                <p:nvPr/>
              </p:nvSpPr>
              <p:spPr>
                <a:xfrm>
                  <a:off x="7435800" y="4818240"/>
                  <a:ext cx="1233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"/>
                    </a:rPr>
                    <a:t>действие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8" name="Text Box 51"/>
              <p:cNvSpPr/>
              <p:nvPr/>
            </p:nvSpPr>
            <p:spPr>
              <a:xfrm>
                <a:off x="7362720" y="3832200"/>
                <a:ext cx="1162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истина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Text Box 52"/>
              <p:cNvSpPr/>
              <p:nvPr/>
            </p:nvSpPr>
            <p:spPr>
              <a:xfrm>
                <a:off x="5176800" y="3832200"/>
                <a:ext cx="868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ложь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1"/>
          <p:cNvSpPr/>
          <p:nvPr/>
        </p:nvSpPr>
        <p:spPr>
          <a:xfrm>
            <a:off x="468360" y="907920"/>
            <a:ext cx="8207280" cy="23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лгоритмическая конструкция </a:t>
            </a: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повторение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)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алгоритме есть повторяющиеся действ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иклы бывают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редусловием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с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остусловие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условие стоит перед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условие стоит посл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вторением действий)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вторения действий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Group 2"/>
          <p:cNvGrpSpPr/>
          <p:nvPr/>
        </p:nvGrpSpPr>
        <p:grpSpPr>
          <a:xfrm>
            <a:off x="1547640" y="3357720"/>
            <a:ext cx="2662200" cy="2733120"/>
            <a:chOff x="1547640" y="3357720"/>
            <a:chExt cx="2662200" cy="2733120"/>
          </a:xfrm>
        </p:grpSpPr>
        <p:grpSp>
          <p:nvGrpSpPr>
            <p:cNvPr id="262" name="Group 3"/>
            <p:cNvGrpSpPr/>
            <p:nvPr/>
          </p:nvGrpSpPr>
          <p:grpSpPr>
            <a:xfrm>
              <a:off x="1832040" y="3357720"/>
              <a:ext cx="2377800" cy="2733120"/>
              <a:chOff x="1832040" y="3357720"/>
              <a:chExt cx="2377800" cy="2733120"/>
            </a:xfrm>
          </p:grpSpPr>
          <p:sp>
            <p:nvSpPr>
              <p:cNvPr id="263" name="AutoShape 4"/>
              <p:cNvSpPr/>
              <p:nvPr/>
            </p:nvSpPr>
            <p:spPr>
              <a:xfrm>
                <a:off x="2341080" y="3673080"/>
                <a:ext cx="1575720" cy="629640"/>
              </a:xfrm>
              <a:prstGeom prst="flowChartDecision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Line 5"/>
              <p:cNvSpPr/>
              <p:nvPr/>
            </p:nvSpPr>
            <p:spPr>
              <a:xfrm flipH="1">
                <a:off x="1832040" y="3990240"/>
                <a:ext cx="510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cxnSp>
            <p:nvCxnSpPr>
              <p:cNvPr id="265" name="AutoShape 6"/>
              <p:cNvCxnSpPr>
                <a:stCxn id="264" idx="0"/>
              </p:cNvCxnSpPr>
              <p:nvPr/>
            </p:nvCxnSpPr>
            <p:spPr>
              <a:xfrm flipH="1">
                <a:off x="1832760" y="3990240"/>
                <a:ext cx="1080" cy="1740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66" name="AutoShape 7"/>
              <p:cNvSpPr/>
              <p:nvPr/>
            </p:nvSpPr>
            <p:spPr>
              <a:xfrm flipH="1">
                <a:off x="2338920" y="3673080"/>
                <a:ext cx="1575720" cy="623160"/>
              </a:xfrm>
              <a:prstGeom prst="flowChartDecision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Line 8"/>
              <p:cNvSpPr/>
              <p:nvPr/>
            </p:nvSpPr>
            <p:spPr>
              <a:xfrm>
                <a:off x="3130560" y="3357720"/>
                <a:ext cx="0" cy="31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cxnSp>
            <p:nvCxnSpPr>
              <p:cNvPr id="268" name="AutoShape 9"/>
              <p:cNvCxnSpPr/>
              <p:nvPr/>
            </p:nvCxnSpPr>
            <p:spPr>
              <a:xfrm>
                <a:off x="1837800" y="5370480"/>
                <a:ext cx="10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69" name="AutoShape 10"/>
              <p:cNvCxnSpPr/>
              <p:nvPr/>
            </p:nvCxnSpPr>
            <p:spPr>
              <a:xfrm>
                <a:off x="1838160" y="5731920"/>
                <a:ext cx="12895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70" name="AutoShape 11"/>
              <p:cNvCxnSpPr/>
              <p:nvPr/>
            </p:nvCxnSpPr>
            <p:spPr>
              <a:xfrm>
                <a:off x="3130200" y="5732280"/>
                <a:ext cx="1080" cy="358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grpSp>
            <p:nvGrpSpPr>
              <p:cNvPr id="271" name="Group 12"/>
              <p:cNvGrpSpPr/>
              <p:nvPr/>
            </p:nvGrpSpPr>
            <p:grpSpPr>
              <a:xfrm>
                <a:off x="2412000" y="4293000"/>
                <a:ext cx="1431360" cy="1072080"/>
                <a:chOff x="2412000" y="4293000"/>
                <a:chExt cx="1431360" cy="1072080"/>
              </a:xfrm>
            </p:grpSpPr>
            <p:sp>
              <p:nvSpPr>
                <p:cNvPr id="272" name="AutoShape 13"/>
                <p:cNvSpPr/>
                <p:nvPr/>
              </p:nvSpPr>
              <p:spPr>
                <a:xfrm flipH="1">
                  <a:off x="2412000" y="4543560"/>
                  <a:ext cx="1431360" cy="557280"/>
                </a:xfrm>
                <a:prstGeom prst="flowChartProcess">
                  <a:avLst/>
                </a:prstGeom>
                <a:solidFill>
                  <a:srgbClr val="ffe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cxnSp>
              <p:nvCxnSpPr>
                <p:cNvPr id="273" name="AutoShape 14"/>
                <p:cNvCxnSpPr>
                  <a:endCxn id="272" idx="0"/>
                </p:cNvCxnSpPr>
                <p:nvPr/>
              </p:nvCxnSpPr>
              <p:spPr>
                <a:xfrm>
                  <a:off x="3129480" y="4293000"/>
                  <a:ext cx="1080" cy="2509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274" name="AutoShape 15"/>
                <p:cNvCxnSpPr/>
                <p:nvPr/>
              </p:nvCxnSpPr>
              <p:spPr>
                <a:xfrm flipH="1">
                  <a:off x="3058200" y="5295600"/>
                  <a:ext cx="108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75" name="AutoShape 16"/>
                <p:cNvCxnSpPr>
                  <a:stCxn id="272" idx="2"/>
                </p:cNvCxnSpPr>
                <p:nvPr/>
              </p:nvCxnSpPr>
              <p:spPr>
                <a:xfrm>
                  <a:off x="3129480" y="5106960"/>
                  <a:ext cx="1080" cy="2584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  <p:cxnSp>
            <p:nvCxnSpPr>
              <p:cNvPr id="276" name="AutoShape 17"/>
              <p:cNvCxnSpPr/>
              <p:nvPr/>
            </p:nvCxnSpPr>
            <p:spPr>
              <a:xfrm>
                <a:off x="3130200" y="5371920"/>
                <a:ext cx="10753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77" name="AutoShape 18"/>
              <p:cNvCxnSpPr/>
              <p:nvPr/>
            </p:nvCxnSpPr>
            <p:spPr>
              <a:xfrm flipV="1">
                <a:off x="4208400" y="3501360"/>
                <a:ext cx="1080" cy="1866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78" name="Line 19"/>
              <p:cNvSpPr/>
              <p:nvPr/>
            </p:nvSpPr>
            <p:spPr>
              <a:xfrm flipH="1">
                <a:off x="3124080" y="3501720"/>
                <a:ext cx="1085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9" name="Rectangle 20"/>
            <p:cNvSpPr/>
            <p:nvPr/>
          </p:nvSpPr>
          <p:spPr>
            <a:xfrm>
              <a:off x="2624760" y="3789360"/>
              <a:ext cx="10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услови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1"/>
            <p:cNvSpPr/>
            <p:nvPr/>
          </p:nvSpPr>
          <p:spPr>
            <a:xfrm>
              <a:off x="2555280" y="4581360"/>
              <a:ext cx="116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ействи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Text Box 22"/>
            <p:cNvSpPr/>
            <p:nvPr/>
          </p:nvSpPr>
          <p:spPr>
            <a:xfrm>
              <a:off x="1547640" y="3646440"/>
              <a:ext cx="114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истин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Text Box 23"/>
            <p:cNvSpPr/>
            <p:nvPr/>
          </p:nvSpPr>
          <p:spPr>
            <a:xfrm>
              <a:off x="2411280" y="4221000"/>
              <a:ext cx="86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лож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3" name="Group 24"/>
          <p:cNvGrpSpPr/>
          <p:nvPr/>
        </p:nvGrpSpPr>
        <p:grpSpPr>
          <a:xfrm>
            <a:off x="5292360" y="3500280"/>
            <a:ext cx="2948400" cy="2529000"/>
            <a:chOff x="5292360" y="3500280"/>
            <a:chExt cx="2948400" cy="2529000"/>
          </a:xfrm>
        </p:grpSpPr>
        <p:grpSp>
          <p:nvGrpSpPr>
            <p:cNvPr id="284" name="Group 25"/>
            <p:cNvGrpSpPr/>
            <p:nvPr/>
          </p:nvGrpSpPr>
          <p:grpSpPr>
            <a:xfrm>
              <a:off x="5292360" y="3500280"/>
              <a:ext cx="2805840" cy="2514600"/>
              <a:chOff x="5292360" y="3500280"/>
              <a:chExt cx="2805840" cy="2514600"/>
            </a:xfrm>
          </p:grpSpPr>
          <p:cxnSp>
            <p:nvCxnSpPr>
              <p:cNvPr id="285" name="AutoShape 26"/>
              <p:cNvCxnSpPr/>
              <p:nvPr/>
            </p:nvCxnSpPr>
            <p:spPr>
              <a:xfrm>
                <a:off x="5292360" y="5079600"/>
                <a:ext cx="1080" cy="2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286" name="AutoShape 27"/>
              <p:cNvSpPr/>
              <p:nvPr/>
            </p:nvSpPr>
            <p:spPr>
              <a:xfrm flipH="1">
                <a:off x="5721480" y="5011560"/>
                <a:ext cx="1576080" cy="624240"/>
              </a:xfrm>
              <a:prstGeom prst="flowChartDecision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cxnSp>
            <p:nvCxnSpPr>
              <p:cNvPr id="287" name="AutoShape 28"/>
              <p:cNvCxnSpPr/>
              <p:nvPr/>
            </p:nvCxnSpPr>
            <p:spPr>
              <a:xfrm>
                <a:off x="6513120" y="5659200"/>
                <a:ext cx="1080" cy="356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88" name="AutoShape 29"/>
              <p:cNvSpPr/>
              <p:nvPr/>
            </p:nvSpPr>
            <p:spPr>
              <a:xfrm flipH="1">
                <a:off x="5794200" y="4075200"/>
                <a:ext cx="1432080" cy="560160"/>
              </a:xfrm>
              <a:prstGeom prst="flowChartProcess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cxnSp>
            <p:nvCxnSpPr>
              <p:cNvPr id="289" name="AutoShape 30"/>
              <p:cNvCxnSpPr/>
              <p:nvPr/>
            </p:nvCxnSpPr>
            <p:spPr>
              <a:xfrm flipH="1">
                <a:off x="6439680" y="4792320"/>
                <a:ext cx="10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90" name="AutoShape 31"/>
              <p:cNvCxnSpPr>
                <a:stCxn id="288" idx="2"/>
              </p:cNvCxnSpPr>
              <p:nvPr/>
            </p:nvCxnSpPr>
            <p:spPr>
              <a:xfrm>
                <a:off x="6514920" y="4638240"/>
                <a:ext cx="1080" cy="343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91" name="AutoShape 32"/>
              <p:cNvCxnSpPr/>
              <p:nvPr/>
            </p:nvCxnSpPr>
            <p:spPr>
              <a:xfrm>
                <a:off x="7305480" y="5300280"/>
                <a:ext cx="7880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92" name="AutoShape 33"/>
              <p:cNvCxnSpPr>
                <a:endCxn id="293" idx="0"/>
              </p:cNvCxnSpPr>
              <p:nvPr/>
            </p:nvCxnSpPr>
            <p:spPr>
              <a:xfrm flipV="1">
                <a:off x="8097480" y="3785400"/>
                <a:ext cx="1080" cy="1508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94" name="Line 34"/>
              <p:cNvSpPr/>
              <p:nvPr/>
            </p:nvSpPr>
            <p:spPr>
              <a:xfrm flipH="1">
                <a:off x="6507000" y="3787920"/>
                <a:ext cx="158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Line 35"/>
              <p:cNvSpPr/>
              <p:nvPr/>
            </p:nvSpPr>
            <p:spPr>
              <a:xfrm>
                <a:off x="6513480" y="3500280"/>
                <a:ext cx="0" cy="57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6" name="Rectangle 36"/>
            <p:cNvSpPr/>
            <p:nvPr/>
          </p:nvSpPr>
          <p:spPr>
            <a:xfrm>
              <a:off x="6010920" y="5084640"/>
              <a:ext cx="10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услови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Rectangle 37"/>
            <p:cNvSpPr/>
            <p:nvPr/>
          </p:nvSpPr>
          <p:spPr>
            <a:xfrm>
              <a:off x="5939640" y="4148280"/>
              <a:ext cx="116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ействи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Text Box 38"/>
            <p:cNvSpPr/>
            <p:nvPr/>
          </p:nvSpPr>
          <p:spPr>
            <a:xfrm>
              <a:off x="7093080" y="4940280"/>
              <a:ext cx="1147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истин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Text Box 39"/>
            <p:cNvSpPr/>
            <p:nvPr/>
          </p:nvSpPr>
          <p:spPr>
            <a:xfrm>
              <a:off x="5797440" y="5661000"/>
              <a:ext cx="86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лож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0" name="Line 40"/>
          <p:cNvSpPr/>
          <p:nvPr/>
        </p:nvSpPr>
        <p:spPr>
          <a:xfrm>
            <a:off x="2057400" y="3301920"/>
            <a:ext cx="1440" cy="432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Line 41"/>
          <p:cNvSpPr/>
          <p:nvPr/>
        </p:nvSpPr>
        <p:spPr>
          <a:xfrm>
            <a:off x="7093080" y="3252960"/>
            <a:ext cx="1440" cy="4316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Rectangle 42"/>
          <p:cNvSpPr/>
          <p:nvPr/>
        </p:nvSpPr>
        <p:spPr>
          <a:xfrm>
            <a:off x="39528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Циклические алгоритм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"/>
          <p:cNvSpPr/>
          <p:nvPr/>
        </p:nvSpPr>
        <p:spPr>
          <a:xfrm>
            <a:off x="4572000" y="692280"/>
            <a:ext cx="3695760" cy="5761080"/>
          </a:xfrm>
          <a:prstGeom prst="rect">
            <a:avLst/>
          </a:prstGeom>
          <a:noFill/>
          <a:ln w="28440">
            <a:solidFill>
              <a:srgbClr val="a500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2"/>
          <p:cNvSpPr/>
          <p:nvPr/>
        </p:nvSpPr>
        <p:spPr>
          <a:xfrm>
            <a:off x="539640" y="0"/>
            <a:ext cx="822960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640000"/>
                </a:solidFill>
                <a:latin typeface="Times New Roman"/>
              </a:rPr>
              <a:t>Простейшие приме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468360" y="119700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дача 1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приготовить яичниц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6" name="Group 4"/>
          <p:cNvGrpSpPr/>
          <p:nvPr/>
        </p:nvGrpSpPr>
        <p:grpSpPr>
          <a:xfrm>
            <a:off x="4427640" y="836640"/>
            <a:ext cx="4100400" cy="5624640"/>
            <a:chOff x="4427640" y="836640"/>
            <a:chExt cx="4100400" cy="5624640"/>
          </a:xfrm>
        </p:grpSpPr>
        <p:grpSp>
          <p:nvGrpSpPr>
            <p:cNvPr id="307" name="Group 5"/>
            <p:cNvGrpSpPr/>
            <p:nvPr/>
          </p:nvGrpSpPr>
          <p:grpSpPr>
            <a:xfrm>
              <a:off x="4427640" y="3068640"/>
              <a:ext cx="4100400" cy="403200"/>
              <a:chOff x="4427640" y="3068640"/>
              <a:chExt cx="4100400" cy="403200"/>
            </a:xfrm>
          </p:grpSpPr>
          <p:sp>
            <p:nvSpPr>
              <p:cNvPr id="308" name="AutoShape 6"/>
              <p:cNvSpPr/>
              <p:nvPr/>
            </p:nvSpPr>
            <p:spPr>
              <a:xfrm>
                <a:off x="4716360" y="3135240"/>
                <a:ext cx="3451320" cy="336600"/>
              </a:xfrm>
              <a:prstGeom prst="flowChartProcess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Text Box 7"/>
              <p:cNvSpPr/>
              <p:nvPr/>
            </p:nvSpPr>
            <p:spPr>
              <a:xfrm>
                <a:off x="4427640" y="3068640"/>
                <a:ext cx="4100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положить на сковороду масло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310" name="AutoShape 8"/>
            <p:cNvCxnSpPr>
              <a:stCxn id="311" idx="2"/>
              <a:endCxn id="312" idx="0"/>
            </p:cNvCxnSpPr>
            <p:nvPr/>
          </p:nvCxnSpPr>
          <p:spPr>
            <a:xfrm>
              <a:off x="6446520" y="1690560"/>
              <a:ext cx="1080" cy="253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3" name="AutoShape 9"/>
            <p:cNvCxnSpPr>
              <a:stCxn id="312" idx="2"/>
              <a:endCxn id="314" idx="0"/>
            </p:cNvCxnSpPr>
            <p:nvPr/>
          </p:nvCxnSpPr>
          <p:spPr>
            <a:xfrm>
              <a:off x="6443280" y="2281320"/>
              <a:ext cx="1080" cy="257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5" name="AutoShape 10"/>
            <p:cNvCxnSpPr>
              <a:stCxn id="314" idx="2"/>
              <a:endCxn id="308" idx="0"/>
            </p:cNvCxnSpPr>
            <p:nvPr/>
          </p:nvCxnSpPr>
          <p:spPr>
            <a:xfrm flipH="1">
              <a:off x="6442920" y="2878200"/>
              <a:ext cx="1080" cy="255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6" name="AutoShape 11"/>
            <p:cNvCxnSpPr/>
            <p:nvPr/>
          </p:nvCxnSpPr>
          <p:spPr>
            <a:xfrm>
              <a:off x="6444720" y="3500280"/>
              <a:ext cx="2520" cy="254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7" name="AutoShape 12"/>
            <p:cNvCxnSpPr>
              <a:stCxn id="318" idx="2"/>
              <a:endCxn id="319" idx="0"/>
            </p:cNvCxnSpPr>
            <p:nvPr/>
          </p:nvCxnSpPr>
          <p:spPr>
            <a:xfrm>
              <a:off x="6443280" y="4068720"/>
              <a:ext cx="1080" cy="255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0" name="AutoShape 13"/>
            <p:cNvCxnSpPr>
              <a:stCxn id="319" idx="2"/>
              <a:endCxn id="321" idx="0"/>
            </p:cNvCxnSpPr>
            <p:nvPr/>
          </p:nvCxnSpPr>
          <p:spPr>
            <a:xfrm>
              <a:off x="6444720" y="4664160"/>
              <a:ext cx="108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2" name="AutoShape 14"/>
            <p:cNvCxnSpPr>
              <a:stCxn id="321" idx="2"/>
              <a:endCxn id="323" idx="0"/>
            </p:cNvCxnSpPr>
            <p:nvPr/>
          </p:nvCxnSpPr>
          <p:spPr>
            <a:xfrm>
              <a:off x="6443280" y="5345280"/>
              <a:ext cx="1080" cy="257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24" name="Line 15"/>
            <p:cNvSpPr/>
            <p:nvPr/>
          </p:nvSpPr>
          <p:spPr>
            <a:xfrm>
              <a:off x="6373800" y="5943600"/>
              <a:ext cx="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Line 16"/>
            <p:cNvSpPr/>
            <p:nvPr/>
          </p:nvSpPr>
          <p:spPr>
            <a:xfrm>
              <a:off x="6446880" y="1177920"/>
              <a:ext cx="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6" name="Group 17"/>
            <p:cNvGrpSpPr/>
            <p:nvPr/>
          </p:nvGrpSpPr>
          <p:grpSpPr>
            <a:xfrm>
              <a:off x="5797440" y="836640"/>
              <a:ext cx="1363680" cy="368280"/>
              <a:chOff x="5797440" y="836640"/>
              <a:chExt cx="1363680" cy="368280"/>
            </a:xfrm>
          </p:grpSpPr>
          <p:sp>
            <p:nvSpPr>
              <p:cNvPr id="327" name="AutoShape 18"/>
              <p:cNvSpPr/>
              <p:nvPr/>
            </p:nvSpPr>
            <p:spPr>
              <a:xfrm>
                <a:off x="5797440" y="836640"/>
                <a:ext cx="1363680" cy="334800"/>
              </a:xfrm>
              <a:prstGeom prst="flowChartTerminator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Text Box 19"/>
              <p:cNvSpPr/>
              <p:nvPr/>
            </p:nvSpPr>
            <p:spPr>
              <a:xfrm>
                <a:off x="6013440" y="836640"/>
                <a:ext cx="1147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начало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20"/>
            <p:cNvGrpSpPr/>
            <p:nvPr/>
          </p:nvGrpSpPr>
          <p:grpSpPr>
            <a:xfrm>
              <a:off x="5365800" y="1339920"/>
              <a:ext cx="2084400" cy="368280"/>
              <a:chOff x="5365800" y="1339920"/>
              <a:chExt cx="2084400" cy="368280"/>
            </a:xfrm>
          </p:grpSpPr>
          <p:sp>
            <p:nvSpPr>
              <p:cNvPr id="311" name="AutoShape 21"/>
              <p:cNvSpPr/>
              <p:nvPr/>
            </p:nvSpPr>
            <p:spPr>
              <a:xfrm>
                <a:off x="5510160" y="1349280"/>
                <a:ext cx="1866960" cy="336600"/>
              </a:xfrm>
              <a:prstGeom prst="flowChartProcess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Text Box 22"/>
              <p:cNvSpPr/>
              <p:nvPr/>
            </p:nvSpPr>
            <p:spPr>
              <a:xfrm>
                <a:off x="5365800" y="1339920"/>
                <a:ext cx="2084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взять сковороду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1" name="Group 23"/>
            <p:cNvGrpSpPr/>
            <p:nvPr/>
          </p:nvGrpSpPr>
          <p:grpSpPr>
            <a:xfrm>
              <a:off x="5438880" y="1916280"/>
              <a:ext cx="2084400" cy="368280"/>
              <a:chOff x="5438880" y="1916280"/>
              <a:chExt cx="2084400" cy="368280"/>
            </a:xfrm>
          </p:grpSpPr>
          <p:sp>
            <p:nvSpPr>
              <p:cNvPr id="312" name="AutoShape 24"/>
              <p:cNvSpPr/>
              <p:nvPr/>
            </p:nvSpPr>
            <p:spPr>
              <a:xfrm>
                <a:off x="5510160" y="1943280"/>
                <a:ext cx="1866960" cy="336240"/>
              </a:xfrm>
              <a:prstGeom prst="flowChartProcess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Text Box 25"/>
              <p:cNvSpPr/>
              <p:nvPr/>
            </p:nvSpPr>
            <p:spPr>
              <a:xfrm>
                <a:off x="5438880" y="1916280"/>
                <a:ext cx="2084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включить газ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26"/>
            <p:cNvGrpSpPr/>
            <p:nvPr/>
          </p:nvGrpSpPr>
          <p:grpSpPr>
            <a:xfrm>
              <a:off x="4789440" y="2492280"/>
              <a:ext cx="3379680" cy="384120"/>
              <a:chOff x="4789440" y="2492280"/>
              <a:chExt cx="3379680" cy="384120"/>
            </a:xfrm>
          </p:grpSpPr>
          <p:sp>
            <p:nvSpPr>
              <p:cNvPr id="314" name="AutoShape 27"/>
              <p:cNvSpPr/>
              <p:nvPr/>
            </p:nvSpPr>
            <p:spPr>
              <a:xfrm>
                <a:off x="4789440" y="2540160"/>
                <a:ext cx="3308400" cy="336240"/>
              </a:xfrm>
              <a:prstGeom prst="flowChartProcess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Text Box 28"/>
              <p:cNvSpPr/>
              <p:nvPr/>
            </p:nvSpPr>
            <p:spPr>
              <a:xfrm>
                <a:off x="4789440" y="2492280"/>
                <a:ext cx="337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поставить сковороду на газ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5" name="Group 29"/>
            <p:cNvGrpSpPr/>
            <p:nvPr/>
          </p:nvGrpSpPr>
          <p:grpSpPr>
            <a:xfrm>
              <a:off x="5510160" y="3716280"/>
              <a:ext cx="1866960" cy="368280"/>
              <a:chOff x="5510160" y="3716280"/>
              <a:chExt cx="1866960" cy="368280"/>
            </a:xfrm>
          </p:grpSpPr>
          <p:sp>
            <p:nvSpPr>
              <p:cNvPr id="318" name="AutoShape 30"/>
              <p:cNvSpPr/>
              <p:nvPr/>
            </p:nvSpPr>
            <p:spPr>
              <a:xfrm>
                <a:off x="5510160" y="3730680"/>
                <a:ext cx="1866960" cy="336600"/>
              </a:xfrm>
              <a:prstGeom prst="flowChartProcess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Text Box 31"/>
              <p:cNvSpPr/>
              <p:nvPr/>
            </p:nvSpPr>
            <p:spPr>
              <a:xfrm>
                <a:off x="5724360" y="3716280"/>
                <a:ext cx="1508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взять яйцо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32"/>
            <p:cNvGrpSpPr/>
            <p:nvPr/>
          </p:nvGrpSpPr>
          <p:grpSpPr>
            <a:xfrm>
              <a:off x="4862520" y="4292640"/>
              <a:ext cx="3164040" cy="369720"/>
              <a:chOff x="4862520" y="4292640"/>
              <a:chExt cx="3164040" cy="369720"/>
            </a:xfrm>
          </p:grpSpPr>
          <p:sp>
            <p:nvSpPr>
              <p:cNvPr id="319" name="AutoShape 33"/>
              <p:cNvSpPr/>
              <p:nvPr/>
            </p:nvSpPr>
            <p:spPr>
              <a:xfrm>
                <a:off x="4862520" y="4325760"/>
                <a:ext cx="3162240" cy="336600"/>
              </a:xfrm>
              <a:prstGeom prst="flowChartProcess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Text Box 34"/>
              <p:cNvSpPr/>
              <p:nvPr/>
            </p:nvSpPr>
            <p:spPr>
              <a:xfrm>
                <a:off x="4933800" y="4292640"/>
                <a:ext cx="3092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разбить яйцо на сковороду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9" name="Group 35"/>
            <p:cNvGrpSpPr/>
            <p:nvPr/>
          </p:nvGrpSpPr>
          <p:grpSpPr>
            <a:xfrm>
              <a:off x="5510160" y="4940280"/>
              <a:ext cx="1866960" cy="403200"/>
              <a:chOff x="5510160" y="4940280"/>
              <a:chExt cx="1866960" cy="403200"/>
            </a:xfrm>
          </p:grpSpPr>
          <p:sp>
            <p:nvSpPr>
              <p:cNvPr id="321" name="AutoShape 36"/>
              <p:cNvSpPr/>
              <p:nvPr/>
            </p:nvSpPr>
            <p:spPr>
              <a:xfrm>
                <a:off x="5510160" y="5006880"/>
                <a:ext cx="1866960" cy="336600"/>
              </a:xfrm>
              <a:prstGeom prst="flowChartProcess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Text Box 37"/>
              <p:cNvSpPr/>
              <p:nvPr/>
            </p:nvSpPr>
            <p:spPr>
              <a:xfrm>
                <a:off x="5580000" y="4940280"/>
                <a:ext cx="1724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посолить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1" name="Group 38"/>
            <p:cNvGrpSpPr/>
            <p:nvPr/>
          </p:nvGrpSpPr>
          <p:grpSpPr>
            <a:xfrm>
              <a:off x="5221440" y="5589720"/>
              <a:ext cx="2587320" cy="368280"/>
              <a:chOff x="5221440" y="5589720"/>
              <a:chExt cx="2587320" cy="368280"/>
            </a:xfrm>
          </p:grpSpPr>
          <p:sp>
            <p:nvSpPr>
              <p:cNvPr id="323" name="AutoShape 39"/>
              <p:cNvSpPr/>
              <p:nvPr/>
            </p:nvSpPr>
            <p:spPr>
              <a:xfrm>
                <a:off x="5510160" y="5603760"/>
                <a:ext cx="1866960" cy="336600"/>
              </a:xfrm>
              <a:prstGeom prst="flowChartProcess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Text Box 40"/>
              <p:cNvSpPr/>
              <p:nvPr/>
            </p:nvSpPr>
            <p:spPr>
              <a:xfrm>
                <a:off x="5221440" y="5589720"/>
                <a:ext cx="258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жарить 5 минут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3" name="Group 41"/>
            <p:cNvGrpSpPr/>
            <p:nvPr/>
          </p:nvGrpSpPr>
          <p:grpSpPr>
            <a:xfrm>
              <a:off x="5797440" y="6093000"/>
              <a:ext cx="1220760" cy="368280"/>
              <a:chOff x="5797440" y="6093000"/>
              <a:chExt cx="1220760" cy="368280"/>
            </a:xfrm>
          </p:grpSpPr>
          <p:sp>
            <p:nvSpPr>
              <p:cNvPr id="344" name="AutoShape 42"/>
              <p:cNvSpPr/>
              <p:nvPr/>
            </p:nvSpPr>
            <p:spPr>
              <a:xfrm>
                <a:off x="5797440" y="6113520"/>
                <a:ext cx="1220760" cy="334800"/>
              </a:xfrm>
              <a:prstGeom prst="flowChartTerminator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Text Box 43"/>
              <p:cNvSpPr/>
              <p:nvPr/>
            </p:nvSpPr>
            <p:spPr>
              <a:xfrm>
                <a:off x="5942160" y="6093000"/>
                <a:ext cx="931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конец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6" name="Text Box 44"/>
          <p:cNvSpPr/>
          <p:nvPr/>
        </p:nvSpPr>
        <p:spPr>
          <a:xfrm>
            <a:off x="0" y="2637000"/>
            <a:ext cx="33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линейный тип алгоритма (следовани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Line 45"/>
          <p:cNvSpPr/>
          <p:nvPr/>
        </p:nvSpPr>
        <p:spPr>
          <a:xfrm>
            <a:off x="3348000" y="3284640"/>
            <a:ext cx="647640" cy="144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1"/>
          <p:cNvSpPr/>
          <p:nvPr/>
        </p:nvSpPr>
        <p:spPr>
          <a:xfrm>
            <a:off x="3787920" y="2924280"/>
            <a:ext cx="4822560" cy="2943000"/>
          </a:xfrm>
          <a:prstGeom prst="rect">
            <a:avLst/>
          </a:prstGeom>
          <a:solidFill>
            <a:srgbClr val="ffffff"/>
          </a:solidFill>
          <a:ln w="28440">
            <a:solidFill>
              <a:srgbClr val="a500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Rectangle 2"/>
          <p:cNvSpPr/>
          <p:nvPr/>
        </p:nvSpPr>
        <p:spPr>
          <a:xfrm>
            <a:off x="6019920" y="3645000"/>
            <a:ext cx="2473200" cy="1917720"/>
          </a:xfrm>
          <a:prstGeom prst="rect">
            <a:avLst/>
          </a:prstGeom>
          <a:solidFill>
            <a:srgbClr val="ffffff"/>
          </a:solidFill>
          <a:ln w="28440">
            <a:solidFill>
              <a:srgbClr val="a500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468360" y="404640"/>
            <a:ext cx="8229600" cy="6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640000"/>
                </a:solidFill>
                <a:latin typeface="Times New Roman"/>
              </a:rPr>
              <a:t>Простейшие приме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468360" y="119700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дача 2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покупка билетов в кин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2" name="Group 5"/>
          <p:cNvGrpSpPr/>
          <p:nvPr/>
        </p:nvGrpSpPr>
        <p:grpSpPr>
          <a:xfrm>
            <a:off x="4672080" y="1844640"/>
            <a:ext cx="1224000" cy="368280"/>
            <a:chOff x="4672080" y="1844640"/>
            <a:chExt cx="1224000" cy="368280"/>
          </a:xfrm>
        </p:grpSpPr>
        <p:sp>
          <p:nvSpPr>
            <p:cNvPr id="353" name="AutoShape 6"/>
            <p:cNvSpPr/>
            <p:nvPr/>
          </p:nvSpPr>
          <p:spPr>
            <a:xfrm>
              <a:off x="4672080" y="1844640"/>
              <a:ext cx="1224000" cy="311040"/>
            </a:xfrm>
            <a:prstGeom prst="flowChartTerminator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Text Box 7"/>
            <p:cNvSpPr/>
            <p:nvPr/>
          </p:nvSpPr>
          <p:spPr>
            <a:xfrm>
              <a:off x="4865760" y="1844640"/>
              <a:ext cx="103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ачало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5" name="Group 8"/>
          <p:cNvGrpSpPr/>
          <p:nvPr/>
        </p:nvGrpSpPr>
        <p:grpSpPr>
          <a:xfrm>
            <a:off x="4214880" y="2421000"/>
            <a:ext cx="2257200" cy="387360"/>
            <a:chOff x="4214880" y="2421000"/>
            <a:chExt cx="2257200" cy="387360"/>
          </a:xfrm>
        </p:grpSpPr>
        <p:sp>
          <p:nvSpPr>
            <p:cNvPr id="356" name="Rectangle 9"/>
            <p:cNvSpPr/>
            <p:nvPr/>
          </p:nvSpPr>
          <p:spPr>
            <a:xfrm>
              <a:off x="4343400" y="2421000"/>
              <a:ext cx="1998720" cy="38736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Text Box 10"/>
            <p:cNvSpPr/>
            <p:nvPr/>
          </p:nvSpPr>
          <p:spPr>
            <a:xfrm>
              <a:off x="4214880" y="2421000"/>
              <a:ext cx="22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одойти к касс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8" name="Group 11"/>
          <p:cNvGrpSpPr/>
          <p:nvPr/>
        </p:nvGrpSpPr>
        <p:grpSpPr>
          <a:xfrm>
            <a:off x="4213080" y="2995560"/>
            <a:ext cx="2257560" cy="596880"/>
            <a:chOff x="4213080" y="2995560"/>
            <a:chExt cx="2257560" cy="596880"/>
          </a:xfrm>
        </p:grpSpPr>
        <p:sp>
          <p:nvSpPr>
            <p:cNvPr id="359" name="AutoShape 12"/>
            <p:cNvSpPr/>
            <p:nvPr/>
          </p:nvSpPr>
          <p:spPr>
            <a:xfrm>
              <a:off x="4213080" y="2995560"/>
              <a:ext cx="2257560" cy="596880"/>
            </a:xfrm>
            <a:prstGeom prst="flowChartDecision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Text Box 13"/>
            <p:cNvSpPr/>
            <p:nvPr/>
          </p:nvSpPr>
          <p:spPr>
            <a:xfrm>
              <a:off x="4471920" y="3130560"/>
              <a:ext cx="180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билеты ест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1" name="Group 14"/>
          <p:cNvGrpSpPr/>
          <p:nvPr/>
        </p:nvGrpSpPr>
        <p:grpSpPr>
          <a:xfrm>
            <a:off x="6191280" y="3733920"/>
            <a:ext cx="1805040" cy="368280"/>
            <a:chOff x="6191280" y="3733920"/>
            <a:chExt cx="1805040" cy="368280"/>
          </a:xfrm>
        </p:grpSpPr>
        <p:sp>
          <p:nvSpPr>
            <p:cNvPr id="362" name="Rectangle 15"/>
            <p:cNvSpPr/>
            <p:nvPr/>
          </p:nvSpPr>
          <p:spPr>
            <a:xfrm>
              <a:off x="6191280" y="3733920"/>
              <a:ext cx="1739880" cy="33012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Text Box 16"/>
            <p:cNvSpPr/>
            <p:nvPr/>
          </p:nvSpPr>
          <p:spPr>
            <a:xfrm>
              <a:off x="6191280" y="3733920"/>
              <a:ext cx="180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азвать сеан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4" name="Group 17"/>
          <p:cNvGrpSpPr/>
          <p:nvPr/>
        </p:nvGrpSpPr>
        <p:grpSpPr>
          <a:xfrm>
            <a:off x="6324480" y="4308480"/>
            <a:ext cx="2581560" cy="434880"/>
            <a:chOff x="6324480" y="4308480"/>
            <a:chExt cx="2581560" cy="434880"/>
          </a:xfrm>
        </p:grpSpPr>
        <p:sp>
          <p:nvSpPr>
            <p:cNvPr id="365" name="Rectangle 18"/>
            <p:cNvSpPr/>
            <p:nvPr/>
          </p:nvSpPr>
          <p:spPr>
            <a:xfrm>
              <a:off x="6324480" y="4308480"/>
              <a:ext cx="1676520" cy="39672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Text Box 19"/>
            <p:cNvSpPr/>
            <p:nvPr/>
          </p:nvSpPr>
          <p:spPr>
            <a:xfrm>
              <a:off x="6388200" y="4375080"/>
              <a:ext cx="2517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одать деньг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7" name="Group 20"/>
          <p:cNvGrpSpPr/>
          <p:nvPr/>
        </p:nvGrpSpPr>
        <p:grpSpPr>
          <a:xfrm>
            <a:off x="6154560" y="5029200"/>
            <a:ext cx="2322720" cy="396720"/>
            <a:chOff x="6154560" y="5029200"/>
            <a:chExt cx="2322720" cy="396720"/>
          </a:xfrm>
        </p:grpSpPr>
        <p:sp>
          <p:nvSpPr>
            <p:cNvPr id="368" name="Rectangle 21"/>
            <p:cNvSpPr/>
            <p:nvPr/>
          </p:nvSpPr>
          <p:spPr>
            <a:xfrm>
              <a:off x="6154560" y="5029200"/>
              <a:ext cx="2192400" cy="39672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Text Box 22"/>
            <p:cNvSpPr/>
            <p:nvPr/>
          </p:nvSpPr>
          <p:spPr>
            <a:xfrm>
              <a:off x="6218280" y="5029200"/>
              <a:ext cx="2259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взять билет и сдачу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0" name="Group 23"/>
          <p:cNvGrpSpPr/>
          <p:nvPr/>
        </p:nvGrpSpPr>
        <p:grpSpPr>
          <a:xfrm>
            <a:off x="5106960" y="6078600"/>
            <a:ext cx="1095480" cy="368280"/>
            <a:chOff x="5106960" y="6078600"/>
            <a:chExt cx="1095480" cy="368280"/>
          </a:xfrm>
        </p:grpSpPr>
        <p:sp>
          <p:nvSpPr>
            <p:cNvPr id="371" name="AutoShape 24"/>
            <p:cNvSpPr/>
            <p:nvPr/>
          </p:nvSpPr>
          <p:spPr>
            <a:xfrm>
              <a:off x="5106960" y="6097680"/>
              <a:ext cx="1095480" cy="311040"/>
            </a:xfrm>
            <a:prstGeom prst="flowChartTerminator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Text Box 25"/>
            <p:cNvSpPr/>
            <p:nvPr/>
          </p:nvSpPr>
          <p:spPr>
            <a:xfrm>
              <a:off x="5237280" y="6078600"/>
              <a:ext cx="83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онец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3" name="Line 26"/>
          <p:cNvSpPr/>
          <p:nvPr/>
        </p:nvSpPr>
        <p:spPr>
          <a:xfrm>
            <a:off x="5181480" y="2205000"/>
            <a:ext cx="1800" cy="20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Line 27"/>
          <p:cNvSpPr/>
          <p:nvPr/>
        </p:nvSpPr>
        <p:spPr>
          <a:xfrm>
            <a:off x="5253120" y="2852640"/>
            <a:ext cx="1440" cy="135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Line 28"/>
          <p:cNvSpPr/>
          <p:nvPr/>
        </p:nvSpPr>
        <p:spPr>
          <a:xfrm flipV="1">
            <a:off x="6459480" y="3270240"/>
            <a:ext cx="62712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Line 29"/>
          <p:cNvSpPr/>
          <p:nvPr/>
        </p:nvSpPr>
        <p:spPr>
          <a:xfrm>
            <a:off x="7086600" y="3276720"/>
            <a:ext cx="1440" cy="401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Line 30"/>
          <p:cNvSpPr/>
          <p:nvPr/>
        </p:nvSpPr>
        <p:spPr>
          <a:xfrm>
            <a:off x="7086600" y="4038480"/>
            <a:ext cx="144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Line 31"/>
          <p:cNvSpPr/>
          <p:nvPr/>
        </p:nvSpPr>
        <p:spPr>
          <a:xfrm>
            <a:off x="7124760" y="4672080"/>
            <a:ext cx="1440" cy="33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Line 32"/>
          <p:cNvSpPr/>
          <p:nvPr/>
        </p:nvSpPr>
        <p:spPr>
          <a:xfrm>
            <a:off x="7142040" y="5416560"/>
            <a:ext cx="180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Line 33"/>
          <p:cNvSpPr/>
          <p:nvPr/>
        </p:nvSpPr>
        <p:spPr>
          <a:xfrm flipH="1">
            <a:off x="5601960" y="5673600"/>
            <a:ext cx="15634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Line 34"/>
          <p:cNvSpPr/>
          <p:nvPr/>
        </p:nvSpPr>
        <p:spPr>
          <a:xfrm>
            <a:off x="5638680" y="5715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Line 35"/>
          <p:cNvSpPr/>
          <p:nvPr/>
        </p:nvSpPr>
        <p:spPr>
          <a:xfrm flipH="1">
            <a:off x="3811680" y="3294000"/>
            <a:ext cx="4665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Line 36"/>
          <p:cNvSpPr/>
          <p:nvPr/>
        </p:nvSpPr>
        <p:spPr>
          <a:xfrm>
            <a:off x="3854520" y="3322800"/>
            <a:ext cx="1440" cy="2408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Line 37"/>
          <p:cNvSpPr/>
          <p:nvPr/>
        </p:nvSpPr>
        <p:spPr>
          <a:xfrm>
            <a:off x="3851280" y="5697360"/>
            <a:ext cx="17463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38"/>
          <p:cNvSpPr/>
          <p:nvPr/>
        </p:nvSpPr>
        <p:spPr>
          <a:xfrm>
            <a:off x="6477120" y="2895480"/>
            <a:ext cx="7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 Box 39"/>
          <p:cNvSpPr/>
          <p:nvPr/>
        </p:nvSpPr>
        <p:spPr>
          <a:xfrm>
            <a:off x="3780000" y="2895480"/>
            <a:ext cx="71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 Box 40"/>
          <p:cNvSpPr/>
          <p:nvPr/>
        </p:nvSpPr>
        <p:spPr>
          <a:xfrm>
            <a:off x="0" y="2060640"/>
            <a:ext cx="33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Это условный тип алгоритма (ветвление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Line 41"/>
          <p:cNvSpPr/>
          <p:nvPr/>
        </p:nvSpPr>
        <p:spPr>
          <a:xfrm>
            <a:off x="2556000" y="2708280"/>
            <a:ext cx="936360" cy="108108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 Box 42"/>
          <p:cNvSpPr/>
          <p:nvPr/>
        </p:nvSpPr>
        <p:spPr>
          <a:xfrm>
            <a:off x="228600" y="3276720"/>
            <a:ext cx="331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Это линейный тип алгоритма (следование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Line 43"/>
          <p:cNvSpPr/>
          <p:nvPr/>
        </p:nvSpPr>
        <p:spPr>
          <a:xfrm>
            <a:off x="3048120" y="4038480"/>
            <a:ext cx="2819160" cy="47016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1" name="Group 44"/>
          <p:cNvGrpSpPr/>
          <p:nvPr/>
        </p:nvGrpSpPr>
        <p:grpSpPr>
          <a:xfrm>
            <a:off x="304920" y="4419720"/>
            <a:ext cx="3119400" cy="1122120"/>
            <a:chOff x="304920" y="4419720"/>
            <a:chExt cx="3119400" cy="1122120"/>
          </a:xfrm>
        </p:grpSpPr>
        <p:sp>
          <p:nvSpPr>
            <p:cNvPr id="392" name="Rectangle 45"/>
            <p:cNvSpPr/>
            <p:nvPr/>
          </p:nvSpPr>
          <p:spPr>
            <a:xfrm>
              <a:off x="304920" y="4419720"/>
              <a:ext cx="3119400" cy="1122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Text Box 46"/>
            <p:cNvSpPr/>
            <p:nvPr/>
          </p:nvSpPr>
          <p:spPr>
            <a:xfrm>
              <a:off x="374760" y="4500720"/>
              <a:ext cx="3047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a50021"/>
                  </a:solidFill>
                  <a:latin typeface="Comic Sans MS"/>
                </a:rPr>
                <a:t>Получилось сочетание условного и линейного типов алгоритмо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1"/>
          <p:cNvSpPr/>
          <p:nvPr/>
        </p:nvSpPr>
        <p:spPr>
          <a:xfrm>
            <a:off x="4356000" y="3573360"/>
            <a:ext cx="3816360" cy="1943280"/>
          </a:xfrm>
          <a:prstGeom prst="rect">
            <a:avLst/>
          </a:prstGeom>
          <a:solidFill>
            <a:srgbClr val="ffffff"/>
          </a:solidFill>
          <a:ln w="28440">
            <a:solidFill>
              <a:srgbClr val="a500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Rectangle 2"/>
          <p:cNvSpPr/>
          <p:nvPr/>
        </p:nvSpPr>
        <p:spPr>
          <a:xfrm>
            <a:off x="4211640" y="1413000"/>
            <a:ext cx="3889440" cy="20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a500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468360" y="404640"/>
            <a:ext cx="8229600" cy="6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640000"/>
                </a:solidFill>
                <a:latin typeface="Times New Roman"/>
              </a:rPr>
              <a:t>Простейшие приме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4"/>
          <p:cNvSpPr/>
          <p:nvPr/>
        </p:nvSpPr>
        <p:spPr>
          <a:xfrm>
            <a:off x="468360" y="119700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дача 3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забить гвозд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8" name="Group 5"/>
          <p:cNvGrpSpPr/>
          <p:nvPr/>
        </p:nvGrpSpPr>
        <p:grpSpPr>
          <a:xfrm>
            <a:off x="5435640" y="981000"/>
            <a:ext cx="1363680" cy="368280"/>
            <a:chOff x="5435640" y="981000"/>
            <a:chExt cx="1363680" cy="368280"/>
          </a:xfrm>
        </p:grpSpPr>
        <p:sp>
          <p:nvSpPr>
            <p:cNvPr id="399" name="AutoShape 6"/>
            <p:cNvSpPr/>
            <p:nvPr/>
          </p:nvSpPr>
          <p:spPr>
            <a:xfrm>
              <a:off x="5435640" y="981000"/>
              <a:ext cx="1363680" cy="335160"/>
            </a:xfrm>
            <a:prstGeom prst="flowChartTerminator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Text Box 7"/>
            <p:cNvSpPr/>
            <p:nvPr/>
          </p:nvSpPr>
          <p:spPr>
            <a:xfrm>
              <a:off x="5651640" y="981000"/>
              <a:ext cx="1147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ачало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1" name="Group 8"/>
          <p:cNvGrpSpPr/>
          <p:nvPr/>
        </p:nvGrpSpPr>
        <p:grpSpPr>
          <a:xfrm>
            <a:off x="5003640" y="1484280"/>
            <a:ext cx="2084400" cy="368280"/>
            <a:chOff x="5003640" y="1484280"/>
            <a:chExt cx="2084400" cy="368280"/>
          </a:xfrm>
        </p:grpSpPr>
        <p:sp>
          <p:nvSpPr>
            <p:cNvPr id="402" name="AutoShape 9"/>
            <p:cNvSpPr/>
            <p:nvPr/>
          </p:nvSpPr>
          <p:spPr>
            <a:xfrm>
              <a:off x="5148360" y="1494000"/>
              <a:ext cx="1866960" cy="336240"/>
            </a:xfrm>
            <a:prstGeom prst="flowChartProcess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Text Box 10"/>
            <p:cNvSpPr/>
            <p:nvPr/>
          </p:nvSpPr>
          <p:spPr>
            <a:xfrm>
              <a:off x="5003640" y="1484280"/>
              <a:ext cx="208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зять гвозд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4" name="Group 11"/>
          <p:cNvGrpSpPr/>
          <p:nvPr/>
        </p:nvGrpSpPr>
        <p:grpSpPr>
          <a:xfrm>
            <a:off x="5076720" y="2060640"/>
            <a:ext cx="2084400" cy="368280"/>
            <a:chOff x="5076720" y="2060640"/>
            <a:chExt cx="2084400" cy="368280"/>
          </a:xfrm>
        </p:grpSpPr>
        <p:sp>
          <p:nvSpPr>
            <p:cNvPr id="405" name="AutoShape 12"/>
            <p:cNvSpPr/>
            <p:nvPr/>
          </p:nvSpPr>
          <p:spPr>
            <a:xfrm>
              <a:off x="5221440" y="2070000"/>
              <a:ext cx="1866600" cy="336600"/>
            </a:xfrm>
            <a:prstGeom prst="flowChartProcess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Text Box 13"/>
            <p:cNvSpPr/>
            <p:nvPr/>
          </p:nvSpPr>
          <p:spPr>
            <a:xfrm>
              <a:off x="5076720" y="2060640"/>
              <a:ext cx="208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зять молото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7" name="Group 14"/>
          <p:cNvGrpSpPr/>
          <p:nvPr/>
        </p:nvGrpSpPr>
        <p:grpSpPr>
          <a:xfrm>
            <a:off x="4500720" y="2708280"/>
            <a:ext cx="3236760" cy="644400"/>
            <a:chOff x="4500720" y="2708280"/>
            <a:chExt cx="3236760" cy="644400"/>
          </a:xfrm>
        </p:grpSpPr>
        <p:sp>
          <p:nvSpPr>
            <p:cNvPr id="408" name="Rectangle 15"/>
            <p:cNvSpPr/>
            <p:nvPr/>
          </p:nvSpPr>
          <p:spPr>
            <a:xfrm>
              <a:off x="4500720" y="2708280"/>
              <a:ext cx="3236760" cy="6444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Text Box 16"/>
            <p:cNvSpPr/>
            <p:nvPr/>
          </p:nvSpPr>
          <p:spPr>
            <a:xfrm>
              <a:off x="4573440" y="2708280"/>
              <a:ext cx="3164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установить острие гвоздя в нужное место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0" name="Group 17"/>
          <p:cNvGrpSpPr/>
          <p:nvPr/>
        </p:nvGrpSpPr>
        <p:grpSpPr>
          <a:xfrm>
            <a:off x="4859280" y="3789360"/>
            <a:ext cx="2589120" cy="642960"/>
            <a:chOff x="4859280" y="3789360"/>
            <a:chExt cx="2589120" cy="642960"/>
          </a:xfrm>
        </p:grpSpPr>
        <p:sp>
          <p:nvSpPr>
            <p:cNvPr id="411" name="Rectangle 18"/>
            <p:cNvSpPr/>
            <p:nvPr/>
          </p:nvSpPr>
          <p:spPr>
            <a:xfrm>
              <a:off x="4859280" y="3789360"/>
              <a:ext cx="2516400" cy="64296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Text Box 19"/>
            <p:cNvSpPr/>
            <p:nvPr/>
          </p:nvSpPr>
          <p:spPr>
            <a:xfrm>
              <a:off x="4932360" y="3789360"/>
              <a:ext cx="2516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ударить молотком по шляпке гвозд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3" name="Group 20"/>
          <p:cNvGrpSpPr/>
          <p:nvPr/>
        </p:nvGrpSpPr>
        <p:grpSpPr>
          <a:xfrm>
            <a:off x="4932360" y="4653000"/>
            <a:ext cx="2514600" cy="714240"/>
            <a:chOff x="4932360" y="4653000"/>
            <a:chExt cx="2514600" cy="714240"/>
          </a:xfrm>
        </p:grpSpPr>
        <p:sp>
          <p:nvSpPr>
            <p:cNvPr id="414" name="AutoShape 21"/>
            <p:cNvSpPr/>
            <p:nvPr/>
          </p:nvSpPr>
          <p:spPr>
            <a:xfrm>
              <a:off x="4932360" y="4653000"/>
              <a:ext cx="2514600" cy="714240"/>
            </a:xfrm>
            <a:prstGeom prst="flowChartDecision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Text Box 22"/>
            <p:cNvSpPr/>
            <p:nvPr/>
          </p:nvSpPr>
          <p:spPr>
            <a:xfrm>
              <a:off x="5364000" y="4795920"/>
              <a:ext cx="20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гвоздь торчи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6" name="Group 23"/>
          <p:cNvGrpSpPr/>
          <p:nvPr/>
        </p:nvGrpSpPr>
        <p:grpSpPr>
          <a:xfrm>
            <a:off x="5651640" y="5661000"/>
            <a:ext cx="1220760" cy="368280"/>
            <a:chOff x="5651640" y="5661000"/>
            <a:chExt cx="1220760" cy="368280"/>
          </a:xfrm>
        </p:grpSpPr>
        <p:sp>
          <p:nvSpPr>
            <p:cNvPr id="417" name="AutoShape 24"/>
            <p:cNvSpPr/>
            <p:nvPr/>
          </p:nvSpPr>
          <p:spPr>
            <a:xfrm>
              <a:off x="5651640" y="5681520"/>
              <a:ext cx="1220760" cy="335160"/>
            </a:xfrm>
            <a:prstGeom prst="flowChartTerminator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Text Box 25"/>
            <p:cNvSpPr/>
            <p:nvPr/>
          </p:nvSpPr>
          <p:spPr>
            <a:xfrm>
              <a:off x="5796000" y="5661000"/>
              <a:ext cx="93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онец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9" name="Line 26"/>
          <p:cNvSpPr/>
          <p:nvPr/>
        </p:nvSpPr>
        <p:spPr>
          <a:xfrm>
            <a:off x="6156360" y="1341360"/>
            <a:ext cx="144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Line 27"/>
          <p:cNvSpPr/>
          <p:nvPr/>
        </p:nvSpPr>
        <p:spPr>
          <a:xfrm>
            <a:off x="6156360" y="1844640"/>
            <a:ext cx="14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Line 28"/>
          <p:cNvSpPr/>
          <p:nvPr/>
        </p:nvSpPr>
        <p:spPr>
          <a:xfrm>
            <a:off x="6156360" y="242100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Line 29"/>
          <p:cNvSpPr/>
          <p:nvPr/>
        </p:nvSpPr>
        <p:spPr>
          <a:xfrm>
            <a:off x="6156360" y="3357720"/>
            <a:ext cx="14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3" name="Group 30"/>
          <p:cNvGrpSpPr/>
          <p:nvPr/>
        </p:nvGrpSpPr>
        <p:grpSpPr>
          <a:xfrm>
            <a:off x="6154200" y="3643200"/>
            <a:ext cx="1870200" cy="1378440"/>
            <a:chOff x="6154200" y="3643200"/>
            <a:chExt cx="1870200" cy="1378440"/>
          </a:xfrm>
        </p:grpSpPr>
        <p:sp>
          <p:nvSpPr>
            <p:cNvPr id="424" name="Line 31"/>
            <p:cNvSpPr/>
            <p:nvPr/>
          </p:nvSpPr>
          <p:spPr>
            <a:xfrm>
              <a:off x="6231960" y="4437360"/>
              <a:ext cx="0" cy="21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Line 32"/>
            <p:cNvSpPr/>
            <p:nvPr/>
          </p:nvSpPr>
          <p:spPr>
            <a:xfrm>
              <a:off x="7449120" y="5013360"/>
              <a:ext cx="56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Line 33"/>
            <p:cNvSpPr/>
            <p:nvPr/>
          </p:nvSpPr>
          <p:spPr>
            <a:xfrm flipV="1">
              <a:off x="8022960" y="364320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Line 34"/>
            <p:cNvSpPr/>
            <p:nvPr/>
          </p:nvSpPr>
          <p:spPr>
            <a:xfrm flipH="1">
              <a:off x="6154200" y="3649320"/>
              <a:ext cx="187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Text Box 35"/>
            <p:cNvSpPr/>
            <p:nvPr/>
          </p:nvSpPr>
          <p:spPr>
            <a:xfrm>
              <a:off x="7449120" y="4653360"/>
              <a:ext cx="49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a50021"/>
                  </a:solidFill>
                  <a:latin typeface="Arial"/>
                </a:rPr>
                <a:t>д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9" name="Group 36"/>
          <p:cNvGrpSpPr/>
          <p:nvPr/>
        </p:nvGrpSpPr>
        <p:grpSpPr>
          <a:xfrm>
            <a:off x="6227640" y="5229360"/>
            <a:ext cx="1003320" cy="426960"/>
            <a:chOff x="6227640" y="5229360"/>
            <a:chExt cx="1003320" cy="426960"/>
          </a:xfrm>
        </p:grpSpPr>
        <p:sp>
          <p:nvSpPr>
            <p:cNvPr id="430" name="Line 37"/>
            <p:cNvSpPr/>
            <p:nvPr/>
          </p:nvSpPr>
          <p:spPr>
            <a:xfrm>
              <a:off x="6227640" y="537372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Text Box 38"/>
            <p:cNvSpPr/>
            <p:nvPr/>
          </p:nvSpPr>
          <p:spPr>
            <a:xfrm>
              <a:off x="6227640" y="5229360"/>
              <a:ext cx="100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a50021"/>
                  </a:solidFill>
                  <a:latin typeface="Arial"/>
                </a:rPr>
                <a:t>не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2" name="Text Box 39"/>
          <p:cNvSpPr/>
          <p:nvPr/>
        </p:nvSpPr>
        <p:spPr>
          <a:xfrm>
            <a:off x="395280" y="1676520"/>
            <a:ext cx="33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линейный тип алгоритма (следовани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 Box 40"/>
          <p:cNvSpPr/>
          <p:nvPr/>
        </p:nvSpPr>
        <p:spPr>
          <a:xfrm>
            <a:off x="533520" y="2971800"/>
            <a:ext cx="331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циклический тип алгоритма (повторени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Line 41"/>
          <p:cNvSpPr/>
          <p:nvPr/>
        </p:nvSpPr>
        <p:spPr>
          <a:xfrm flipV="1">
            <a:off x="2987640" y="2198520"/>
            <a:ext cx="1152720" cy="30024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Line 42"/>
          <p:cNvSpPr/>
          <p:nvPr/>
        </p:nvSpPr>
        <p:spPr>
          <a:xfrm>
            <a:off x="3200400" y="3886200"/>
            <a:ext cx="1143000" cy="38088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6" name="Group 43"/>
          <p:cNvGrpSpPr/>
          <p:nvPr/>
        </p:nvGrpSpPr>
        <p:grpSpPr>
          <a:xfrm>
            <a:off x="720720" y="4446720"/>
            <a:ext cx="3014640" cy="1724400"/>
            <a:chOff x="720720" y="4446720"/>
            <a:chExt cx="3014640" cy="1724400"/>
          </a:xfrm>
        </p:grpSpPr>
        <p:sp>
          <p:nvSpPr>
            <p:cNvPr id="437" name="Rectangle 44"/>
            <p:cNvSpPr/>
            <p:nvPr/>
          </p:nvSpPr>
          <p:spPr>
            <a:xfrm>
              <a:off x="720720" y="4446720"/>
              <a:ext cx="3014640" cy="1331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Text Box 45"/>
            <p:cNvSpPr/>
            <p:nvPr/>
          </p:nvSpPr>
          <p:spPr>
            <a:xfrm>
              <a:off x="787320" y="4562640"/>
              <a:ext cx="2878200" cy="16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a50021"/>
                  </a:solidFill>
                  <a:latin typeface="Comic Sans MS"/>
                </a:rPr>
                <a:t>Получилось сочетание линейного и циклического типов алгоритмо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9" name="Line 46"/>
          <p:cNvSpPr/>
          <p:nvPr/>
        </p:nvSpPr>
        <p:spPr>
          <a:xfrm>
            <a:off x="6227640" y="4437000"/>
            <a:ext cx="18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1"/>
          <p:cNvSpPr/>
          <p:nvPr/>
        </p:nvSpPr>
        <p:spPr>
          <a:xfrm>
            <a:off x="3657600" y="2536920"/>
            <a:ext cx="4957920" cy="352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a500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2"/>
          <p:cNvSpPr/>
          <p:nvPr/>
        </p:nvSpPr>
        <p:spPr>
          <a:xfrm>
            <a:off x="3821040" y="3833640"/>
            <a:ext cx="4614840" cy="1271880"/>
          </a:xfrm>
          <a:prstGeom prst="rect">
            <a:avLst/>
          </a:prstGeom>
          <a:solidFill>
            <a:srgbClr val="ffffff"/>
          </a:solidFill>
          <a:ln w="28440">
            <a:solidFill>
              <a:srgbClr val="a500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4770360" y="809640"/>
            <a:ext cx="2657520" cy="1628640"/>
          </a:xfrm>
          <a:prstGeom prst="rect">
            <a:avLst/>
          </a:prstGeom>
          <a:solidFill>
            <a:srgbClr val="ffffff"/>
          </a:solidFill>
          <a:ln w="28440">
            <a:solidFill>
              <a:srgbClr val="a500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4"/>
          <p:cNvSpPr/>
          <p:nvPr/>
        </p:nvSpPr>
        <p:spPr>
          <a:xfrm>
            <a:off x="304920" y="0"/>
            <a:ext cx="822960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640000"/>
                </a:solidFill>
                <a:latin typeface="Times New Roman"/>
              </a:rPr>
              <a:t>Простейшие приме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468360" y="119700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дача 4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собрать гербар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5" name="Group 6"/>
          <p:cNvGrpSpPr/>
          <p:nvPr/>
        </p:nvGrpSpPr>
        <p:grpSpPr>
          <a:xfrm>
            <a:off x="5378400" y="304920"/>
            <a:ext cx="1324080" cy="368280"/>
            <a:chOff x="5378400" y="304920"/>
            <a:chExt cx="1324080" cy="368280"/>
          </a:xfrm>
        </p:grpSpPr>
        <p:sp>
          <p:nvSpPr>
            <p:cNvPr id="446" name="AutoShape 7"/>
            <p:cNvSpPr/>
            <p:nvPr/>
          </p:nvSpPr>
          <p:spPr>
            <a:xfrm>
              <a:off x="5378400" y="304920"/>
              <a:ext cx="1324080" cy="322200"/>
            </a:xfrm>
            <a:prstGeom prst="flowChartTerminator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Text Box 8"/>
            <p:cNvSpPr/>
            <p:nvPr/>
          </p:nvSpPr>
          <p:spPr>
            <a:xfrm>
              <a:off x="5587920" y="304920"/>
              <a:ext cx="111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ачало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8" name="Group 9"/>
          <p:cNvGrpSpPr/>
          <p:nvPr/>
        </p:nvGrpSpPr>
        <p:grpSpPr>
          <a:xfrm>
            <a:off x="4714920" y="880920"/>
            <a:ext cx="2652840" cy="368280"/>
            <a:chOff x="4714920" y="880920"/>
            <a:chExt cx="2652840" cy="368280"/>
          </a:xfrm>
        </p:grpSpPr>
        <p:sp>
          <p:nvSpPr>
            <p:cNvPr id="449" name="AutoShape 10"/>
            <p:cNvSpPr/>
            <p:nvPr/>
          </p:nvSpPr>
          <p:spPr>
            <a:xfrm>
              <a:off x="4898880" y="890640"/>
              <a:ext cx="2374920" cy="323640"/>
            </a:xfrm>
            <a:prstGeom prst="flowChartProcess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Text Box 11"/>
            <p:cNvSpPr/>
            <p:nvPr/>
          </p:nvSpPr>
          <p:spPr>
            <a:xfrm>
              <a:off x="4714920" y="880920"/>
              <a:ext cx="26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ойди в лес или пар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1" name="Group 12"/>
          <p:cNvGrpSpPr/>
          <p:nvPr/>
        </p:nvGrpSpPr>
        <p:grpSpPr>
          <a:xfrm>
            <a:off x="5038560" y="1457280"/>
            <a:ext cx="2024280" cy="368280"/>
            <a:chOff x="5038560" y="1457280"/>
            <a:chExt cx="2024280" cy="368280"/>
          </a:xfrm>
        </p:grpSpPr>
        <p:sp>
          <p:nvSpPr>
            <p:cNvPr id="452" name="AutoShape 13"/>
            <p:cNvSpPr/>
            <p:nvPr/>
          </p:nvSpPr>
          <p:spPr>
            <a:xfrm>
              <a:off x="5178600" y="1467000"/>
              <a:ext cx="1812600" cy="323640"/>
            </a:xfrm>
            <a:prstGeom prst="flowChartProcess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Text Box 14"/>
            <p:cNvSpPr/>
            <p:nvPr/>
          </p:nvSpPr>
          <p:spPr>
            <a:xfrm>
              <a:off x="5038560" y="1457280"/>
              <a:ext cx="202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обери листь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4" name="Group 15"/>
          <p:cNvGrpSpPr/>
          <p:nvPr/>
        </p:nvGrpSpPr>
        <p:grpSpPr>
          <a:xfrm>
            <a:off x="5038560" y="2033640"/>
            <a:ext cx="2024280" cy="368280"/>
            <a:chOff x="5038560" y="2033640"/>
            <a:chExt cx="2024280" cy="368280"/>
          </a:xfrm>
        </p:grpSpPr>
        <p:sp>
          <p:nvSpPr>
            <p:cNvPr id="455" name="AutoShape 16"/>
            <p:cNvSpPr/>
            <p:nvPr/>
          </p:nvSpPr>
          <p:spPr>
            <a:xfrm>
              <a:off x="5178600" y="2043000"/>
              <a:ext cx="1812600" cy="324000"/>
            </a:xfrm>
            <a:prstGeom prst="flowChartProcess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Text Box 17"/>
            <p:cNvSpPr/>
            <p:nvPr/>
          </p:nvSpPr>
          <p:spPr>
            <a:xfrm>
              <a:off x="5038560" y="2033640"/>
              <a:ext cx="202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ринеси домо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7" name="Group 18"/>
          <p:cNvGrpSpPr/>
          <p:nvPr/>
        </p:nvGrpSpPr>
        <p:grpSpPr>
          <a:xfrm>
            <a:off x="4910040" y="2752560"/>
            <a:ext cx="2443320" cy="368280"/>
            <a:chOff x="4910040" y="2752560"/>
            <a:chExt cx="2443320" cy="368280"/>
          </a:xfrm>
        </p:grpSpPr>
        <p:sp>
          <p:nvSpPr>
            <p:cNvPr id="458" name="AutoShape 19"/>
            <p:cNvSpPr/>
            <p:nvPr/>
          </p:nvSpPr>
          <p:spPr>
            <a:xfrm>
              <a:off x="5079960" y="2762280"/>
              <a:ext cx="2187720" cy="324000"/>
            </a:xfrm>
            <a:prstGeom prst="flowChartProcess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Text Box 20"/>
            <p:cNvSpPr/>
            <p:nvPr/>
          </p:nvSpPr>
          <p:spPr>
            <a:xfrm>
              <a:off x="4910040" y="2752560"/>
              <a:ext cx="244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озьми один лис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0" name="Group 21"/>
          <p:cNvGrpSpPr/>
          <p:nvPr/>
        </p:nvGrpSpPr>
        <p:grpSpPr>
          <a:xfrm>
            <a:off x="4705200" y="3328920"/>
            <a:ext cx="2862360" cy="368280"/>
            <a:chOff x="4705200" y="3328920"/>
            <a:chExt cx="2862360" cy="368280"/>
          </a:xfrm>
        </p:grpSpPr>
        <p:sp>
          <p:nvSpPr>
            <p:cNvPr id="461" name="AutoShape 22"/>
            <p:cNvSpPr/>
            <p:nvPr/>
          </p:nvSpPr>
          <p:spPr>
            <a:xfrm>
              <a:off x="4903920" y="3338640"/>
              <a:ext cx="2563560" cy="323640"/>
            </a:xfrm>
            <a:prstGeom prst="flowChartProcess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Text Box 23"/>
            <p:cNvSpPr/>
            <p:nvPr/>
          </p:nvSpPr>
          <p:spPr>
            <a:xfrm>
              <a:off x="4705200" y="3328920"/>
              <a:ext cx="286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тщательно осмотри его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3" name="Group 24"/>
          <p:cNvGrpSpPr/>
          <p:nvPr/>
        </p:nvGrpSpPr>
        <p:grpSpPr>
          <a:xfrm>
            <a:off x="4908600" y="3905280"/>
            <a:ext cx="2441520" cy="617400"/>
            <a:chOff x="4908600" y="3905280"/>
            <a:chExt cx="2441520" cy="617400"/>
          </a:xfrm>
        </p:grpSpPr>
        <p:sp>
          <p:nvSpPr>
            <p:cNvPr id="464" name="AutoShape 25"/>
            <p:cNvSpPr/>
            <p:nvPr/>
          </p:nvSpPr>
          <p:spPr>
            <a:xfrm>
              <a:off x="4908600" y="3905280"/>
              <a:ext cx="2441520" cy="617400"/>
            </a:xfrm>
            <a:prstGeom prst="flowChartDecision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Text Box 26"/>
            <p:cNvSpPr/>
            <p:nvPr/>
          </p:nvSpPr>
          <p:spPr>
            <a:xfrm>
              <a:off x="5187960" y="4043520"/>
              <a:ext cx="195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лист хороши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6" name="Group 27"/>
          <p:cNvGrpSpPr/>
          <p:nvPr/>
        </p:nvGrpSpPr>
        <p:grpSpPr>
          <a:xfrm>
            <a:off x="6897600" y="4697280"/>
            <a:ext cx="1540080" cy="368280"/>
            <a:chOff x="6897600" y="4697280"/>
            <a:chExt cx="1540080" cy="368280"/>
          </a:xfrm>
        </p:grpSpPr>
        <p:sp>
          <p:nvSpPr>
            <p:cNvPr id="467" name="AutoShape 28"/>
            <p:cNvSpPr/>
            <p:nvPr/>
          </p:nvSpPr>
          <p:spPr>
            <a:xfrm>
              <a:off x="7004160" y="4707000"/>
              <a:ext cx="1377720" cy="323640"/>
            </a:xfrm>
            <a:prstGeom prst="flowChartProcess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Text Box 29"/>
            <p:cNvSpPr/>
            <p:nvPr/>
          </p:nvSpPr>
          <p:spPr>
            <a:xfrm>
              <a:off x="6897600" y="4697280"/>
              <a:ext cx="154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ыброс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9" name="Group 30"/>
          <p:cNvGrpSpPr/>
          <p:nvPr/>
        </p:nvGrpSpPr>
        <p:grpSpPr>
          <a:xfrm>
            <a:off x="3735360" y="4697280"/>
            <a:ext cx="1743120" cy="368280"/>
            <a:chOff x="3735360" y="4697280"/>
            <a:chExt cx="1743120" cy="368280"/>
          </a:xfrm>
        </p:grpSpPr>
        <p:sp>
          <p:nvSpPr>
            <p:cNvPr id="470" name="AutoShape 31"/>
            <p:cNvSpPr/>
            <p:nvPr/>
          </p:nvSpPr>
          <p:spPr>
            <a:xfrm>
              <a:off x="3855960" y="4707000"/>
              <a:ext cx="1560600" cy="323640"/>
            </a:xfrm>
            <a:prstGeom prst="flowChartProcess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Text Box 32"/>
            <p:cNvSpPr/>
            <p:nvPr/>
          </p:nvSpPr>
          <p:spPr>
            <a:xfrm>
              <a:off x="3735360" y="4697280"/>
              <a:ext cx="174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засуши его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2" name="Group 33"/>
          <p:cNvGrpSpPr/>
          <p:nvPr/>
        </p:nvGrpSpPr>
        <p:grpSpPr>
          <a:xfrm>
            <a:off x="4842000" y="5345280"/>
            <a:ext cx="2651040" cy="685800"/>
            <a:chOff x="4842000" y="5345280"/>
            <a:chExt cx="2651040" cy="685800"/>
          </a:xfrm>
        </p:grpSpPr>
        <p:sp>
          <p:nvSpPr>
            <p:cNvPr id="473" name="AutoShape 34"/>
            <p:cNvSpPr/>
            <p:nvPr/>
          </p:nvSpPr>
          <p:spPr>
            <a:xfrm>
              <a:off x="4842000" y="5345280"/>
              <a:ext cx="2651040" cy="685800"/>
            </a:xfrm>
            <a:prstGeom prst="flowChartDecision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Text Box 35"/>
            <p:cNvSpPr/>
            <p:nvPr/>
          </p:nvSpPr>
          <p:spPr>
            <a:xfrm>
              <a:off x="5145120" y="5499000"/>
              <a:ext cx="21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стались листь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5" name="Group 36"/>
          <p:cNvGrpSpPr/>
          <p:nvPr/>
        </p:nvGrpSpPr>
        <p:grpSpPr>
          <a:xfrm>
            <a:off x="5529240" y="6334200"/>
            <a:ext cx="1185840" cy="368280"/>
            <a:chOff x="5529240" y="6334200"/>
            <a:chExt cx="1185840" cy="368280"/>
          </a:xfrm>
        </p:grpSpPr>
        <p:sp>
          <p:nvSpPr>
            <p:cNvPr id="476" name="AutoShape 37"/>
            <p:cNvSpPr/>
            <p:nvPr/>
          </p:nvSpPr>
          <p:spPr>
            <a:xfrm>
              <a:off x="5529240" y="6353280"/>
              <a:ext cx="1185840" cy="322200"/>
            </a:xfrm>
            <a:prstGeom prst="flowChartTerminator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Text Box 38"/>
            <p:cNvSpPr/>
            <p:nvPr/>
          </p:nvSpPr>
          <p:spPr>
            <a:xfrm>
              <a:off x="5668920" y="6334200"/>
              <a:ext cx="90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онец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8" name="Line 39"/>
          <p:cNvSpPr/>
          <p:nvPr/>
        </p:nvSpPr>
        <p:spPr>
          <a:xfrm>
            <a:off x="6059520" y="665280"/>
            <a:ext cx="1440" cy="19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Line 40"/>
          <p:cNvSpPr/>
          <p:nvPr/>
        </p:nvSpPr>
        <p:spPr>
          <a:xfrm>
            <a:off x="6059520" y="1241280"/>
            <a:ext cx="1440" cy="20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Line 41"/>
          <p:cNvSpPr/>
          <p:nvPr/>
        </p:nvSpPr>
        <p:spPr>
          <a:xfrm>
            <a:off x="6059520" y="1817640"/>
            <a:ext cx="1440" cy="20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Line 42"/>
          <p:cNvSpPr/>
          <p:nvPr/>
        </p:nvSpPr>
        <p:spPr>
          <a:xfrm>
            <a:off x="6059520" y="2394000"/>
            <a:ext cx="1440" cy="344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Line 43"/>
          <p:cNvSpPr/>
          <p:nvPr/>
        </p:nvSpPr>
        <p:spPr>
          <a:xfrm>
            <a:off x="6110280" y="3116160"/>
            <a:ext cx="1440" cy="20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Line 44"/>
          <p:cNvSpPr/>
          <p:nvPr/>
        </p:nvSpPr>
        <p:spPr>
          <a:xfrm>
            <a:off x="6130800" y="3689280"/>
            <a:ext cx="1800" cy="20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4" name="Group 45"/>
          <p:cNvGrpSpPr/>
          <p:nvPr/>
        </p:nvGrpSpPr>
        <p:grpSpPr>
          <a:xfrm>
            <a:off x="7375680" y="4213080"/>
            <a:ext cx="361800" cy="478080"/>
            <a:chOff x="7375680" y="4213080"/>
            <a:chExt cx="361800" cy="478080"/>
          </a:xfrm>
        </p:grpSpPr>
        <p:sp>
          <p:nvSpPr>
            <p:cNvPr id="485" name="Line 46"/>
            <p:cNvSpPr/>
            <p:nvPr/>
          </p:nvSpPr>
          <p:spPr>
            <a:xfrm>
              <a:off x="7375680" y="4226040"/>
              <a:ext cx="36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Line 47"/>
            <p:cNvSpPr/>
            <p:nvPr/>
          </p:nvSpPr>
          <p:spPr>
            <a:xfrm>
              <a:off x="7737480" y="4213080"/>
              <a:ext cx="0" cy="47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7" name="Line 48"/>
          <p:cNvSpPr/>
          <p:nvPr/>
        </p:nvSpPr>
        <p:spPr>
          <a:xfrm>
            <a:off x="7931160" y="5057640"/>
            <a:ext cx="144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Line 49"/>
          <p:cNvSpPr/>
          <p:nvPr/>
        </p:nvSpPr>
        <p:spPr>
          <a:xfrm flipH="1">
            <a:off x="6176520" y="5202360"/>
            <a:ext cx="17607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Line 50"/>
          <p:cNvSpPr/>
          <p:nvPr/>
        </p:nvSpPr>
        <p:spPr>
          <a:xfrm>
            <a:off x="6130800" y="5202360"/>
            <a:ext cx="1800" cy="13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0" name="Group 51"/>
          <p:cNvGrpSpPr/>
          <p:nvPr/>
        </p:nvGrpSpPr>
        <p:grpSpPr>
          <a:xfrm>
            <a:off x="4484160" y="4191120"/>
            <a:ext cx="465480" cy="500040"/>
            <a:chOff x="4484160" y="4191120"/>
            <a:chExt cx="465480" cy="500040"/>
          </a:xfrm>
        </p:grpSpPr>
        <p:sp>
          <p:nvSpPr>
            <p:cNvPr id="491" name="Line 52"/>
            <p:cNvSpPr/>
            <p:nvPr/>
          </p:nvSpPr>
          <p:spPr>
            <a:xfrm flipH="1">
              <a:off x="4484160" y="4214880"/>
              <a:ext cx="46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Line 53"/>
            <p:cNvSpPr/>
            <p:nvPr/>
          </p:nvSpPr>
          <p:spPr>
            <a:xfrm>
              <a:off x="4492080" y="4191120"/>
              <a:ext cx="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3" name="Line 54"/>
          <p:cNvSpPr/>
          <p:nvPr/>
        </p:nvSpPr>
        <p:spPr>
          <a:xfrm>
            <a:off x="4519440" y="5057640"/>
            <a:ext cx="180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Line 55"/>
          <p:cNvSpPr/>
          <p:nvPr/>
        </p:nvSpPr>
        <p:spPr>
          <a:xfrm>
            <a:off x="4592520" y="5202360"/>
            <a:ext cx="1538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Line 56"/>
          <p:cNvSpPr/>
          <p:nvPr/>
        </p:nvSpPr>
        <p:spPr>
          <a:xfrm>
            <a:off x="6130800" y="6066000"/>
            <a:ext cx="1800" cy="27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Line 57"/>
          <p:cNvSpPr/>
          <p:nvPr/>
        </p:nvSpPr>
        <p:spPr>
          <a:xfrm>
            <a:off x="7527960" y="5705640"/>
            <a:ext cx="1006560" cy="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Line 58"/>
          <p:cNvSpPr/>
          <p:nvPr/>
        </p:nvSpPr>
        <p:spPr>
          <a:xfrm flipH="1" flipV="1">
            <a:off x="8502480" y="2603160"/>
            <a:ext cx="38160" cy="311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Line 59"/>
          <p:cNvSpPr/>
          <p:nvPr/>
        </p:nvSpPr>
        <p:spPr>
          <a:xfrm flipH="1">
            <a:off x="6124680" y="2610000"/>
            <a:ext cx="23889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60"/>
          <p:cNvSpPr/>
          <p:nvPr/>
        </p:nvSpPr>
        <p:spPr>
          <a:xfrm>
            <a:off x="4495680" y="3832200"/>
            <a:ext cx="8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Text Box 61"/>
          <p:cNvSpPr/>
          <p:nvPr/>
        </p:nvSpPr>
        <p:spPr>
          <a:xfrm>
            <a:off x="7480440" y="5319720"/>
            <a:ext cx="7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 Box 62"/>
          <p:cNvSpPr/>
          <p:nvPr/>
        </p:nvSpPr>
        <p:spPr>
          <a:xfrm>
            <a:off x="5556240" y="5958000"/>
            <a:ext cx="69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Text Box 63"/>
          <p:cNvSpPr/>
          <p:nvPr/>
        </p:nvSpPr>
        <p:spPr>
          <a:xfrm>
            <a:off x="7316640" y="385596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 Box 64"/>
          <p:cNvSpPr/>
          <p:nvPr/>
        </p:nvSpPr>
        <p:spPr>
          <a:xfrm>
            <a:off x="0" y="1600200"/>
            <a:ext cx="3600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Это линейный тип алгоритма (следование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Text Box 65"/>
          <p:cNvSpPr/>
          <p:nvPr/>
        </p:nvSpPr>
        <p:spPr>
          <a:xfrm>
            <a:off x="0" y="2438280"/>
            <a:ext cx="3311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Это условный тип алгоритма (ветвление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Text Box 66"/>
          <p:cNvSpPr/>
          <p:nvPr/>
        </p:nvSpPr>
        <p:spPr>
          <a:xfrm>
            <a:off x="76320" y="3228840"/>
            <a:ext cx="3311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Это циклический тип алгоритма (повторение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6" name="Group 67"/>
          <p:cNvGrpSpPr/>
          <p:nvPr/>
        </p:nvGrpSpPr>
        <p:grpSpPr>
          <a:xfrm>
            <a:off x="68400" y="4343400"/>
            <a:ext cx="3660480" cy="1138320"/>
            <a:chOff x="68400" y="4343400"/>
            <a:chExt cx="3660480" cy="1138320"/>
          </a:xfrm>
        </p:grpSpPr>
        <p:sp>
          <p:nvSpPr>
            <p:cNvPr id="507" name="Rectangle 68"/>
            <p:cNvSpPr/>
            <p:nvPr/>
          </p:nvSpPr>
          <p:spPr>
            <a:xfrm>
              <a:off x="203040" y="4343400"/>
              <a:ext cx="3348360" cy="1138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Text Box 69"/>
            <p:cNvSpPr/>
            <p:nvPr/>
          </p:nvSpPr>
          <p:spPr>
            <a:xfrm>
              <a:off x="68400" y="4448160"/>
              <a:ext cx="36604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a50021"/>
                  </a:solidFill>
                  <a:latin typeface="Comic Sans MS"/>
                </a:rPr>
                <a:t>Получилось сочетание линейного алгоритма и условия в цикл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9" name="Line 70"/>
          <p:cNvSpPr/>
          <p:nvPr/>
        </p:nvSpPr>
        <p:spPr>
          <a:xfrm flipV="1">
            <a:off x="3429000" y="1550520"/>
            <a:ext cx="1647720" cy="43668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Line 71"/>
          <p:cNvSpPr/>
          <p:nvPr/>
        </p:nvSpPr>
        <p:spPr>
          <a:xfrm>
            <a:off x="3124080" y="2819520"/>
            <a:ext cx="1447920" cy="91440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Line 72"/>
          <p:cNvSpPr/>
          <p:nvPr/>
        </p:nvSpPr>
        <p:spPr>
          <a:xfrm>
            <a:off x="3124080" y="3505320"/>
            <a:ext cx="533520" cy="53316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онятие алгоритм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51832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лово «алгоритм» происходит от латинского написания имени величайшего ученого Средней Азии и средневекового Востока Мухамада ибн Мусы аль-Хорезми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Algorithmi)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(впервые описавшего правила выполнения четырёх арифметических действий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9 век н.э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2"/>
          <a:stretch/>
        </p:blipFill>
        <p:spPr>
          <a:xfrm>
            <a:off x="5894280" y="907920"/>
            <a:ext cx="3249720" cy="468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00000" y="402840"/>
            <a:ext cx="6870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сновные понят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 Box 2"/>
          <p:cNvSpPr/>
          <p:nvPr/>
        </p:nvSpPr>
        <p:spPr>
          <a:xfrm>
            <a:off x="900000" y="1268280"/>
            <a:ext cx="741708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Алгоритм – это описание последовательности действий, строгое исполнение которых приводит к решению поставленной задачи за конечное число шаг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лгоритм состоит из законченных действий, называемых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команд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"/>
          <p:cNvSpPr/>
          <p:nvPr/>
        </p:nvSpPr>
        <p:spPr>
          <a:xfrm>
            <a:off x="914400" y="189000"/>
            <a:ext cx="6095880" cy="356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Исполнитель алгоритма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человек или устройство (в частности, процессор компьютера), умеющий выполнять определённый набор действий (алгоритм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Исполнитель является средством реализации алгоритм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2"/>
          <a:stretch/>
        </p:blipFill>
        <p:spPr>
          <a:xfrm>
            <a:off x="6429240" y="979560"/>
            <a:ext cx="2714760" cy="2971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"/>
          <p:cNvPicPr/>
          <p:nvPr/>
        </p:nvPicPr>
        <p:blipFill>
          <a:blip r:embed="rId3"/>
          <a:stretch/>
        </p:blipFill>
        <p:spPr>
          <a:xfrm>
            <a:off x="900000" y="3933720"/>
            <a:ext cx="1878120" cy="2662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31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Основные характеристики исполнителя</a:t>
            </a:r>
            <a:r>
              <a:rPr b="1" lang="ru-RU" sz="4000" spc="-1" strike="noStrike" u="sng">
                <a:solidFill>
                  <a:srgbClr val="ffffff"/>
                </a:solidFill>
                <a:uFillTx/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539640" y="1197000"/>
            <a:ext cx="800100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36600">
              <a:spcBef>
                <a:spcPts val="17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СКИ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(система команд исполнителя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6600">
              <a:spcBef>
                <a:spcPts val="17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бор команд, которые исполнитель понимает и может выполни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6600">
              <a:spcBef>
                <a:spcPts val="17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Среда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6600">
              <a:spcBef>
                <a:spcPts val="17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словия, в которых исполнитель может  выполнять коман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71280" y="475920"/>
            <a:ext cx="687060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Свойства алгоритмов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47640" y="1844640"/>
            <a:ext cx="59025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540000"/>
              </a:buClr>
              <a:buFont typeface="Times New Roman"/>
              <a:buAutoNum type="arabicPeriod"/>
              <a:tabLst>
                <a:tab algn="l" pos="603360"/>
                <a:tab algn="l" pos="708120"/>
                <a:tab algn="l" pos="1157400"/>
                <a:tab algn="l" pos="1606680"/>
                <a:tab algn="l" pos="2055960"/>
                <a:tab algn="l" pos="2505240"/>
                <a:tab algn="l" pos="2954160"/>
                <a:tab algn="l" pos="3403440"/>
                <a:tab algn="l" pos="3852720"/>
                <a:tab algn="l" pos="4302000"/>
                <a:tab algn="l" pos="4751280"/>
                <a:tab algn="l" pos="5200560"/>
                <a:tab algn="l" pos="5649840"/>
                <a:tab algn="l" pos="6099120"/>
                <a:tab algn="l" pos="6548400"/>
                <a:tab algn="l" pos="6997680"/>
                <a:tab algn="l" pos="7446960"/>
                <a:tab algn="l" pos="7896240"/>
                <a:tab algn="l" pos="8345520"/>
                <a:tab algn="l" pos="8794800"/>
                <a:tab algn="l" pos="9244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Дискретнос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540000"/>
              </a:buClr>
              <a:buFont typeface="Times New Roman"/>
              <a:buAutoNum type="arabicPeriod"/>
              <a:tabLst>
                <a:tab algn="l" pos="603360"/>
                <a:tab algn="l" pos="708120"/>
                <a:tab algn="l" pos="1157400"/>
                <a:tab algn="l" pos="1606680"/>
                <a:tab algn="l" pos="2055960"/>
                <a:tab algn="l" pos="2505240"/>
                <a:tab algn="l" pos="2954160"/>
                <a:tab algn="l" pos="3403440"/>
                <a:tab algn="l" pos="3852720"/>
                <a:tab algn="l" pos="4302000"/>
                <a:tab algn="l" pos="4751280"/>
                <a:tab algn="l" pos="5200560"/>
                <a:tab algn="l" pos="5649840"/>
                <a:tab algn="l" pos="6099120"/>
                <a:tab algn="l" pos="6548400"/>
                <a:tab algn="l" pos="6997680"/>
                <a:tab algn="l" pos="7446960"/>
                <a:tab algn="l" pos="7896240"/>
                <a:tab algn="l" pos="8345520"/>
                <a:tab algn="l" pos="8794800"/>
                <a:tab algn="l" pos="9244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онятность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540000"/>
              </a:buClr>
              <a:buFont typeface="Times New Roman"/>
              <a:buAutoNum type="arabicPeriod"/>
              <a:tabLst>
                <a:tab algn="l" pos="603360"/>
                <a:tab algn="l" pos="708120"/>
                <a:tab algn="l" pos="1157400"/>
                <a:tab algn="l" pos="1606680"/>
                <a:tab algn="l" pos="2055960"/>
                <a:tab algn="l" pos="2505240"/>
                <a:tab algn="l" pos="2954160"/>
                <a:tab algn="l" pos="3403440"/>
                <a:tab algn="l" pos="3852720"/>
                <a:tab algn="l" pos="4302000"/>
                <a:tab algn="l" pos="4751280"/>
                <a:tab algn="l" pos="5200560"/>
                <a:tab algn="l" pos="5649840"/>
                <a:tab algn="l" pos="6099120"/>
                <a:tab algn="l" pos="6548400"/>
                <a:tab algn="l" pos="6997680"/>
                <a:tab algn="l" pos="7446960"/>
                <a:tab algn="l" pos="7896240"/>
                <a:tab algn="l" pos="8345520"/>
                <a:tab algn="l" pos="8794800"/>
                <a:tab algn="l" pos="9244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Массовость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540000"/>
              </a:buClr>
              <a:buFont typeface="Times New Roman"/>
              <a:buAutoNum type="arabicPeriod"/>
              <a:tabLst>
                <a:tab algn="l" pos="603360"/>
                <a:tab algn="l" pos="708120"/>
                <a:tab algn="l" pos="1157400"/>
                <a:tab algn="l" pos="1606680"/>
                <a:tab algn="l" pos="2055960"/>
                <a:tab algn="l" pos="2505240"/>
                <a:tab algn="l" pos="2954160"/>
                <a:tab algn="l" pos="3403440"/>
                <a:tab algn="l" pos="3852720"/>
                <a:tab algn="l" pos="4302000"/>
                <a:tab algn="l" pos="4751280"/>
                <a:tab algn="l" pos="5200560"/>
                <a:tab algn="l" pos="5649840"/>
                <a:tab algn="l" pos="6099120"/>
                <a:tab algn="l" pos="6548400"/>
                <a:tab algn="l" pos="6997680"/>
                <a:tab algn="l" pos="7446960"/>
                <a:tab algn="l" pos="7896240"/>
                <a:tab algn="l" pos="8345520"/>
                <a:tab algn="l" pos="8794800"/>
                <a:tab algn="l" pos="9244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Детерминированность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540000"/>
              </a:buClr>
              <a:buFont typeface="Times New Roman"/>
              <a:buAutoNum type="arabicPeriod"/>
              <a:tabLst>
                <a:tab algn="l" pos="603360"/>
                <a:tab algn="l" pos="708120"/>
                <a:tab algn="l" pos="1157400"/>
                <a:tab algn="l" pos="1606680"/>
                <a:tab algn="l" pos="2055960"/>
                <a:tab algn="l" pos="2505240"/>
                <a:tab algn="l" pos="2954160"/>
                <a:tab algn="l" pos="3403440"/>
                <a:tab algn="l" pos="3852720"/>
                <a:tab algn="l" pos="4302000"/>
                <a:tab algn="l" pos="4751280"/>
                <a:tab algn="l" pos="5200560"/>
                <a:tab algn="l" pos="5649840"/>
                <a:tab algn="l" pos="6099120"/>
                <a:tab algn="l" pos="6548400"/>
                <a:tab algn="l" pos="6997680"/>
                <a:tab algn="l" pos="7446960"/>
                <a:tab algn="l" pos="7896240"/>
                <a:tab algn="l" pos="8345520"/>
                <a:tab algn="l" pos="8794800"/>
                <a:tab algn="l" pos="9244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Результативность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540000"/>
              </a:buClr>
              <a:buFont typeface="Times New Roman"/>
              <a:buAutoNum type="arabicPeriod"/>
              <a:tabLst>
                <a:tab algn="l" pos="603360"/>
                <a:tab algn="l" pos="708120"/>
                <a:tab algn="l" pos="1157400"/>
                <a:tab algn="l" pos="1606680"/>
                <a:tab algn="l" pos="2055960"/>
                <a:tab algn="l" pos="2505240"/>
                <a:tab algn="l" pos="2954160"/>
                <a:tab algn="l" pos="3403440"/>
                <a:tab algn="l" pos="3852720"/>
                <a:tab algn="l" pos="4302000"/>
                <a:tab algn="l" pos="4751280"/>
                <a:tab algn="l" pos="5200560"/>
                <a:tab algn="l" pos="5649840"/>
                <a:tab algn="l" pos="6099120"/>
                <a:tab algn="l" pos="6548400"/>
                <a:tab algn="l" pos="6997680"/>
                <a:tab algn="l" pos="7446960"/>
                <a:tab algn="l" pos="7896240"/>
                <a:tab algn="l" pos="8345520"/>
                <a:tab algn="l" pos="8794800"/>
                <a:tab algn="l" pos="9244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онечнос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755640" y="333000"/>
            <a:ext cx="7696080" cy="60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 u="sng">
                <a:solidFill>
                  <a:srgbClr val="ffff00"/>
                </a:solidFill>
                <a:uFillTx/>
                <a:latin typeface="Times New Roman"/>
              </a:rPr>
              <a:t>Дискретность (пошаговость)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 – свойство алгоритма, заключающиеся в том, что алгоритм должен состоять из конкретных действий (шагов), следующих в определенном порядке.</a:t>
            </a:r>
            <a:r>
              <a:rPr b="0" lang="ru-RU" sz="3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 u="sng">
                <a:solidFill>
                  <a:srgbClr val="ffff00"/>
                </a:solidFill>
                <a:uFillTx/>
                <a:latin typeface="Times New Roman"/>
              </a:rPr>
              <a:t>Понятность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 – каждая команда должна входить в СКИ, т.е. алгоритм должен быть записан на понятном для исполнителя языке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 u="sng">
                <a:solidFill>
                  <a:srgbClr val="ffff00"/>
                </a:solidFill>
                <a:uFillTx/>
                <a:latin typeface="Times New Roman"/>
              </a:rPr>
              <a:t>Массовость</a:t>
            </a:r>
            <a:r>
              <a:rPr b="0" lang="ru-RU" sz="3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– свойство алгоритма, заключающееся в том, что один и тот же алгоритм можно использовать с разными исходными данными.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"/>
          <p:cNvSpPr/>
          <p:nvPr/>
        </p:nvSpPr>
        <p:spPr>
          <a:xfrm>
            <a:off x="611280" y="620640"/>
            <a:ext cx="820872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6600">
              <a:lnSpc>
                <a:spcPct val="95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ffff00"/>
                </a:solidFill>
                <a:uFillTx/>
                <a:latin typeface="Times New Roman"/>
              </a:rPr>
              <a:t>Детерминированность</a:t>
            </a:r>
            <a:r>
              <a:rPr b="0" lang="ru-RU" sz="2800" spc="-1" strike="noStrike">
                <a:solidFill>
                  <a:srgbClr val="ffff00"/>
                </a:solidFill>
                <a:latin typeface="Comic Sans MS"/>
              </a:rPr>
              <a:t> (</a:t>
            </a:r>
            <a:r>
              <a:rPr b="1" lang="ru-RU" sz="2800" spc="-1" strike="noStrike" u="sng">
                <a:solidFill>
                  <a:srgbClr val="ffff00"/>
                </a:solidFill>
                <a:uFillTx/>
                <a:latin typeface="Times New Roman"/>
              </a:rPr>
              <a:t>точность,  определенность)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– свойство алгоритма, заключающееся в том, что любое действие должно быть строго и недвусмысленно определено в каждом случа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6600">
              <a:lnSpc>
                <a:spcPct val="95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ffff00"/>
                </a:solidFill>
                <a:uFillTx/>
                <a:latin typeface="Times New Roman"/>
              </a:rPr>
              <a:t>Результативнос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– свойство алгоритма, заключающееся в том, что при точном исполнении всех команд алгоритма процесс должен прекратиться за конечное число шагов, приведя к определенному результату.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6600">
              <a:lnSpc>
                <a:spcPct val="95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ffff00"/>
                </a:solidFill>
                <a:uFillTx/>
                <a:latin typeface="Times New Roman"/>
              </a:rPr>
              <a:t>Конечность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– свойство алгоритма, заключающиеся в том, что каждое действие и алгоритм в целом должны иметь возможность заверше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58480" y="3049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Блок – схема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лок-схема – это наглядный, графический способ представления алгоритма.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ждая команда записывается с использованием графических символ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09:53:41Z</dcterms:created>
  <dc:creator>Sasha</dc:creator>
  <dc:description/>
  <dc:language>en-US</dc:language>
  <cp:lastModifiedBy>Admin</cp:lastModifiedBy>
  <dcterms:modified xsi:type="dcterms:W3CDTF">2012-04-17T08:59:51Z</dcterms:modified>
  <cp:revision>64</cp:revision>
  <dc:subject/>
  <dc:title>Конструирование алгоритмов</dc:title>
</cp:coreProperties>
</file>