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865-C840-4EA7-A266-5930F8EC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374-09A1-41DC-95BA-1DD28DB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C00-C401-4C05-91EA-5B7DD5FA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E78-73A9-474D-A0BB-E53E918B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E7FB-DE50-49D0-9082-4033839B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C8A-A336-48E5-975A-F0A90CC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752-FE7B-4EFD-A33A-3DE8D44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C8D-05FA-48CC-9298-AF7071AF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26E-CF34-4F5D-A668-DEBBCC8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71F-1DB3-4F85-AA6E-5E09F29F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A21-1468-4019-A139-B24D91B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5B0-E73C-44AF-AC39-2441EAA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4DF-FDC1-43A1-B04C-E26E074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78A5-4041-4C99-B2E0-461F2B1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B13E-26EB-4467-9B0F-D503B729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6B4-594D-4D9C-817F-DB12A98B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FF9-9098-40B6-8169-AE1497C4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BDF-7FCE-4800-B05A-56EAC2A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E5D-6EB4-4390-B817-66E01BB9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445-C2C4-49DE-B0C5-122B182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C73-4201-4B21-9E0E-1EB6EB5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8E9-6F27-43C4-ADBA-C80F30D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68E-172C-4FB6-A1D7-75E941D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F54-4EF5-4183-ADB9-84094FED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B58C-B6AC-4B74-9C8C-338FA18A3A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7CCF-EE4D-46FD-9BE4-45A7F3B66B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:\Урок 3\Анимация\Люди\28.gif"/>
          <p:cNvPicPr/>
          <p:nvPr/>
        </p:nvPicPr>
        <p:blipFill>
          <a:blip r:embed="rId1"/>
          <a:stretch/>
        </p:blipFill>
        <p:spPr>
          <a:xfrm>
            <a:off x="228600" y="181296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WordArt 2"/>
          <p:cNvSpPr txBox="1"/>
          <p:nvPr/>
        </p:nvSpPr>
        <p:spPr>
          <a:xfrm>
            <a:off x="685800" y="533520"/>
            <a:ext cx="8077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34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ec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зентация по теме:</a:t>
            </a:r>
            <a:endParaRPr b="0" lang="en-US" sz="2400" spc="1" strike="noStrike">
              <a:ln w="12600">
                <a:solidFill>
                  <a:srgbClr val="ccec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928800" y="3213000"/>
            <a:ext cx="76197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ccffff"/>
                  </a:solidFill>
                  <a:miter/>
                </a:ln>
                <a:solidFill>
                  <a:srgbClr val="66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за  данных</a:t>
            </a:r>
            <a:endParaRPr b="0" lang="en-US" sz="2400" spc="1" strike="noStrike">
              <a:ln w="25560">
                <a:solidFill>
                  <a:srgbClr val="ccffff"/>
                </a:solidFill>
                <a:miter/>
              </a:ln>
              <a:solidFill>
                <a:srgbClr val="66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132000" y="5300640"/>
            <a:ext cx="44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боту выполнила ученица 11 «Б» класса Горностаева Татьян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-1054080"/>
            <a:ext cx="9144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8600" y="0"/>
            <a:ext cx="8686800" cy="71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9036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сикографический порядо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рядоченность слов (последовательностей символов) определяется по алфавитному принципу: сначала по первой букве, потом по второй и так далее, как это делается в словарях или энциклопедиях. Такой принцип называется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сикографическим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ком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от фрагмент из орфографического словаря, содержащий последовательно расположенные в нем слов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ртет, компонент, конверт, конвульс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этими словами истины следующие отношения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ртет&lt;конвульсия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мпонент &gt; квартет                   конверт &gt; компонен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я символьного типа могут содержать не только русские буквы, но и любые символы из символьной таблицы компьютера, в том числе цифры, скобки, знаки препина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 величина логического тип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ростейшая форма логического выражения. Следовательно, условие поиска может содержать в своей записи лишь имя логического пол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ие, состоящее из имени поля логического типа или одного отношения, будем называть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 логическим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и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е СУБД позволяют в отношениях использовать арифметические выражения. Арифметические выражения могут включать в себя числа, имена полей числового типа, знаки арифметических операций, круглые скобки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я символьного типа могут содержать не только ру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е буквы, но и любые символы из символьной таблицы компьютера, в том числе цифры, скобки, знаки препина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 величина логического тип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ростейшая форма логического выражения. Следовательно, условие поиска может содержать в своей записи лишь имя логического пол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ие, состоящее из имени поля логическог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 или одного отношения, будем называть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 логическим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и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е СУБД позволяют в отношениях использовать арифметические выражения. Арифметические выражения могут включать в себя числа, имена полей числового типа, знаки арифметических операций, круглые скобк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5867280" y="6172200"/>
            <a:ext cx="26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Возвра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словия поиска и сложные логические выражения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106200"/>
            <a:ext cx="9144000" cy="67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 поиска и сложные логические выраж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им еще одну группу высказываний. Будем считать высказывание истинным, если в БД имеется хотя бы одна запись, для которой оно справедли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кроме знакомых вам отношений и логических полей используются смысловые связки «и», «или», «не». Это служебные слова, которые выполняют роль знаков логических операц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мся с тремя логическими операциям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я логического умножения (конъюнкция); знак операции «и»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я логического сложения (дизъюнкция); знак операции «или»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я отрицания; знак операции «не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жения, содержащие логические операции, будем называть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ми логическими выражени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и логического умножения и сложения —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ухместные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значит, что они связывают между собой две логические величины (два логических операнд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Логическое умножение (и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логического умножения получается истина, если оба операнда истин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ое сложение (или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логического сложения получается истина, если значение хотя бы одного операнда истин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228600"/>
            <a:ext cx="914400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ни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третья логическая операц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ние изменяет значение логической величины на противоположно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стина = ложь; не ложь = исти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ни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одноместная операция. Это значит, что о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яется к одному логическому операн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 сложном логическом выражении имеется несколько логических операций, то возникает вопрос, в каком порядке их выполнит компьюте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логическом выражении можно использовать круглые скобки. Так же как и в математических формулах, скобки влияют на последовательность выполнения операций. Если нет скобок, то операции выполняются в порядке их старшинства. Среди логических операций, как и среди арифметических, есть различие по старшинств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6324480" y="5486400"/>
            <a:ext cx="16765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ртировка,удаление и добавление записей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3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09480" y="533520"/>
            <a:ext cx="8153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тировка, удаление и добавление запис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часто записи в таблицах бывают упорядочены по какому-то принципу. Например, в телефонных справочниках — в алфавитном порядке фамилий абонентов; в расписании движения поездов — в порядке времени отправления; в таблице футбольного чемпионата — по возрастанию но­мера места, которое занимает коман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 упорядочения записей в таблице называетс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тировк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команде сортировки должна быть указана следующая информаци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 значению какого поля производить сортировк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 в каком порядке сортировать записи (по возрастанию или убыванию значений пол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 каком файле сохранить отсортированную таблицу. Формат команды сортировки таков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сортировать &lt;имя файла&gt; по &lt;имя поля&gt;/&lt;признак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ка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212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слов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указывается имя того поля, по значению которого будет происходить сортировка. В таком случае это поле называетс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ом сортиров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в нашей гипотетической СУБД признаком порядка будет одна из двух букв: «А» или «Б». Признак «А» обозначает сортировку по возрастанию, «Б» — по убыванию значений ключ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ча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часто в реальных СУБД по команде удалить лишь помечаются записи, предназначенные для удаления. Исключение их из файла происходит после выполнения процедуры сжатия фай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ая команда, изменяющая содержание готовой таблицы — команда добавления. Выглядит она так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добави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этой команде пользователю предоставляется возможность ввести значение полей новой записи, которая занесется в конец таблиц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5943600" y="5486400"/>
            <a:ext cx="18288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936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Что такое база данных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База данных (БД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—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овокупность определенным образом организованной информации на какую-то тему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Конечно, вся эта информация может храниться и на бумаге (например, книжный каталог библиотеки). Но современным средством хранения и обработки баз данных является, безусловно, компьютер. Базы данных бывают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фактографическими и документальными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В фактографических БД содержатся краткие сведения об описываемых объектах, представленные в строго определенном форма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БД содержит обширную информацию самого разного типа: текстовую, графическую, звуковую, мультимедийну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ама по себе база данных не может обслужить запросы пользователя на поиск и обработку информации. БД — это только «информационный склад». Обслуживание пользователя осуществляет информационная система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04920" y="0"/>
            <a:ext cx="883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Информационная система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— это совокупность базы данных и всего комплекса аппаратно-программных средств для ее хранения, изменения и поиска информации, для взаимодействия с пользователем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Примерами информационных систем являются системы продажи билетов на пассажирские поезда и самолеты. WWW — это тоже пример глобальной информационной системы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База данных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— </a:t>
            </a:r>
            <a:r>
              <a:rPr b="0" i="1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организованная совокупность данных, предназначенная для длительного хранения во внешней памяти ЭВМ и постоянного применения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Для хранения БД может использоваться как один компьютер, так и множество взаимосвязанных компьютеров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Если различные части одной базы данных хранятся на множестве компьютеров, объединенных между собой сетью, то такая БД называется распределенной базой данны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Очевидно, информацию в Internet, объединенную паутиной WWW, можно рассматривать как распределенную базу данных Распределенные БД создаются также и в локальных сетя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3429000" y="58672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93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228600"/>
            <a:ext cx="9144000" cy="55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яционные базы д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формация в базах данных может быть организована по-разном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зы данных с табличной формой организации называются реляционными БД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же их преимущество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е достоинство таблиц — в их понятности. С табличной информацией мы имеем дело практически каждый день. Загляните, например, в свой дневник: расписание занятий там представлено в виде таблицы, ведомость с оценками за четверти имеет табличный вид. Когда мы приходим на вокзал, смотрим расписание электричек. Какой вид оно имеет? Это таблица! А еще есть таблица футбольного чемпионата. И журнал учителя, куда он ставит вам оценки — тоже табли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я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различные характеристики (иногда говорят — атрибуты) объекта. Значения полей в одной строчке относятся к одному объек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поля отличаются именами. А чем отличаются друг от друга разные записи? Записи различаются значениями ключ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м ключом в базах данных называют поле (или совокупность полей), значение которого не повторяется у разных запис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049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ждым полем связано еще одно очень важное свойство—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пол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определяет множество значений, которые может принимать данное поле в различных запис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ляционных базах данных используются четыре основных типа поле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числов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ьны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огическ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ий тип соответствует полю, которое может принимать всего два значения: «да» — «нет» или «истина» — «ложь» или (по английски) «true» — «false». Если двоичную матрицу представить в виде реляционной БД, то ее полям, принимающим знач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» или «1», удобно поставить в соответствие логический тип. При этом «1» заменится на значение «истина», «О» — на значение «ложь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к, значения полей — это некоторые величины определенных т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типа величины зависят те действия, которые можно с ней производи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5867280" y="5638680"/>
            <a:ext cx="30481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30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22320"/>
            <a:ext cx="9144000" cy="70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система управления базами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х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же много раз говорилось о том, что любую работу компьютер выполняет под управлением программ. Значит и для работы с базами данных требуется специальное программное обеспечение. Такое программное обеспечение называется системой управления базами данных, или сокращенно СУБД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ное обеспечение, предназначенное для работы с базами данных, называется СУБД: система управления базами данных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ы, работающие с реляционными базами данных,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ются реляционными СУБД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ибольшее количество СУБД, созданных для персональных компьютеров —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яционные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управления базами данных создает на экране компьютера определенную среду работы пользователя (пользовательский интерфейс). Кроме того, СУБД имеет определенные режимы работы и систему команд. С системой команд вы будете знакомиться постепенно, по мере решения различных задач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омощью СУБД вы будете создавать таблицы и сохранять их на магнитном диске в виде файлов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многих реляционных СУБД, используемых на персональных компьютерах, действует правило: каждая таблица хранится в отдельном файле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файл имеет свое имя. Если вы сами создаете таблицу и сохраняете ее в файле, то сами вы и придумываете имя для файла. Если же вы хотите работать с уже готовой таблицей, например ее подготовил к уроку учитель, то вы должны узнать, в файле с каким именем, на каком диске и в каком каталоге хранится таблица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, чтобы начать работу с подготовленной базой данных, нужно открыть файл, в котором хранится таблица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ается это с помощью команды открытия файла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чание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зных  СУБД различный интерфейс, язык команд. Как правило, в них используются английские термины. Далее будет описываться работа с некоторой условной (гипотетической) реляционной СУБД, «понимающей» команды на русском языке. Однако эта система обладает всеми основными свойствами реальных СУБД. При выполнении заданий в компьютерном классе вам предстоит стать «переводчиками» с языка гипотетической СУБД на язык реальной систем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будем рассматривать работу с нашей гипотетической СУБД в режиме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ного управл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Система выводит на экран приглашение пользователю. Пусть в качестве такого приглашения выводится точка в начале командной строки. Сразу после точки пользователь должен ввести команду с клавиатур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открытия файла с таблицей имеет такой формат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ткры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имя файла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чание 2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десь и в дальнейшем в описаниях форматов команд будут использоваться угловые скобки &lt;....&gt;. Запись в угловых скобках указывает на смысл соответствующего элемента команды. Ее можно предварять наречием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екоторый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открытия файла таблица стала доступна для работы с ней. Что можно делать с такой таблицей? Практически все, что угодн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влять новые запис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лять записи, ставшие ненужным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ять содержимое поле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ять структуру таблицы: удалять или добавлять поля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тировать строки по какому-нибудь принципу, например в алфавитном порядке фамилий авто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ть справки, то есть ответы на запросы. Очевидно, последнее — получение справок — это основная цель, ради которой создается база данны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5867280" y="5943600"/>
            <a:ext cx="1981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словия поиска и простые логические выражения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7432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гическое выражение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ксикографический порядок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-380880" y="-1212840"/>
            <a:ext cx="9524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9640" rIns="5396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 поиска и простые логические выра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ще всего для справки требуются не все записи, а только часть из них, удовлетворяющая какому-то условию. Это условие называется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ем поис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мандах СУБД условие поиска записывается в форме логического выраж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ое выражени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некоторое высказывание, по поводу которого можно заключить истинно оно или ложн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ое выражение, подобно математическому выражению, выполняется (вычисляется), но в результате получается не число, а логическое значение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ина (true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жь (fals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гическая величин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всегда ответ на вопрос: истинно ли выраж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всевозможные отнош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933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22096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9640" rIns="53964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равно                                                                                                                                                                                                                         &lt;     меньш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&gt;неравно                                                                                                                                                           &gt;= больше или рав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больше                                                                                                                                                                                                     &lt;= меньше или рав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5812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полняются отношения для числовых величин, это вам должно быть понятно из математики. (В математике отношения называются неравенствами.) Для символьных величин требуется поясн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«равно» истинно для двух символьных величин, если их длина одинакова и все соответствующие символы совпадают. Следует учитывать, что пробел — это тоже симво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ьные величины можно сопоставлять и в отношениях &lt;, &gt;, &lt;=, &gt;=. Здесь принцип такой: сравниваются между собой не сами символы, а их внутренние коды. Если в используемой на компьютере кодировке буквы русского алфавита упорядочены по возрастанию их кодов, то будут справедливы следующие отношения между ним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&lt;Б&lt;В&lt;Г&lt;Д&lt;Е&lt;...&lt;Ю&lt;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6:53:13Z</dcterms:created>
  <dc:creator>Unknown User</dc:creator>
  <dc:description/>
  <dc:language>en-US</dc:language>
  <cp:lastModifiedBy>Администратор</cp:lastModifiedBy>
  <dcterms:modified xsi:type="dcterms:W3CDTF">2015-03-18T14:42:27Z</dcterms:modified>
  <cp:revision>25</cp:revision>
  <dc:subject/>
  <dc:title>Презентация PowerPoint</dc:title>
</cp:coreProperties>
</file>