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AC26-F29C-4362-9800-2612DF08E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0A6D-5EDF-4F68-B18B-33151DF7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0AF2-31B0-408C-9C6F-C2952964D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94D2-E0F8-4768-B723-87686D3D2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7332-411D-46CD-B30B-FD7F4520C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0D08-34B5-410A-B5C1-0FF68AFF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CDC73-86DA-4C84-90F0-B28764D3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92C9C-0B48-4935-AE13-D95D0481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837D5-7E4D-4290-B9EA-167CD6D7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F4C8-655C-4009-AFD0-377CE7EA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58AA-1CFD-44C6-8766-55F577FF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285D-26ED-4D4A-AFE2-EAE4D8EF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47F1-E4C0-4DBD-A163-8F560586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0C12-53EB-47BD-924B-0DE1D01B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985A-2F42-460A-9DBA-A26FD804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C136-5DFA-47C5-B6B8-33F77213F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761A-6E24-418F-BBA3-DF6494868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1DD6-DCD1-4AEC-BBF2-C0161588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157F-AFCF-4154-A099-D19754FB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D9B1-1D31-463D-804F-E6C39A02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E008-41AE-4B58-AF04-01440255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52B8-CC07-4E4E-AFA4-F322E888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B21D-1F0A-46B1-B92B-B7C885A1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D59F-7624-43B3-85C3-1080FBEF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0AE5-68E1-4D8F-A00A-13D78EA2ECD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B508-5498-4F96-A4B1-4D6DFDEA8F1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ДОГОВОР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32000" y="2852280"/>
            <a:ext cx="72388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АРЕНДЫ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6920" y="301320"/>
            <a:ext cx="749628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                        </a:t>
            </a:r>
            <a:r>
              <a:rPr b="0" lang="en-US" sz="4800" spc="-1" strike="noStrike">
                <a:solidFill>
                  <a:srgbClr val="006666"/>
                </a:solidFill>
                <a:latin typeface="Arial"/>
              </a:rPr>
              <a:t>2.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Содержание договора аренды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8920" y="40428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Обязанности арендодателя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7921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Предоставить арендатору имущество в состоянии, соответствующем условиям договора и назначению имущества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Предоставить имущество со всеми его принадлежностями и документами, если иное не предусмотрено договоро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Предоставить имущество в обусловленный срок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Предупредить арендатора о правах третьих лиц на сдаваемое в аренду имущество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Производить за свой счет капитальный ремонт, если иное не предусмотрено договором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6666"/>
                </a:solidFill>
                <a:uFillTx/>
                <a:latin typeface="Arial"/>
              </a:rPr>
              <a:t>Обязанности арендатора: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999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Своевременное внесение арендной платы за пользование имущество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Пользоваться арендованным имуществом в соответствии с условиями договора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Поддерживать имущество в исправном состоянии, производить за свой счет текущий ремонт и нести расходы на содержание имущества, если иное на предусмотрено договоро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Вернуть арендодателю при прекращении договора имущество в том же состоянии, в котором он его получил, с учетом нормального износа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Основания прекращения договора аренды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425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Смерть гражданина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арендующего недвижимое или движимое имущество, если заключение договора было обусловлено личными качествами арендатора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Ликвидация юридического лица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, являющейся одной из сторон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Решение суда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о прекращении договора по требованию одной из сторон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Стороны вправе установить в договоре другие основания расторжения договора по их инициативе или исключить названные выше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Субаренд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827000"/>
            <a:ext cx="82152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Бывает двух видов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Поднаём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– сдача арендованного имущества в субаренду без передачи прав арендатора субарендатору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Перенаём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– сдача в субаренду имущества с передачей прав и обязанностей перед арендодателем субарендатор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ба варианта возможны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только с согласия арендодателя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Также в обоих случаях возможна передача арендатором имущества субарендатору на безвозмездной основ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оговор субаренды является полностью зависимым от договора аренды. Срок субаренды не может превышать срок основного договор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                        </a:t>
            </a: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3.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0000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Общая характеристика отдельных видов договора аренды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Виды договора аренды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8137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Договор проката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Договор аренды транспортного средства с экипажем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Договор арены транспортного средства без экипажа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Договор аренды зданий и сооружений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Договор аренды предприятия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Договор финансовой аренды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6666"/>
                </a:solidFill>
                <a:uFillTx/>
                <a:latin typeface="Arial"/>
              </a:rPr>
              <a:t>1. Договор проката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77835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это соглашение, по которому арендодатель, осуществляющий сдачу имущества в аренду в качестве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постоянной предпринимательской деятельност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обязуется предоставить арендатору движимое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имущество за плату во временное владение и пользовани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(ст.626 ГК РФ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6666"/>
                </a:solidFill>
                <a:uFillTx/>
                <a:latin typeface="Arial"/>
              </a:rPr>
              <a:t>Признаки договора: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Реальный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Публичный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Договор присоединен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6666"/>
                </a:solidFill>
                <a:uFillTx/>
                <a:latin typeface="Arial"/>
              </a:rPr>
              <a:t>Стороны договора: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00000" y="1628280"/>
            <a:ext cx="7385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Арендодатель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– коммерческая организация, осуществляющая сдачу имущества в аренду в качестве основной предпринимательской деятельност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Арендатор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– физическое или юридическое лицо, использующее имущество в личных целях, а не для извлечения прибыл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Цели урок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4920" y="182736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Рассмотреть характеристику договора аренд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спользуя пройденный материал, дать сравнительный анализ договоров аренды и купли-продаж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оанализировать характеристику видов аренды, выявить отличительные и общие призна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Существенные условия договора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920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Предмет договор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движимое имущество, не потребляемое, которое используется в домашних, личных целях, а не для извлечения прибыл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Срок договор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- не может превышать один год. Истечение указанного срока влечет прекращение договор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Особенности содержание договора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55280" y="1484280"/>
            <a:ext cx="8209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Арендодатель обязан в присутствии арендатора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проверить качество вещи,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ознакомить с правилами эксплуатации или передать техническую документацию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Арендодатель обязан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осуществлять текущий и капитальный ремонт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имущества и устранять вскрывшиеся недостатки в течении 10 дней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Арендатор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не вправе сдавать имущество в субаренду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Арендатор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не имеет преимущественного права на перезаключение договора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99640" y="301320"/>
            <a:ext cx="77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2. Договор аренды транспортного средства с экипажем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это договор, в силу которого арендодатель предоставляет арендатору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транспортное средство за плату во временное владе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и пользование и оказывает своими силами услуги по управлению им и по его технической эксплуатац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948360" y="5300640"/>
          <a:ext cx="541440" cy="15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48360" y="5300640"/>
                    <a:ext cx="541440" cy="1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Особенности договора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353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рендодатель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оказывает услуги по управлению и технической эксплуатации транспортного средств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несет дополнительные расходы, связанные с содержанием членов экипажа и оплатой их услуг, обязан страховать транспортное средство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рендатор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несет расходы по коммерческой эксплуатац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рендодатель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несет ответственност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перед третьими лицами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за вред, причиненный транспортным средством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или его механизм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640" y="301320"/>
            <a:ext cx="771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3. Договор аренды транспортного средства без экипаж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6920" y="1827360"/>
            <a:ext cx="785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это соглашение, по которому арендодатель предоставляет транспортное средство за плату во временное владение и пользование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без оказания услуг по управлению им и его технической эксплуат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Особенности договора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7856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Все расходы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на содержание транспортного средства, включая его страхование,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возлагаются на арендатор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Ответственность за вред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, причиненный транспортным средством или его механизмами третьим  лицам,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несет арендатор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Текущий и капитальный ремонт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проводится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арендатором,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если иное не предусмотрено договором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4. Договор аренды зданий и сооружений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это соглашение, по которому арендодатель обязуется передать во временное владение и пользование арендатору здание или сооружение (ст.650 ГК РФ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6666"/>
                </a:solidFill>
                <a:uFillTx/>
                <a:latin typeface="Arial"/>
              </a:rPr>
              <a:t>Форма договора: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Договор заключается в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письменной форм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в виде единого документа, подписанного обеими сторонами. Договор, заключаемый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на срок более одного год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подлежит обязательной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государственной регистраци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Существенные условия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55640" y="1827360"/>
            <a:ext cx="792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Предмет договора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здание или сооружение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Арендная плата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включает в себя плату за пользование земельным участком, передаваемым со зданием или сооружением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6666"/>
                </a:solidFill>
                <a:uFillTx/>
                <a:latin typeface="Arial"/>
              </a:rPr>
              <a:t>Особенности договора: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79614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Арендатору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предоставляется право на земельный участок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, на котором находится объект договора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Изменение собственника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земельного участка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не влияет на права арендатора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Арендатор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не вправе производить никаких капитальных преобразований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, затрагивающих несущие конструкции, производить перепланировку без согласия арендодател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Передача здания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или сооружения и их возврат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производится по передаточному акту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ЛАН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920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9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Понятие, элементы договора аренды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9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одержание договора аренды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9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Общая характеристика отдельных видов договора аренды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6666"/>
                </a:solidFill>
                <a:uFillTx/>
                <a:latin typeface="Arial"/>
              </a:rPr>
              <a:t>5. Договор предприяти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8072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это соглашение, по которому арендодатель обязуется предоставит арендатору за плату во временное владение или пользование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предприятие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в целом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как имущественный комплекс,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используемый для осуществления предпринимательской деятельности (ст.656 ГК РФ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Существенные условия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0920" y="1827360"/>
            <a:ext cx="80722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Предмет договора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предприятие как единый имущественный комплекс, относящийся к недвижимому имуществу и включающий в себя основные и оборотные средства, исключительные права, права требования и долг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Арендная плата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6666"/>
                </a:solidFill>
                <a:uFillTx/>
                <a:latin typeface="Arial"/>
              </a:rPr>
              <a:t>Форма договора: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7921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Договор заключается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в письменной форме,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в виде единого документа, подписанного сторонами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подлежит государственной регистраци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Особенности договора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2803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Передача производится по передаточному акту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Арендатор обязан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поддерживать предприятие в надлежащем состоянии,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нести расходы по страхованию и эксплуатаци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Арендатор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имеет право пользоваться, распоряжаться имуществом без согласия арендодателя при условии сохранения или повышения его стоимости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, и вправе требовать возмещения стоимости неотделимых улучшений имущества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6. Договор финансовой аренды (лизинг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3534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-это соглашение сторон, в силу которого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арендодатель обязуется приобрести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в собственность </a:t>
            </a:r>
            <a:r>
              <a:rPr b="0" i="1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указанное арендатором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имущество у определенного им продавца и предоставить арендатору это имущество за плату во временное владение и пользование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для предпринимательских целей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(ст. 665 ГК РФ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Особенности договора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В договоре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участвуют три стороны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Арендатор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– лицо, в чьих интересах заключается договор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 Арендодатель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Продавец имущества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, его собственник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Договор лизинга включает в себя положения договора аренды, и договора купли-продаж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Содержание договора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19280" y="1484280"/>
            <a:ext cx="84247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Продавец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обязан передать имущество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непосредственно арендатору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Арендатор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обладает теми же правами и обязанностями, как и покупатель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, за исключением оплаты товара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Арендодатель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не вправе без согласия арендатора расторгать договор купли-продажи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. Он выступает в роли солидарного кредитора перед продавцом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Продавец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обязан передать имущество арендатору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в месте его нахождения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Вопросы для самоконтроля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849780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В чём отличие аренды от купли-продажи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Какие права и обязанности у договаривающихся сторон по договору аренды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Каковы правовые последствия улучшений арендованного имущества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Что говорит ГК о сроках договоров аренды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Опешите правовой механизм субаренды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Перечислите виды аренд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В чём особенности правового регулирования проката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Вопросы для самоконтрол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42472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Какие существуют разновидности аренды транспортных средств и в чём отличие между ними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В чём особенности аренды зданий(сооружений)? Какая форма договора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Укажите особенности аренды предприятий. Что понимается под составом предприятия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Какая форма требуется для договора аренды предприятия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Что является предметом договора лизинга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Опешите механизм заключения и исполнения договора лизинг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Домашнее задание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4920" y="1827360"/>
            <a:ext cx="8288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т. 606-670 ГК РФ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оставить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сравнительную таблиц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«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Виды аренды транспортных средств (с экипажем и без экипажа)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Составить договор аренды по практической ситуац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                      </a:t>
            </a:r>
            <a:r>
              <a:rPr b="0" lang="en-US" sz="4800" spc="-1" strike="noStrike">
                <a:solidFill>
                  <a:srgbClr val="006666"/>
                </a:solidFill>
                <a:latin typeface="Arial"/>
              </a:rPr>
              <a:t>1.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Понятие, элементы договора аренды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66"/>
                </a:solidFill>
                <a:latin typeface="Arial"/>
              </a:rPr>
              <a:t>Практическая ситуация для составления договора аренды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827000"/>
            <a:ext cx="82152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ражданин Иванов передал в пользование гражданину Петрову рояль сроком на десять лет на следующих условиях: рояль по-прежнему остает­ся дома у Иванова, а Петров вправе один раз в неделю, по четвергам, в 16.00 приходить в Петрову и играть на рояле в течение двух часов. При этом в качестве платы за пользование выступало угощение, которое Пет­ров должен был всякий раз приносить с собой. Соответствующая догово­ренность была закреплена в письменной форме. Через два года Иванов и Петров поссорились, и первый отказался допускать второго к себе домой для пользования роялем. Тогда Петров предъявил к Иванову иск об ист­ребовании рояля, с тем чтобы получить возможность снова пользовать­ся и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Какое решение должен вынести суд? Изменится ли решение, если Петрова не допускает к роялю Сидоров, который приобрел квартиру Иванова вместе с роялем и прочей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 обстановкой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0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Самостоятельная работа по аренд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280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 u="sng">
                <a:solidFill>
                  <a:srgbClr val="000000"/>
                </a:solidFill>
                <a:uFillTx/>
                <a:latin typeface="Verdana"/>
              </a:rPr>
              <a:t>Вариант 1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1. Понятие, признаки, форма, существенные условия договора аренды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. Договор проката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 u="sng">
                <a:solidFill>
                  <a:srgbClr val="000000"/>
                </a:solidFill>
                <a:uFillTx/>
                <a:latin typeface="Verdana"/>
              </a:rPr>
              <a:t>Вариант 2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Содержание договора аренды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Аренда недвижимости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 u="sng">
                <a:solidFill>
                  <a:srgbClr val="000000"/>
                </a:solidFill>
                <a:uFillTx/>
                <a:latin typeface="Verdana"/>
              </a:rPr>
              <a:t>Вариант 3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Аренда транспортных средств без экипажа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Обязанности арендодателя по договору аренды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 u="sng">
                <a:solidFill>
                  <a:srgbClr val="000000"/>
                </a:solidFill>
                <a:uFillTx/>
                <a:latin typeface="Verdana"/>
              </a:rPr>
              <a:t>Вариант 4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Характеристика договора лизинга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Существенные условия договора аренды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 u="sng">
                <a:solidFill>
                  <a:srgbClr val="000000"/>
                </a:solidFill>
                <a:uFillTx/>
                <a:latin typeface="Verdana"/>
              </a:rPr>
              <a:t>Вариант 5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Аренда транспортных средств с экипажем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Обязанности арендатора по договору аренды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 u="sng">
                <a:solidFill>
                  <a:srgbClr val="000000"/>
                </a:solidFill>
                <a:uFillTx/>
                <a:latin typeface="Verdana"/>
              </a:rPr>
              <a:t>Вариант 6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Особенности договора проката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Аренда предприятий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99640" y="301320"/>
            <a:ext cx="77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6666"/>
                </a:solidFill>
                <a:uFillTx/>
                <a:latin typeface="Arial"/>
              </a:rPr>
              <a:t>Договор аренды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827360"/>
            <a:ext cx="792792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это соглашение, по которому арендодатель (наймодатель) обязуется предоставить арендатору (нанимателю) имущество за плату во временное владение и пользование или во временное пользование (ст.606 ГК РФ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6666"/>
                </a:solidFill>
                <a:uFillTx/>
                <a:latin typeface="Arial"/>
              </a:rPr>
              <a:t>Признаки договора: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640" y="1827360"/>
            <a:ext cx="792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Консенсуальный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Взаимный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Возмездный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В пользу участников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Имущественный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Взаимосогласованный, за исключением – прокат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6666"/>
                </a:solidFill>
                <a:uFillTx/>
                <a:latin typeface="Arial"/>
              </a:rPr>
              <a:t>Стороны договора: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1439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Times New Roman"/>
              </a:rPr>
              <a:t>АРЕНДАТОР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ЭТО СУБЪЕКТ, ПОЛУЧАЮЩИЙ ИМУЩЕСТВО ВО ВРЕМЕННОЕ ВЛАДЕНИЕ И ПОЛЬЗОВАНИЕ (ЛЮБОЙ СУБЪЕКТ ГРАЖДАНСКОГО ПРАВА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Times New Roman"/>
              </a:rPr>
              <a:t>АРЕНДОДАТЕЛЬ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СОБСТВЕННИК ИМУЩЕСТВА ИЛИ УПОЛНОМОЧЕННОЕ СОБСТВЕННИКОМ ЛИЦО НА СДАЧУ ИМУЩЕСТВА В АРЕНДУ ОТ СВОЕГО ИМЕНИ (ЛЮБОЙ СУБЪЕКТ ГРАЖДАНСКОГО ПРАВА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6666"/>
                </a:solidFill>
                <a:uFillTx/>
                <a:latin typeface="Arial"/>
              </a:rPr>
              <a:t>Форма договора: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8497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 соответствии со ст.609 ГК РФ договор аренды должен заключаться в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письменной форм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в следующих случаях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Если одна из сторон юридическое лицо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Если договор заключается на срок более одного год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Аренда недвижимости подлежит обязательной государственной регистрац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Существенные условия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208720" cy="46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Предмет договора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вещи, не изъятые из оборота; движимые и недвижимые, которые не теряют своих свойств в процессе их использования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Арендная плата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срок договора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могут быть названы в качестве существенных по желанию одной из сторон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1388880" y="2259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14:59:10Z</dcterms:created>
  <dc:creator>KIT</dc:creator>
  <dc:description/>
  <dc:language>en-US</dc:language>
  <cp:lastModifiedBy>USER</cp:lastModifiedBy>
  <dcterms:modified xsi:type="dcterms:W3CDTF">2012-02-23T10:25:27Z</dcterms:modified>
  <cp:revision>4</cp:revision>
  <dc:subject/>
  <dc:title>ДОГОВОР</dc:title>
</cp:coreProperties>
</file>