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355-6F5E-4BFB-8C5E-1506CBE5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B50-4C79-4FF8-ACF4-D962FE4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762-C233-4744-912A-7556EAAE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9DD-2F6C-4AD3-98F4-C08FAEBA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69ED-6624-4DC0-A0E6-1AEEB256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729-B46D-4FA6-8DB7-9E05BA8B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DAB7-9320-4B20-99F5-49DCF88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3B08-23D6-4642-A94F-E1AA2504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53DA-5A9A-4782-9F20-96FF8051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5E38-2DB3-4D31-9EBF-05BD5F59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44B-DC75-4C1C-840B-729AFA2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ECF-E511-48D5-BDF7-6E511AB3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28A-00A0-472F-B48E-B20D4F94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54C6-E0B5-4E68-81DD-ABE1A74F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C60-DFEA-4CAB-8DEE-4C8F9FC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50FF-1CC3-477B-A9DF-9F78444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D39E-2C24-4C59-AA88-558F8BDA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CF6-417E-4C47-BF92-0FD94CC6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AA1-13F0-4E3F-BDFC-058913B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0F5-2AB2-4086-9881-E629765C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9B5-798C-4647-A9C9-3F11EDE1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808-2106-4354-A493-E09F8609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69A-B183-49B5-B0D9-B9FBC19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A88-EAB4-4A2A-B391-5AEF36C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C8B5-7311-4970-A7C2-BACF7925BDB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F64E-8D84-4D12-AA88-84A28D327E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4520" y="849600"/>
            <a:ext cx="7292160" cy="226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новационные формы взаимодействия педагога-психолога с родителями через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тернет-ресурс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418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едагог-психолог ДО №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Якунина Ксения Александро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10" descr="Перейти на главную"/>
          <p:cNvPicPr/>
          <p:nvPr/>
        </p:nvPicPr>
        <p:blipFill>
          <a:blip r:embed="rId1"/>
          <a:stretch/>
        </p:blipFill>
        <p:spPr>
          <a:xfrm>
            <a:off x="3124080" y="3429000"/>
            <a:ext cx="13716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ование информационно-коммуникационных технологий в воспитательно-образовательном процессе – это одна из самых новых проблем в отечественной дошкольной педагогике, так как наука и техника не стоят на месте. А педагог может и должен использовать новые технологии в работе во всех сферах своей деятельности, быть всегда в курсе педагогических новинок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ование ИКТ позволяет средствами мультимедиа, в наиболее доступной и привлекательной, игровой форме достигнуть нового качества знаний детей, информированности родителей, профессионального мастерства педагога. Новизна инновационного опыта заключается в том, что направление по использованию ИКТ ещё только начинает внедряться в дошкольное образование. Это связано с тем, что для этого требуется хорошая материально-техническая база и достаточный уровень ИКТ компетентности педагог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формационно-коммуникативные  технологии в образован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егодня применение информационно-коммуникационных технологий в образовательном процессе – это одно из приоритетных направлений модернизации образования, позволяющее не только повысить качество образования, но и достичь нового уровня отношений между участниками учебного процесса на всех этапах педагогическ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адиционные фор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диционные формы, работы с родителями при все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х положительных характеристиках, име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бъективные трудности эт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граниченное количество времени у родителей, как для посещения родительских собраний, так и посещения консультаций в детском сад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возможностей для своевременного предоставления необходимой информации родител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48520" y="6202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формы использования ИК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бор иллюстративного для  оформления родительских уголков, группы, информационного материала для оформления стендов, папок-передвижек, (сканирование, Интернет; принтер, презентац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презентаций в программе Рower Рoint для повышения педагогической компетенции у родителей в процессе проведения родительских собраний. Причем презентация может стать своеобразным планом занятия или мероприятия, его логической структурой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формы использования ИК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Интернета в педагогической деятельности, с целью информационного и научно-методического сопровождения образовательного процесса в дошкольном учрежд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медиатек, которые представляют интерес, как для педагогов, так и для родителе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электронной почты, ведение сайта ДО с ссылками на группы. Особенно важно такое общение с родителями детей, находящихся дома по причине болезни. Им необходимо быть в курсе садовской жизни, образовательной деятель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пользование электронной поч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Современные родители мало стали обращать внимание на информационные папки-передвижки в группах, редко замечают объявления, пока воспитатель не обратит их внимание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Несмотря на свою занятость, проверить электронную почту всегда найдется врем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Такой вид общения может стать для родителей источником информации учебного, методического или воспитательного характера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6055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пользование электронной поч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23619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 страниц электронной почты родители могут получить оперативную информацию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 методах сбережения здоровья дете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х безопасности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лах поведения ребенка в семье и в обществе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езные советы по обучению и воспитанию дошкольников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отоотчетов с мероприяти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лучение информации  группы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писании заняти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 проводимых мероприятиях, праздниках, развлечения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многое другое полезное и интересно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язательным является наличие контактов с адресами электронной почты всех родителей. Сбор данных можно включить в анкету для родителей, где они сразу указывают адрес своей эл.почт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исание работы с эл. почто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кетирование родителей – сбор адресов эл.почты, интересующие темы для консультаций, памят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здание в интернете почтового ящика (придумать простое имя и пароль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ставление списка контактов на почтовом ящ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формление почтового ящика (внешний ви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ная рассылка всем родителям пись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грот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зент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сылки на полезные компьютерные игры и д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11:08:42Z</dcterms:created>
  <dc:creator>Люба</dc:creator>
  <dc:description/>
  <dc:language>en-US</dc:language>
  <cp:lastModifiedBy>2072</cp:lastModifiedBy>
  <dcterms:modified xsi:type="dcterms:W3CDTF">2016-04-13T07:10:06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