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84C0-77B1-4459-8060-F47F3C86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49D5-FECB-410C-80D8-02EB2F64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8FE4-6B99-42DC-9C4E-78A18995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CA82-04CE-4E12-ABFA-4FAD07F2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BF53-796C-4098-92A1-6EB04779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9692-FD49-47EE-ACD8-1390AF97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7F4D-B0FB-427F-A44A-1676A12E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CE2A-56AC-4F0B-AEC1-B09B715D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A90E-AC50-47C3-92B8-F9CF5DA2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75D1-ABE2-442D-A8DB-FB79DD55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1F9B-92AB-4881-B99D-E05CC9FD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C721-0787-4602-BD33-308662EA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DE9C-AD68-4AD6-9459-8DA54113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3A4A-D3FD-4575-B41A-3A09BE34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E190-9918-434C-8C24-8EB7274E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59C5-71AA-4AE0-88A1-E1D8EB88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2AC0-6FA1-4AE0-A5F9-3747EDA7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96B2-E672-415F-8767-688EA946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CEC1-D391-4A1F-8D9D-E5A0DD45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BBC8-476E-4671-893D-5766D177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8D1F-898F-4D65-90A3-0D6A9499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B5AB-6FDA-4871-B789-CBFFA1B7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9BF8-3C08-408F-813E-B0793A82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C70-481E-4281-B538-9CC0C5AC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E5EB-17CD-40CB-9495-542CE51E07D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706C-06FD-46D3-BF9E-4BF2A988613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685800" y="189000"/>
            <a:ext cx="7772400" cy="6480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нтуиция и создание гипотез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оже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уждение, догад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щё не доказанная и                                          подтверждённая опы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уи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зн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ристально, внимательно смотреть) знание возникающее без осознания путей и условий его получения. Безотчётное проникновение в саму суть предмета, явления, подсказывающее правильное его поним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ыт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ипотеза (проверка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во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5114880" cy="3848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5796000" y="3689280"/>
            <a:ext cx="31496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жузеппе Тартин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33"/>
                </a:solidFill>
                <a:latin typeface="Times New Roman"/>
              </a:rPr>
              <a:t>Решение: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учиться выдвигать, доказывать, проверять гипотез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22:36Z</dcterms:created>
  <dc:creator>1</dc:creator>
  <dc:description/>
  <dc:language>en-US</dc:language>
  <cp:lastModifiedBy>Света</cp:lastModifiedBy>
  <dcterms:modified xsi:type="dcterms:W3CDTF">2016-11-22T04:25:11Z</dcterms:modified>
  <cp:revision>4</cp:revision>
  <dc:subject/>
  <dc:title>Слайд 1</dc:title>
</cp:coreProperties>
</file>