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F3C-403B-4C18-AFE8-B7E6C260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5E2-D58E-4338-A789-7286A6E4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685-52D8-470B-AFBA-BC50B9AF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20E-6BDC-46EB-B19E-0D25035A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9C3-7EF1-4F60-83BF-D63CC3BB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47E-4F12-4036-B61B-BD70823D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ADB-7A13-48C9-83D5-F68DE749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D2B-1CA7-4B0F-BCC5-D232E33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D5C-166B-4238-88BA-DEB7EB78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28A-54DA-4C00-A751-7E1A0E2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06C-3AFE-419E-BC60-80B7A34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A92-3FE4-4961-8796-3E81FB6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615-FEE7-43D1-B6C1-088C4AABC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53735"/>
                </a:solidFill>
                <a:latin typeface="Calibri"/>
              </a:rPr>
              <a:t>Необычные </a:t>
            </a:r>
            <a:br>
              <a:rPr sz="6000"/>
            </a:br>
            <a:r>
              <a:rPr b="1" lang="ru-RU" sz="6000" spc="-1" strike="noStrike">
                <a:solidFill>
                  <a:srgbClr val="953735"/>
                </a:solidFill>
                <a:latin typeface="Calibri"/>
              </a:rPr>
              <a:t>корни растен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Ходульные </a:t>
            </a: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кор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Сергей\Desktop\1088114.jpg"/>
          <p:cNvPicPr/>
          <p:nvPr/>
        </p:nvPicPr>
        <p:blipFill>
          <a:blip r:embed="rId1"/>
          <a:stretch/>
        </p:blipFill>
        <p:spPr>
          <a:xfrm>
            <a:off x="1238400" y="1992240"/>
            <a:ext cx="6667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Махабодх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Сергей\Desktop\83701491_banyan.jpg"/>
          <p:cNvPicPr/>
          <p:nvPr/>
        </p:nvPicPr>
        <p:blipFill>
          <a:blip r:embed="rId1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воздушных корней Банья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Сергей\Desktop\Ficus_benghalensis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Досковидные кор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Сергей\Desktop\87383122_3433000_r54.jpg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Секвой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Сергей\Desktop\114444848643337_informsklad_ru.jpg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Дыхательные корни и корни-ходул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Users\Сергей\Desktop\Dyhatelnye-korni.jpg"/>
          <p:cNvPicPr/>
          <p:nvPr/>
        </p:nvPicPr>
        <p:blipFill>
          <a:blip r:embed="rId1"/>
          <a:stretch/>
        </p:blipFill>
        <p:spPr>
          <a:xfrm>
            <a:off x="2190600" y="2239920"/>
            <a:ext cx="4762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ходульные кор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Сергей\Desktop\Pandanus.jpg"/>
          <p:cNvPicPr/>
          <p:nvPr/>
        </p:nvPicPr>
        <p:blipFill>
          <a:blip r:embed="rId1"/>
          <a:stretch/>
        </p:blipFill>
        <p:spPr>
          <a:xfrm>
            <a:off x="914400" y="1295280"/>
            <a:ext cx="711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Ходульные </a:t>
            </a: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кор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Сергей\Desktop\root2.jpg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Воздушные корни монст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Сергей\Desktop\izobrazhenie_1697-1.jpg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9T12:06:04Z</dcterms:created>
  <dc:creator>Сергей</dc:creator>
  <dc:description/>
  <dc:language>en-US</dc:language>
  <cp:lastModifiedBy>bibliotekar</cp:lastModifiedBy>
  <dcterms:modified xsi:type="dcterms:W3CDTF">2016-11-22T05:27:17Z</dcterms:modified>
  <cp:revision>11</cp:revision>
  <dc:subject/>
  <dc:title>Слайд 1</dc:title>
</cp:coreProperties>
</file>