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792-19B6-423B-90F3-CB006D6E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497-083B-4913-8105-70A7C315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45C-89ED-4E2D-9070-4013F20C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B80-9055-4E11-BBD5-D461215F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34A-72C3-4DEA-A46B-655B9BE7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51D-CAC4-4201-905D-202490C3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82D-36C6-4123-8923-34DC7F7F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572-0A99-4664-BC8B-143C33C6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E96-635C-44E3-B7F5-85484C66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DB1-FE35-439F-A4B7-44F60475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18F-DE99-4943-AB1D-3C8D069C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450-C596-4E27-9075-B2A407B1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4AB4-05E4-4FAB-B6C2-713EAB18A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Лесные пожа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1785600"/>
            <a:ext cx="7885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полнила: Волчкова Ал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а класс, 11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У СОШ № 4 г.Ртищ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уководитель: Грищенко Ин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286000" y="357120"/>
            <a:ext cx="4572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ар молнии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сушливая погода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images.jpg"/>
          <p:cNvPicPr/>
          <p:nvPr/>
        </p:nvPicPr>
        <p:blipFill>
          <a:blip r:embed="rId1"/>
          <a:stretch/>
        </p:blipFill>
        <p:spPr>
          <a:xfrm>
            <a:off x="3429000" y="1193760"/>
            <a:ext cx="5041800" cy="28926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image152886525.jpg"/>
          <p:cNvPicPr/>
          <p:nvPr/>
        </p:nvPicPr>
        <p:blipFill>
          <a:blip r:embed="rId2"/>
          <a:stretch/>
        </p:blipFill>
        <p:spPr>
          <a:xfrm>
            <a:off x="500040" y="4214880"/>
            <a:ext cx="50007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0920" y="189000"/>
            <a:ext cx="586872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 самые главные виновники пожара 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                   – лю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u2"/>
          <p:cNvPicPr/>
          <p:nvPr/>
        </p:nvPicPr>
        <p:blipFill>
          <a:blip r:embed="rId1"/>
          <a:stretch/>
        </p:blipFill>
        <p:spPr>
          <a:xfrm>
            <a:off x="250920" y="1989000"/>
            <a:ext cx="2881080" cy="208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37"/>
          <p:cNvPicPr/>
          <p:nvPr/>
        </p:nvPicPr>
        <p:blipFill>
          <a:blip r:embed="rId2"/>
          <a:stretch/>
        </p:blipFill>
        <p:spPr>
          <a:xfrm>
            <a:off x="5435640" y="227664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21"/>
          <p:cNvPicPr/>
          <p:nvPr/>
        </p:nvPicPr>
        <p:blipFill>
          <a:blip r:embed="rId3"/>
          <a:stretch/>
        </p:blipFill>
        <p:spPr>
          <a:xfrm>
            <a:off x="3492360" y="4508640"/>
            <a:ext cx="30243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Как вести себя при пожар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жегодно в России во время пожаров гибнет в среднем 20000 человек. Печальная статистика, если учесть, что эти смерти происходят в большинстве своём от невнимательности, паники и незнания элементарных правил поведения при возгорании. Огонь – явление нужное и полезное, но необходимо уметь держать его в уз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ежде чем рассмотреть поведение при пожаре, крайне важно запомнить несколько пунктов, касающихся особенностей возгор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24000" y="326880"/>
            <a:ext cx="8135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. Никогда не паникуйте, вам это не поможет, а только приведёт к трагическим последствиям. Всегда есть «лишние» десять секунд, чтобы остановиться и подум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Первым делом звоните в службу спасения – за вас это просто может никто не сделать. Проследите, чтобы кто-нибудь встретил пожарный расчёт и помог ему быстрее добраться до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 Для того, чтобы расти и усиливаться, огню нужен кислород, желательно в форме ветра – не оставляйте сквозняков, закрывайте двери и окна. Не повторяйте бездумные ошибки многих людей: не следует тушить небольшое возгорание путём задувания – пламя может вырасти в несколько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Большинство людей погибает не в огне, а задохнувшись угарным дымом. При пожаре сразу же приготовьте намоченную тряпку ,через которую, возможно, придётся дышать. В задымлённом помещении передвигайтесь как можно ниже к полу – дым всегда стремится навер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2" descr="dbf0fd64d96d9a3883ae02d47f3a94d7.jpg"/>
          <p:cNvPicPr/>
          <p:nvPr/>
        </p:nvPicPr>
        <p:blipFill>
          <a:blip r:embed="rId2"/>
          <a:stretch/>
        </p:blipFill>
        <p:spPr>
          <a:xfrm>
            <a:off x="1728720" y="1285920"/>
            <a:ext cx="56865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Противопожарные средств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-181080" y="1557360"/>
            <a:ext cx="74520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 ним относятся:  гидранты, огнетушители, средства покрытия огня,песок и другие подручные материалы.     Наиболее традиционным  средством  для  тушения  пожаров  является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гидрант,  который устанавливается внутри всех общественных зданий,  з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сключением  складов,  где  находятся  материалы,  реагирующие с водой(бензин, солярка).  Он должен находиться  в  легкодоступных  местах  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сегда   быть  готовым  к  использованию.  Принцип  действия  гидрант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лючается в подаче больших объемов воды, предназначенной для тушения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жаров,  когда  горят  обычные  материалы  (дерево,  солома,  бумага,ткани)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1187280" y="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конодатель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16000" y="1530360"/>
            <a:ext cx="892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132000" y="0"/>
            <a:ext cx="5365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ff6600"/>
                </a:solidFill>
                <a:uFillTx/>
                <a:latin typeface="Arial"/>
              </a:rPr>
              <a:t>«</a:t>
            </a:r>
            <a:r>
              <a:rPr b="1" i="1" lang="ru-RU" sz="6000" spc="-1" strike="noStrike" u="sng">
                <a:solidFill>
                  <a:srgbClr val="ff6600"/>
                </a:solidFill>
                <a:uFillTx/>
                <a:latin typeface="Arial"/>
              </a:rPr>
              <a:t>Пусть огонь в сердцах пылает, а пожаров не            бывает!!!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fire_meaney"/>
          <p:cNvPicPr/>
          <p:nvPr/>
        </p:nvPicPr>
        <p:blipFill>
          <a:blip r:embed="rId1"/>
          <a:stretch/>
        </p:blipFill>
        <p:spPr>
          <a:xfrm>
            <a:off x="179280" y="476280"/>
            <a:ext cx="35640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тер гонит тучу дыма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но грузного кон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лед за ним неумолимо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тало зарево огня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лько в редкие просвет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но-бурых топол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дно розовые свет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зумевших поле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рко вспыхивает маис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острым запахом смолы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, шипя и разгораясь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ламя падают стволы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Пожар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...страшно слышать это слово…</a:t>
            </a:r>
            <a:br>
              <a:rPr sz="1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549360"/>
            <a:ext cx="8748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жары приносят большие убытки,  а  часто  ставят  под  угрозу  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человеческую  жизнь.  Пожар  -  это  огонь,  вышедший  из-под контрол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человека.  Для того, чтобы пожар начался, должны совпасть три условия:наличие  горючего материала,  необходимого количества  кислорода  дл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держания  горения  и  зажигание  от  источника  тепла.   Достаточно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сключить одно из этих условий и возгорание не состоится.     Пожар начинается  тогда,  когда  температура возгорания материал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кажется ниже  температуры  источника  тепла.  Среди  наиболее  частых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чин возникновения пожара можно отметить следующие: невнимате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человека, дефекты электрических установок или нагревательных приборов,самовозгорание,  молнии,  большое число электроприборов, работающих от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дной розетки и т.д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лучаются и умышленные пожары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4211640" y="0"/>
            <a:ext cx="493236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143080" y="0"/>
            <a:ext cx="657216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сной пожар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ихийное, неконтролируемое распространение огня по лесным площадям. Причины возникновения пожаров в лесу принято делить на естественные и антропогенные. Наиболее распространенными естественными причинами больших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есных пожар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на Земле обычно являются молнии. Размеры пожаров делают возможным их визуальное наблюдение даже из косм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олодых лесах, в которых много зелени, вероятность возгорания от молнии существенно ниже, чем в лесах возрастных, где много сухих и больных деревьев. Таким образом в природе ещё задолго до человека существовало своеобразное равновесие. Экологическая роль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есных пожар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заключалась в естественном обновлении л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егодняшний день доля естественных пожаров (от молний) составляет около 7%-8%, то есть возникновение большей части лесных пожаров связано с деятельностью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14280" y="0"/>
            <a:ext cx="52866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чины лесных пожа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0" y="501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бывчивость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стер в ле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28760" y="57168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скры из выхлопных труб автотранспорта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1287138757_kogda_zavodish_mashinu_idet_dym_iz_vyxlopnoj_truby.jpg"/>
          <p:cNvPicPr/>
          <p:nvPr/>
        </p:nvPicPr>
        <p:blipFill>
          <a:blip r:embed="rId1"/>
          <a:stretch/>
        </p:blipFill>
        <p:spPr>
          <a:xfrm>
            <a:off x="4143240" y="1428840"/>
            <a:ext cx="4476960" cy="3000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1370532150_iz-vyhlopnoy-truby.jpg"/>
          <p:cNvPicPr/>
          <p:nvPr/>
        </p:nvPicPr>
        <p:blipFill>
          <a:blip r:embed="rId2"/>
          <a:stretch/>
        </p:blipFill>
        <p:spPr>
          <a:xfrm>
            <a:off x="285840" y="3071880"/>
            <a:ext cx="3857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214280" y="428760"/>
            <a:ext cx="6301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6" descr="b9e12a9e7c.jp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4380480" y="50004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ая шалость с огнем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286000" y="2858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дар молнии!!!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49580507012308ab6fed8799865cb513.jpg"/>
          <p:cNvPicPr/>
          <p:nvPr/>
        </p:nvPicPr>
        <p:blipFill>
          <a:blip r:embed="rId1"/>
          <a:stretch/>
        </p:blipFill>
        <p:spPr>
          <a:xfrm>
            <a:off x="571680" y="1000080"/>
            <a:ext cx="82864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1:34:00Z</dcterms:created>
  <dc:creator>l</dc:creator>
  <dc:description/>
  <dc:language>en-US</dc:language>
  <cp:lastModifiedBy>Пользователь</cp:lastModifiedBy>
  <dcterms:modified xsi:type="dcterms:W3CDTF">2016-11-22T14:07:02Z</dcterms:modified>
  <cp:revision>14</cp:revision>
  <dc:subject/>
  <dc:title>Презентация по обж на тему: пожары</dc:title>
</cp:coreProperties>
</file>