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4924-868B-4638-925B-9E41C963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D31A-D1BD-478B-AC2B-9D6C7331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7C3F-AD95-4DE9-9F90-7DC45044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03FC-6E05-45E0-998B-148FC96C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C83F-8FE2-42A4-AC09-942920F7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255A-B4D9-4418-AE22-26EF1DA1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F524-6736-4515-A5E2-080C4F54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F4EF-DCF9-4EDB-9F31-C1BB5A44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1606-FDD3-4E82-8D92-B9DB79F0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D71C-8A64-4F4C-A440-65D84102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B8BD-F943-4035-88CD-618DFE40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352C-7CAD-4FDF-9535-5585BF6D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4486-80F1-4FD8-9377-A4E90E59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BA11-96EA-4E63-9004-4F822264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2376-49F9-4BF7-8093-98FD6015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A8E2-F0C0-49A4-8E7D-CBFA98B9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115B-0752-4673-BBB3-061F56F7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3550-119E-446C-B675-B3D22A7A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8DD3-1E08-4CFF-B284-4DC05C2A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A9FF-89A5-434B-82E7-D44138A5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9EDD-A8ED-4AD6-AFD3-9CE286E3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5900-3603-4666-B90E-CFB1BD78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D537-ED03-459C-B9B0-F477005C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FC6C-33D6-48A0-AFE5-82046406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3E6E-9FA1-41CA-8AB6-8CD177BC9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3B79-4076-4458-A608-C6F3EBA2E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УНИЦИПАЛЬНАЯ СЛУЖ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итерии </a:t>
            </a:r>
            <a:r>
              <a:rPr b="1" i="1" lang="en-US" sz="2400" spc="-1" strike="noStrike">
                <a:solidFill>
                  <a:srgbClr val="666699"/>
                </a:solidFill>
                <a:latin typeface="Arial"/>
              </a:rPr>
              <a:t>квалификационных требований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предъявляемых к муниципальным служа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ровень профессиональн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аж и опыт работы по специа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ровень знания Конституции РФ, действующего законода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ием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униципальну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лужбу осуществляетс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 порядке назна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конкурсной основ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) конкурс доку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) конкурс испы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ля лиц, впервые поступающих на муниципальную службу, устанавливается </a:t>
            </a:r>
            <a:r>
              <a:rPr b="1" i="1" lang="en-US" sz="2400" spc="-1" strike="noStrike">
                <a:solidFill>
                  <a:srgbClr val="666699"/>
                </a:solidFill>
                <a:latin typeface="Arial"/>
              </a:rPr>
              <a:t>испытательный с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граничения, связанные с прохождением муниципальной службы (СТ.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ФЗ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ражданин не может быть принят на муниципальную службу, а муниципальный служащий не может находиться на муниципальной службе в случа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изнания его недееспособным или ограниченно дееспособным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суждения его к наказанию по приговору суда, вступившему в законную сил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тказа от прохождения процедуры оформления допуска к сведениям, составляющим государственную и иную охраняемую федеральными законами тайн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личия заболевания, препятствующего поступлению на муниципальную службу или ее прохождению и подтвержденного заключением медицинского учрежд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лизкого родства или свойства (родители, супруги, дети, братья, сестры, а также братья, сестры, родители и дети супругов) с муниципальным служащим, если замещение должности муниципальной службы связано с непосредственной подчиненностью или подконтрольностью одного из них друго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кращения гражданства Российской Федерации, прекращения гражданства иностранного государства - участника международного договора Российской Федерации, в соответствии с которым иностранный гражданин имеет право находиться на муниципальной служб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дставления подложных документов или заведомо ложных сведений при поступлении на муниципальную служб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представления  сведений или представления заведомо ложных сведений о доходах, об имуществе и обязательствах имущественного харак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жданин не может быть принят на муниципальную службу после достижения им возраста 65 лет - предельного возраста, установленного для замещения должности муниципальной служ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арантии для муниципальных служащих</a:t>
            </a:r>
            <a:br>
              <a:rPr sz="28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 ст.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Ф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ловия работы, обеспечивающие исполнение им должностных обязан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нежное содержание и иные выпл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жегодный оплачиваемый отпус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дицинское обслуживание его и членов его семьи, в том числе после выхода на пенс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за выслугу лет и пенсионное обеспечение членов семьи муниципального служащего в случае его смерти, наступившей в связи с исполнением им должностных обязан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язательное государственное страх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язательное государственно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страх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щита его и членов его семьи в порядке, установленном законами, от насилия, угроз, других неправомерных действий в связи с исполнением им должностных обяза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лжность муниципальной службы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-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8373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олжность в органе местного самоуправления, которые  образуются в соответствии с уставом МО, с установленным кругом обязанностей по  обеспечению исполнения полномочий данного органа и ответственностью за исполнение этих обяза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иды муниципальных должн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Выборные муниципальные должности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которые замещаю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В результате муниципальных выб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путаты, выборные должностные лица МС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) На основании решений представительного органа или иного выборного органа МС в отношении лиц, избранных в состав указанных органов в результате муниципальных выборов 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редседатель ПОМ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      </a:t>
            </a: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Иные муниципальные должности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замещаемые путем заключения трудового договора- должности муниципальной служ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ттестация муниципальных служа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водится в целях стимулирования роста профессионализма, повышения ответственности, исполнительской дисциплины муниципальных служащих, предупреждения коррупции в системе ОМ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ттестации подлежат муниципальные служащие, замещающие в ОМС младшие, старшие, ведущие, главные и высшие муниципальные долж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ттестация проводится один раз в тр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 результатам аттестации руководитель ОМС принимает реш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о повышении муниципального служащего в долж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о присвоении очередного квалификационного разря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об изменении надбавки к должностному окладу за особые условия служб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о включении муниципального служащего в резерв на выдвижение на вышестоящую дол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случае признания муниципального служащего не соответствующим замещаемой должности он направляется на повышение квалификации или  переподготовку, либо с его согласия переводится на другую муниципальную дол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нятие муниципальной службы, ее принци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авовой статус муниципального служа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ием на муниципальную служ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граничения, связанные с прохождением муниципальной служ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арантии для муниципальных служащи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униципальные должности.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униципальная служба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фессиональная деятельность на постоянной основе на муниципальной  должности, которая не является выбо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ст.2 ФЗ «Об основах муниципальной службы в РФ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этому депутат, член выборного органа МС, выборное должностное лицо муниципальным служащим не яв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нципы муниципальной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ы функционирования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муниципальной служб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ерховенство Конституции РФ, ФЗ и законов субъек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иоритет прав и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амостоятельность ОМС в пределах их полномоч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офессионализм и компетентность муниципальных служа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тветственность муниципальных служащих за неисполнение или ненадлежащее исполнение своих должностных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авовая и социальная защищенность муниципальных служа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табильность муниципальной служ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заимодействие с общественными объединениями и гражда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92720" y="1197000"/>
            <a:ext cx="3456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ы организации муниципальной служ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вный доступ граждан к муниципальной служ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динство требований, предъявляемых к муниципальной служ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непартийность муниципальной служ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ступность информации о деятельности муниципальных служа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ст.5 ФЗ «Об основах муниципальной службы в РФ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вовой статус муниципального служа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6699"/>
                </a:solidFill>
                <a:latin typeface="Arial"/>
              </a:rPr>
              <a:t>Муниципальным служащим являетс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гражданин РФ достигший возраста 18 лет, исполняющий в порядке, определенном уставом МО в соответствии с ФЗ и законами субъектов РФ, обязанности по муниципальной должности муниципальной службы за денежное вознаграждение, выплачиваем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 счет местного бюджет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ст.7 ФЗ «Об основах муниципальной службы в РФ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Не являются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муниципальными служащи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путаты выборного ОМ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борное должностное лицо МС(ст.2 ФЗ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ца, не замещающие муниципальные должности и исполняющие обязанности по техническому обеспечению деятельности ОМС (ст.7 Ф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ава муниципальных служащ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получение в установленном порядке информации и материалов, необходимых для исполнения должностных обязаннос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посещение предприятий, учреждений, организаций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принятие решений и участие в их подготов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внесение предложений по совершенствованию муниципальной служб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ознакомление с документами (должностные инструкци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обеспечение организационно-технических условий, необходимых для осуществления должностных обязаннос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ознакомление со всеми материалами своего личного де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требовать проведения служебного расследования для опровержения сведений, порочащих его честь и достоинст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продвижение по служб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повышение квалификации, переподготовку за счет средств местного бюдж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участие по своей инициативе в конкурсе на замещение вакантной должности муниципальной служб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выхода в отстав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обращение к вышестоящим должностным лицам ОМС для разрешения споров, связанных с прохождением муниципальной служб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аво на объединение в профессиональные союзы(ассоци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язанности муниципальных служа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беспечение основ конституционного строя, соблюдение Конституции РФ, ФЗ, законов субъектов РФ, устава и иных НП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обросовестное исполнение должностных обязаннос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существление своих функций в пределах предоставленных ему прав и установленных должностных обязаннос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сполнение приказов, распоряжений и указаний вышестоящих руков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воевременное рассмотрение в пределах своих полномочий обращений граждан и общественных объедин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ддержание уровня квалификации, достаточного для исполнения своих должностных обязаннос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облюдение установленных в органе МС правил внутреннего распоряд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Хранение государственной и иной охраняемой законом тай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ережное отношение к муниципальной собств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едоставление в налоговые органы сведений о своих доходах и имущест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облюдение ограничений, установленных для муниципального служаще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ередача в доверительное управление под гарантию МО на время прохождения муниципальной службы находящиеся в его собственности доли(пакета акций) в уставном капитале коммерческих организ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ем на муниципальную служ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ать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ФЗ устанавливает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«Граждане РФ имеют равный доступ к муниципальной службе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муниципальную службу вправе поступать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раждане, достигшие возраста 18 лет, владеющие государственны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языком Российской Федераци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 соответствующие квалификационным требованиям, установленным  для замещения должностей муниципальной службы, при отсутствии обстоятельств, указанных в качестве ограничений, связанных с муниципальной служ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2:59:28Z</dcterms:created>
  <dc:creator>general</dc:creator>
  <dc:description/>
  <dc:language>en-US</dc:language>
  <cp:lastModifiedBy>general</cp:lastModifiedBy>
  <dcterms:modified xsi:type="dcterms:W3CDTF">2007-08-08T05:59:31Z</dcterms:modified>
  <cp:revision>9</cp:revision>
  <dc:subject/>
  <dc:title>МУНИЦИПАЛЬНАЯ СЛУЖБА</dc:title>
</cp:coreProperties>
</file>