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AEF-456B-452A-A540-0BE504D4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3B5-B30C-4806-8981-4DDC65B3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2EBB-8685-4370-ADF2-5D047A6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F8EF3-1579-494A-A245-9225156D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C341D-3FE9-49ED-8CF9-D171B903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2ECF3-3858-4B5D-8F33-559A0E3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4FEEE-3A56-465E-8E57-1D8171C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08049-1FFE-4C27-ABD6-4A776B6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E6A62-5405-43AD-9B26-FB7B7D4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6BFD6-98C8-4D7C-83F9-83A92267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696DE-0284-4841-A160-25C62116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15316-6048-4EE1-9ADD-6B3E8E61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F55-FE12-4067-B385-1B839775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9183F-1299-4120-9BDE-E28D7B5F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4A72-17A3-40C5-A98F-AA000C39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1436F-02E8-4FC1-9A45-5D993FFA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C1059-8923-4D13-9FDF-4196392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6F213-1E51-40EB-BFB3-594802F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F56D3-20B3-4A28-A65A-4484E10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2F2FC-471C-40E4-98C1-C1BDB3F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E0B28-ABA3-4E7D-A067-27F2252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B3D93-8B7E-45BD-A56A-96E1C3D7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9D564-6EF1-45C5-819F-5E75B391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ED4-5FE3-45CD-B292-AC2118BA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5B159-161C-44F2-8801-73404CA7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1893-EDA3-49CB-9B7B-D3C44FDE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93AA-DE33-4459-ADC9-24A30DD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E85-BC4D-4FB8-823A-90A2468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DC9-959E-4BBE-8C7E-5CB5132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43F7-512F-4576-8CFF-C59E8A8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1E4-0295-4ACE-B15C-CB4B726A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18DF-A51D-4894-A5FF-FDBC1A9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9E3-E04E-4094-8DAD-A9E83349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FEA6-C5A2-464C-8E2B-DC3CBFB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01ED-C42C-4219-8B9B-8BD0855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315A-DAAE-417F-AD62-F4D0A877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CE5-2484-45DA-9AAF-F5F0A011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FAB-5939-4CDA-AF6C-AFF7FCF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4D4AA-A3DC-4B39-B94A-620E86B3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E6F8F-F3B2-4FCE-97C8-6FE6B483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937E5-09A9-4B71-8D8F-BABE0F0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6EFA1-9DDB-41DC-8D35-DE06172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410E0-7132-4DF0-BE64-5FEB9B04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67D-F2E6-4238-9249-3676CCD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3EF26-CD54-411D-9126-81F73162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3C24D-39D0-4D05-8553-8B9C67C2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6EC9C-EA8C-4806-A285-4864E47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2BDD4-7DD2-4154-A9FB-AD51C38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F533F-4722-4A4F-98EA-85D275B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04FDC-3A8F-4649-AA15-4AC08656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CE459-D33A-46FE-8072-1F4ED73A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4014-7F76-47F4-9F0D-01D5A36F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6EE0-DB42-43B0-A3CB-5229066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535B-5BE2-4A8F-A69B-0749040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BB3-F759-463F-B260-17AF4E8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63B1-1564-431E-94CC-F55F7967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6DC8-5A44-4C97-A44C-5AEBD3D9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9486-9494-4D31-AFFF-68123116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69CD-98D3-42BC-A4BF-19FEA4B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87BD-BAB4-482D-9BB9-506CCEDE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9302-6B15-4567-8777-E28FC6B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775F-A7B6-4226-B051-86667AE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99D7-030C-4CE5-B6C5-C4895341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1EB6F-409E-4EDE-974A-EDBBC0D1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25C7D-5330-4306-9FA6-5908DB8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E94-E3F6-498D-90EB-7E244AA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8BD1-DF42-456D-84DF-070D6BD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7CDD-5FB7-44E8-A07A-AEB9499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DF17E-C711-4F4C-AD2A-9F31A4A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B368-68A5-4965-B01E-D926DC70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B57A-0163-40FF-B72F-74F95B8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6F310-DFD5-4374-B6BC-0F15E64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2E84-B0E6-4BFC-A921-6D0FC02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AEA7-6E58-4E2E-8374-C44437E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65652-A577-4AF9-990E-00353A74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91B9-1E4E-4982-8269-DC2826C6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EEB-651A-4681-8281-0B272F2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BC2E-A062-4B17-8A49-DD84550D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E8D3-7433-4808-BBE6-035A49EB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473E-C6E4-4682-810A-528B59CC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1731-14A0-48F9-B33D-BB43E071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4F54-C903-42D6-9F4F-03FFBD6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8E6F3-FEBE-41B5-93FD-8483CEE7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FBDB-CAC1-4493-A289-F4F918B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617CF-E7CE-4E4D-BD42-97A080F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0631-2E2E-4A3F-A92F-23C3026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F553-3586-443C-9E89-B5B1290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CDB-0481-40D3-A1A5-A1C4AD8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E6BF-C0CE-4794-BDE8-90817454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740D5-FAA2-400E-9CBA-0E4C4F03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43F43-26B7-42FF-A835-17A4CDA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9322-C22E-4C35-834B-E4B2F4B1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4BDD5-24FE-40EB-983C-FBDC5E5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E7E1-4F49-418A-B2AA-702ED73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5526-538B-433D-BF85-0AE9EFF5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4AC6-B66E-42A6-BF62-407BBD9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F940-7C4A-42AA-8F42-CEB87561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05536-282C-474A-9F89-C6289B7A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9EF-D775-426F-A40F-6809A8AD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E046-C980-4F44-94F3-44835AA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7BC9-6AA7-4C86-A30B-F67C862B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C0DC-B67E-4FE7-8F6B-7FE76AF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0F5A-7115-41CE-91CD-C146838C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14CF-49B7-4C78-BF1F-29085FF9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97AE-1527-4967-B205-03A3389A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E6EF-4B00-4A25-8F72-6911382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B751-8324-4AF6-9F24-B40E02B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8E7B-4EEA-42D5-AA07-E3FB7421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788C-BABC-4896-B269-E018C7B2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62D-6A67-47E7-A516-414288E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EF71-9DEA-460E-8077-65E251ED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7A36-E466-42E7-B011-50CEB44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C8DB-1E85-4D7F-9013-54EF7DD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9D40-73E2-41BE-B09A-D9B068E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7935D-B34E-4CD5-B6DA-D0019F0D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1B02-36E1-4A7A-8019-46158BCB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8E681-06D9-4C42-B046-CEDC9115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6C760-01E9-4AE9-B57D-13AE3B61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3C7B7-7239-43D8-88C4-D6DC98DD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9D320-8284-4513-A75E-978705D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B6F-E4F9-4AC4-A4AD-87511906C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0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2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2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118-7837-479F-898B-796C1685848A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447-4D9F-4824-9E35-BBA39440FB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EE6-FD2C-4DEF-A9E3-72BD628384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821-5E62-4048-A7EE-E056ECBA3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3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6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8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8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9D24-F08B-4718-9F35-71CC400716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36C3-5230-406C-B82C-A384D2CA3E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C2C9-2AE7-4910-A1EF-3F75C2F6E6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9E1-86B7-491C-A5E7-ACD30ED63C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6A0D-41EF-457C-B2E1-461034FB9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рганизация ученического самоуправлени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ДЮЦ» Красногвардеец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ктор по труду и поряд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оит из ответственных за  в класс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шает задачи формирования  у учащихся навыков  ЗОЖ, культуры делового общения, навыков общественно- полезного тру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обеспечению чистоты и порядка на территории школы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аспределяет зоны заботы между классами, осуществляет контроль чистоты в этих зонах, разрабатывает график проведения суббо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одит конкурсы чистоты (самый уютный и чистый класс, самый зелёный класс и др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ктор Доб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оит из ответственных за проведение добрых дел в класс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ефство старших над младшими  школьник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бор макула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ощь классов пожилым людям,которым требуется внимание и помощ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ктор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сс-центр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оит из ответственных за информационную  работу в класс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вещение через различные средстваинформации  событий, происходящих в школьных сте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пуск школьных информационных бюллетеней, лист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ие опросов, анкетирования среди учащихся и учителей шко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ктор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суг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оит из ответственных за культурно-массовую работу в класс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  Оргганизация и проведение внеклассных мероприят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нализ проведенных мероприят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ядосуга учащих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Самоуправление в кла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Система самоуправления в школе в масштабах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Каждый класс проводит ученическое классное собрание, возглавляемое старостой, куда входят представители секторов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Сектора класса, дублируют советы школы, представители которых являются членами соответствующих школьных сове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Сектора класса ведут в классе работу по программе школьного самоуправления, а так же индивидуальные дела класса посвоему направлению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Секторы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Староста</a:t>
            </a: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- осуществляет функции регулирования и контроля основной урочной и внеурочной деятельности (посещение уроков, дежурство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Учебный сектор</a:t>
            </a: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  - еженедельно проверяет дневники учащихся (аккуратность ведения, записи домашних заданий, подписи родителей и др.), раз в месяц выставляет в дневники текщие оценки, составляет рейтинг успеваемости, проводят работу со слабоуспевающими ученик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Трудовой сектор</a:t>
            </a: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 – организует и планирует дежурство по классу, генеральные уборки класса и пришкольной территор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Досуговый сектор</a:t>
            </a: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 – планирует и организует классные огоньки, концерты,участие класса в спортивных школьных мероприятия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Информационный сектор</a:t>
            </a:r>
            <a:r>
              <a:rPr b="0" lang="ru-RU" sz="2400" spc="-1" strike="noStrike">
                <a:solidFill>
                  <a:srgbClr val="eaeaea"/>
                </a:solidFill>
                <a:latin typeface="Garamond"/>
              </a:rPr>
              <a:t> – выпускает информационный листок класса, рекламные плакаты, афиши, оформляет класс к праздника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Различия организации самоуправления в класс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привести в действие, заставить звучать внутренний мир ребенка, помочь раскрыться его индивидуаль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лочение ученического коллекти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ганизация досуговой деятельности учащихс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витие умения общаться и сотруднича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витие общественных умений учащихс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ршая шко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развитие творчества, инициативы, самомтоятельности, активности ребя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Garamond"/>
              </a:rPr>
              <a:t>Школьное ученическое самоуправл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о режим протекания совместной и самостоятельной жизни, в которой каждый ученик может определить своё место и реализовать свои способности и возмо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Garamond"/>
              </a:rPr>
              <a:t>Цели школьного ученического самоуправления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-  Обучение  детей основам демократических  отношений в обществе, обучение управлять собой, своей жизнью в коллекти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ирование активной гражданской позиции учащихся,  объединение школьников для реализации общественно значимых  ц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изация прав школьников на участие в жизни школы через ученическое само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действие всестороннему развитию личности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Garamond"/>
              </a:rPr>
              <a:t>Задачи</a:t>
            </a:r>
            <a:r>
              <a:rPr b="1" lang="en-US" sz="4000" spc="-1" strike="noStrike">
                <a:solidFill>
                  <a:srgbClr val="ffffb7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b7"/>
                </a:solidFill>
                <a:latin typeface="Garamond"/>
              </a:rPr>
              <a:t>школьного ученического самоуправле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вивать коммуникативные и организаторские способности учащихся, учить управлять и подчиня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питать  положительное отношение у общечеловеческим ценностям, нормам коллективной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питывать такие качества как самостоятельность, ответственность, предприим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чить умению отстаивать свои права, права коллек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ть умение самостоятельно  найти дело, полезное общ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ть умение делать осознанный и отвественный вы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ть политическую культуру молод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ль взрослых в работе ученического самоуправ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м больше мы решаем за детей, тем меньше шансов пробудить их актив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, что интересно вам не всегда интересно детям, изучайте их интере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позволяйте формироваться ученической бюрократ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 лидеры должны непрерывно ощущать уважение и поддержку педагог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ебуя ответственности от детей, всегда выполняйте свои обещ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льзя приостанавливать делегированные полномочия без серьезных оснований, понятных дет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иронизируйте по поводу детских усил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ть вместе с детьми, а не рядом с ни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управление – часть детской жизн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ть такие условия, где каждый ученик будет понимать, что от него что-то зависит, что общая победа – его личная победа, а неудача всех – неудача кажд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ЬТЕ В ДЕТЕЙ, В ИХ  СПОСОБНОСТИ И ВОЗМОЖНОСТИ. Они могут значительно больше, чем мы это представляем. Детские фантазии беспредельны, а активность безгранич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Garamond"/>
              </a:rPr>
              <a:t>Структура ученического самоуправления школ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1. Ученический большой совет школ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Президентский совет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2. Советы сектор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3. Классное ученическое собр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Советы клас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3026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став высшего органа самоуправления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Президентского совета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8007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зид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ице-президе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лавный старо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едатель сектора по науке и образовани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едатель сектора по труду и поряд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едатель сектора доб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едатель сектор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сс-центр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едатель сектор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су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ростат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его входят старосты 5-11  класс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действие формированию у школьников  личности лидера, способного к сотрудничеству, владеющего культуроймежличностных отношений, готового и умеющего защищать права и интересы своего коле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ощь  в ососении учащимися социальной роли организатора различных де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тие у школьников самостоятельности и творческого мышл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гулирование участия классов в школьных выборах президента, организует учёт личных достижений класса и соревнование классов по участию в общешкольных дел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ектор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о науке и образованию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оит из школьников, ответственных за учебную работу в класса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дач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Обучение членов классных учебных се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нализ успеваемости учащихся 5-11 классов, ежемесячное подведение итогов успеваем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казание помощи в проведении предметных недель и олимпи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ие общешкольных мероприятий (акци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ускам уроков - нет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нкурс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невник – лицо ученик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ует шефство над отстающими в учеб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12:05Z</dcterms:created>
  <dc:creator>Леночка</dc:creator>
  <dc:description/>
  <dc:language>en-US</dc:language>
  <cp:lastModifiedBy>213-2</cp:lastModifiedBy>
  <dcterms:modified xsi:type="dcterms:W3CDTF">2016-11-22T11:18:00Z</dcterms:modified>
  <cp:revision>19</cp:revision>
  <dc:subject/>
  <dc:title>Организация ученического самоуправления</dc:title>
</cp:coreProperties>
</file>