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9482-55DA-4C25-8007-F6FC888862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естящие страницы в</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ю географически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ий вписали русск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ешественники</a:t>
            </a:r>
            <a:r>
              <a:rPr b="0" lang="en-US" sz="1200" spc="-1" strike="noStrike">
                <a:solidFill>
                  <a:srgbClr val="000000"/>
                </a:solidFill>
                <a:latin typeface="Calibri"/>
              </a:rPr>
              <a:t>.</a:t>
            </a:r>
            <a:r>
              <a:rPr b="0" lang="ru-RU" sz="1200" spc="-1" strike="noStrike">
                <a:solidFill>
                  <a:srgbClr val="000000"/>
                </a:solidFill>
                <a:latin typeface="Calibri"/>
              </a:rPr>
              <a:t> Они н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изучали необъятны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оры Родины, но 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ершали открытия  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я далеко за её</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елами</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1" i="1" lang="ru-RU" sz="1200" spc="-1" strike="noStrike">
                <a:solidFill>
                  <a:srgbClr val="000000"/>
                </a:solidFill>
                <a:latin typeface="Calibri"/>
              </a:rPr>
              <a:t>ВЕЛИКИЕ РУССКИЕ ПУТЕШЕСТВЕННИКИ</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знецов Антон</a:t>
            </a:r>
            <a:endParaRPr b="0" lang="en-US" sz="1200" spc="-1" strike="noStrike">
              <a:solidFill>
                <a:srgbClr val="000000"/>
              </a:solidFill>
              <a:latin typeface="Calibri"/>
            </a:endParaRPr>
          </a:p>
        </p:txBody>
      </p:sp>
      <p:sp>
        <p:nvSpPr>
          <p:cNvPr id="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4979-C1A2-4A5B-AA66-A329DE095A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уемая литерату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ик «География» – 5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в Интерне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ean-media. r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datshvartovy.r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vokrugsveta.r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book.r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eering.nsk.ru</a:t>
            </a:r>
            <a:endParaRPr b="0" lang="en-US" sz="1200" spc="-1" strike="noStrike">
              <a:solidFill>
                <a:srgbClr val="000000"/>
              </a:solidFill>
              <a:latin typeface="Calibri"/>
            </a:endParaRPr>
          </a:p>
        </p:txBody>
      </p:sp>
      <p:sp>
        <p:nvSpPr>
          <p:cNvPr id="1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1903-1D57-4B60-BFFA-AEBBD63CAB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ван Федорович Крузенштерн (1770-1846)-замечательный мореплаватель и учёный-исследователь</a:t>
            </a:r>
            <a:r>
              <a:rPr b="0" lang="en-US" sz="1200" spc="-1" strike="noStrike">
                <a:solidFill>
                  <a:srgbClr val="000000"/>
                </a:solidFill>
                <a:latin typeface="Calibri"/>
              </a:rPr>
              <a:t>.</a:t>
            </a:r>
            <a:r>
              <a:rPr b="0" lang="ru-RU" sz="1200" spc="-1" strike="noStrike">
                <a:solidFill>
                  <a:srgbClr val="000000"/>
                </a:solidFill>
                <a:latin typeface="Calibri"/>
              </a:rPr>
              <a:t>Командовал первой русской кругосветной  экспедицией с 1803 г. до 1806г. Экспедиция уточнила карту Тихого океана, собрала  сведения о природе и жителях Сахалина, островов Тихого океана и Камчатки. Крузенштерн опубликовал описание своего путешествия и составил двухтомный атлас Тихого океана.</a:t>
            </a:r>
            <a:endParaRPr b="0" lang="en-US" sz="1200" spc="-1" strike="noStrike">
              <a:solidFill>
                <a:srgbClr val="000000"/>
              </a:solidFill>
              <a:latin typeface="Calibri"/>
            </a:endParaRPr>
          </a:p>
        </p:txBody>
      </p:sp>
      <p:sp>
        <p:nvSpPr>
          <p:cNvPr id="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B958-1DC5-4DDA-8F21-34DA68C5F3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03-1806 годах состоялась первая русская кругосветная экспедиция под командованием И.Ф.Крузенштерна и Ю.Ф.Лисянского. Целью экспедиции было совершить первое кругосветное плавание в истории российского флота. Установить дипломатические контакты с Японией. Показать выгодность прямой торговли мехами из Русской Америки в Китай. Доказать выгоду морского пути из Русской Америки в Петербург в сравнении с наземным. Провести различные географические наблюдения и  научные исследования по маршруту экспед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диция была совершена на кораблях «Надежда» и «Нева». Корабли были не новые и вынесли все трудности кругосветного путешествия. Император Александр </a:t>
            </a:r>
            <a:r>
              <a:rPr b="0" lang="en-US" sz="1200" spc="-1" strike="noStrike">
                <a:solidFill>
                  <a:srgbClr val="000000"/>
                </a:solidFill>
                <a:latin typeface="Calibri"/>
              </a:rPr>
              <a:t>I </a:t>
            </a:r>
            <a:r>
              <a:rPr b="0" lang="ru-RU" sz="1200" spc="-1" strike="noStrike">
                <a:solidFill>
                  <a:srgbClr val="000000"/>
                </a:solidFill>
                <a:latin typeface="Calibri"/>
              </a:rPr>
              <a:t>лично осмотрел оба шлюпа и разрешил поднять на них военные флаги Российской империи. Начальником экспедиции был Крузенштерн И.Ф., он же капитан флагмана экспедиции шлюпа «Надежда».  Общая  численность команды корабля 65 человек. Командир шлюпа «Нева» был Лисянский Ю.Ф., общая численность команды 54 человека. Состав команды и офицеры кораблей были подобраны командирами кораблей из лучших добровольцев военно-морского флота. Среди офицеров в кругосветном плавании приняли участие мореплаватели Ф.Беллинсгаузен и О. Коцебу, а также Н.П.Резанов, которому поручалось попытаться наладить торговые отношения с Японией. В экспедицию были включены ученые – астроном И.К.Горнер, естествоиспытатели В.Г.Тилезиус фон Тиленау и Г.И. Лангсдорф.</a:t>
            </a:r>
            <a:endParaRPr b="0" lang="en-US" sz="1200" spc="-1" strike="noStrike">
              <a:solidFill>
                <a:srgbClr val="000000"/>
              </a:solidFill>
              <a:latin typeface="Calibri"/>
            </a:endParaRPr>
          </a:p>
        </p:txBody>
      </p:sp>
      <p:sp>
        <p:nvSpPr>
          <p:cNvPr id="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9004-3E4E-43C3-A805-64409803153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та первого русского кругосветного путешествия И.Ф.Крузенштерна и Ю.Ф.Лисянского</a:t>
            </a:r>
            <a:endParaRPr b="0" lang="en-US" sz="1200" spc="-1" strike="noStrike">
              <a:solidFill>
                <a:srgbClr val="000000"/>
              </a:solidFill>
              <a:latin typeface="Calibri"/>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FE32-BF65-4DA3-96A4-3B8691EBC6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6 июля (7августа) 1803 г. началось первое русское кругосветное путешествие на двух парусных шлюпах «Надежда» и «Нева» под руководством И.Ф.Крузенштерна, целью которой была доставка грузов в русские владения Северной Америки и на Камчатке, установление торговых отношений с Японией и Китаем, исследования тропической части Тихого океана близ русских владений. В этот день шлюпы покинули Кронштадтский рейд, зашли в Копенгаген, Фалмут (Великобритания), на остров Тенерифе (Канарские острова), а затем взяли курс на Бразилию. После продолжительной стоянки у острова Санта-Катарина (Бразилия), 14(26) ноября 1803г. суда впервые в истории русского флота пересекли экватор и направились на юг. 2 февраля (3 марта) 1804г. обогнув мыс Горн, они вступили в Тихий океан, где «Надежда» разлучилась с «Невой» и направилась к Маркизским островам. Здесь корабли вновь соединились и совершили переход к Гавайским островам. Затем «Нева» отправилась к берегам Аляски, а «Надежда» в Петропавловск-Камчатский. Во время плавания И.Ф.Крузенштерн исправлял карты, искал острова, существования которых ставилось под сомнение, а во время якорных стоянок занимался съемкой окрестных берег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лавания И.Ф.Крузенштерн снял и нанес на карту восточный берег Сахалина от залива Анива до мыса Терпения; описал южные берега Камчатки, провел гидрологические измерения; сделал описания быта, нравов обитателей Сахалина, Камчатки; собрал и систематически изложил сведения о торговле Японии и Кит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06 г. Шлюпы без остановок прошли Индийский океан и, обогнув Африку, вышли в Антлантический океан. Обойдя с севера Великобританию, в июле-августе 1806г. экспедиция возвратилась в Кронштадт, пробыв в плавании 3 года и 12 дне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 </a:t>
            </a:r>
            <a:r>
              <a:rPr b="0" lang="en-US" sz="1200" spc="-1" strike="noStrike">
                <a:solidFill>
                  <a:srgbClr val="000000"/>
                </a:solidFill>
                <a:latin typeface="Calibri"/>
              </a:rPr>
              <a:t>I </a:t>
            </a:r>
            <a:r>
              <a:rPr b="0" lang="ru-RU" sz="1200" spc="-1" strike="noStrike">
                <a:solidFill>
                  <a:srgbClr val="000000"/>
                </a:solidFill>
                <a:latin typeface="Calibri"/>
              </a:rPr>
              <a:t> щедро наградил И.Ф.Крузенштерна, Ю.Ф.Лисянского и всех участников экспедиции, и в память этого важного события приказал выбить особую меда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госветное плавание И.Ф.Крузенштерна и Ю.Ф.Лисянского стало важной вехой в развитии отечественной географии и естественных нау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Ф.Крузенштерн</a:t>
            </a:r>
            <a:endParaRPr b="0" lang="en-US" sz="1200" spc="-1" strike="noStrike">
              <a:solidFill>
                <a:srgbClr val="000000"/>
              </a:solidFill>
              <a:latin typeface="Calibri"/>
            </a:endParaRPr>
          </a:p>
        </p:txBody>
      </p:sp>
      <p:sp>
        <p:nvSpPr>
          <p:cNvPr id="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2286-055E-469A-9E1C-611309CC66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госветное плавание Крузенштерна И.Ф. и Лисянского ЮФ. стало важной вехой в развитии отечественной географии и естественных наук. Оно положило начало новой науке – океанологии. Составленный И.Ф.Крузенштерном «Атлас южных морей» из 104 карт на долгие годы стал руководством для всех моряков, чьи суда бороздили воды тихого океана и южных широт других океанов Зем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ами экспедиций стало следующ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Российские корабли впервые выведены в Мировой оке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Создан положительный пример осуществления морской торговли России по всему миру, утверждено её место среди главных морских держ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Российские моряки, прошедшие выучку в кругосветной экспедиции, заложили фундамент школы свободного мореплавания, на основе которой был создан Офицерский класс, преобразованный в дальнейшем в Морскую акад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Проведены обширнейшие океанографические, естественнонаучные, этнографические, лингвистические исследования, до сих пор являющиеся источником бесценной информации для ученых.</a:t>
            </a:r>
            <a:endParaRPr b="0" lang="en-US"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F11F-4A21-4E2B-8994-38C1668DEC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ван  Федорович Крузенштерн внес огромный вклад в мировую науку. Мореплавателя по достоинству оценили потомки, именем И.Ф.Крузенштерна названы 13 географических объектов в различных частях планеты, в их числе атолл в архипелаге Маршалловых островов в Тихом океане, мыс на острове Парамушир в Охотском море, гора в Антарктиде, пролив в гряде Курильских островов,</a:t>
            </a:r>
            <a:endParaRPr b="0" lang="en-US"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C453-E482-4EDF-84B1-5827C243F1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03638-F6F8-4F29-823A-C18211A2D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ADED-261E-4095-A474-7D3606FC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51614-E177-4F1B-A12E-FDF621B04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FE8FC-4DF3-4DD7-8688-124049744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7E8C5-0B08-47F2-9F60-C8EFF4BF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8AA3-2135-46E6-892C-8E069E34E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6A87-CD84-48FB-A6FA-FAA0EF44E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2653F-F4F1-4EC0-AADA-A6CB5C75E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05090-DB86-4F6C-8E59-ECC76CBF2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611D-BA3A-4113-949B-0D2861649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C5AE-761B-47B8-B6D1-406CCFAD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2B3A-5721-4630-AEFE-9587AEA73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42F9-9D0D-4172-9BD2-7D04CBCB14E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Прямоугольник 3"/>
          <p:cNvSpPr/>
          <p:nvPr/>
        </p:nvSpPr>
        <p:spPr>
          <a:xfrm>
            <a:off x="0" y="64296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1" i="1" lang="ru-RU" sz="1800" spc="-1" strike="noStrike">
                <a:solidFill>
                  <a:srgbClr val="000000"/>
                </a:solidFill>
                <a:latin typeface="Arial"/>
              </a:rPr>
              <a:t>ВЕЛИКИЕ РУССКИЕ ПУТЕШЕСТВЕННИКИ</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C:\Users\user\Desktop\Новая папка (2)\Kruzenshtern_I_F.jpg"/>
          <p:cNvPicPr/>
          <p:nvPr/>
        </p:nvPicPr>
        <p:blipFill>
          <a:blip r:embed="rId2"/>
          <a:stretch/>
        </p:blipFill>
        <p:spPr>
          <a:xfrm>
            <a:off x="1785960" y="1714680"/>
            <a:ext cx="5357880" cy="3786120"/>
          </a:xfrm>
          <a:prstGeom prst="rect">
            <a:avLst/>
          </a:prstGeom>
          <a:ln w="0">
            <a:noFill/>
          </a:ln>
        </p:spPr>
      </p:pic>
      <p:sp>
        <p:nvSpPr>
          <p:cNvPr id="51" name="Прямоугольник 4"/>
          <p:cNvSpPr/>
          <p:nvPr/>
        </p:nvSpPr>
        <p:spPr>
          <a:xfrm>
            <a:off x="2786040" y="5572080"/>
            <a:ext cx="206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Ф.Крузенштерн</a:t>
            </a:r>
            <a:endParaRPr b="0" lang="en-US" sz="1800" spc="-1" strike="noStrike">
              <a:solidFill>
                <a:srgbClr val="000000"/>
              </a:solidFill>
              <a:latin typeface="Arial"/>
            </a:endParaRPr>
          </a:p>
        </p:txBody>
      </p:sp>
      <p:sp>
        <p:nvSpPr>
          <p:cNvPr id="52" name="Прямоугольник 5"/>
          <p:cNvSpPr/>
          <p:nvPr/>
        </p:nvSpPr>
        <p:spPr>
          <a:xfrm>
            <a:off x="6937560" y="5857920"/>
            <a:ext cx="1866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знецов Анто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9144000" cy="6858000"/>
          </a:xfrm>
          <a:prstGeom prst="rect">
            <a:avLst/>
          </a:prstGeom>
          <a:ln w="0">
            <a:noFill/>
          </a:ln>
        </p:spPr>
      </p:pic>
      <p:sp>
        <p:nvSpPr>
          <p:cNvPr id="78" name="Прямоугольник 4"/>
          <p:cNvSpPr/>
          <p:nvPr/>
        </p:nvSpPr>
        <p:spPr>
          <a:xfrm>
            <a:off x="857160" y="1357200"/>
            <a:ext cx="64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уемая литерату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бник «География» – 5 клас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сылки в Интерне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ean-medi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datshvartovy.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vokrugsvet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gabook.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eering.nsk.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58000"/>
          </a:xfrm>
          <a:prstGeom prst="rect">
            <a:avLst/>
          </a:prstGeom>
          <a:ln w="0">
            <a:noFill/>
          </a:ln>
        </p:spPr>
      </p:pic>
      <p:sp>
        <p:nvSpPr>
          <p:cNvPr id="54" name="Прямоугольник 3"/>
          <p:cNvSpPr/>
          <p:nvPr/>
        </p:nvSpPr>
        <p:spPr>
          <a:xfrm>
            <a:off x="4857840" y="1928880"/>
            <a:ext cx="4286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Федорович Крузенштерн (1770-1846)-замечательный мореплаватель и учёный-исследователь</a:t>
            </a:r>
            <a:r>
              <a:rPr b="0" lang="en-US" sz="1800" spc="-1" strike="noStrike">
                <a:solidFill>
                  <a:srgbClr val="000000"/>
                </a:solidFill>
                <a:latin typeface="Arial"/>
              </a:rPr>
              <a:t>.</a:t>
            </a:r>
            <a:r>
              <a:rPr b="0" lang="ru-RU" sz="1800" spc="-1" strike="noStrike">
                <a:solidFill>
                  <a:srgbClr val="000000"/>
                </a:solidFill>
                <a:latin typeface="Arial"/>
              </a:rPr>
              <a:t>Командовал первой русской кругосветной  экспедицией с 1803 г. до 1806г. Экспедиция уточнила карту Тихого океана, собрала  сведения о природе и жителях Сахалина, островов Тихого океана и Камчатки. Крузенштерн опубликовал описание своего путешествия и составил двухтомный атлас Тихого океана</a:t>
            </a:r>
            <a:endParaRPr b="0" lang="en-US" sz="1800" spc="-1" strike="noStrike">
              <a:solidFill>
                <a:srgbClr val="000000"/>
              </a:solidFill>
              <a:latin typeface="Arial"/>
            </a:endParaRPr>
          </a:p>
        </p:txBody>
      </p:sp>
      <p:pic>
        <p:nvPicPr>
          <p:cNvPr id="55" name="Picture 4" descr="C:\Users\user\Desktop\загруженное (1).jpg"/>
          <p:cNvPicPr/>
          <p:nvPr/>
        </p:nvPicPr>
        <p:blipFill>
          <a:blip r:embed="rId2"/>
          <a:stretch/>
        </p:blipFill>
        <p:spPr>
          <a:xfrm>
            <a:off x="500040" y="1571760"/>
            <a:ext cx="3929040" cy="38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Прямоугольник 2"/>
          <p:cNvSpPr/>
          <p:nvPr/>
        </p:nvSpPr>
        <p:spPr>
          <a:xfrm>
            <a:off x="0" y="785880"/>
            <a:ext cx="9144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803-1806 годах состоялась первая русская кругосветная экспедиция под командованием И.Ф.Крузенштерна и Ю.Ф.Лисянского. Целью экспедиции было совершить первое кругосветное плавание в истории российского флота. Установить дипломатические контакты с Японией. Показать выгодность прямой торговли мехами из Русской Америки в Китай. Доказать выгоду морского пути из Русской Америки в Петербург в сравнении с наземным. Провести различные географические наблюдения и  научные исследования по маршруту экспедици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спедиция была совершена на кораблях «Надежда» и «Нева». Корабли были не новые и вынесли все трудности кругосветного путешествия. Император Александр </a:t>
            </a:r>
            <a:r>
              <a:rPr b="0" lang="en-US" sz="1800" spc="-1" strike="noStrike">
                <a:solidFill>
                  <a:srgbClr val="000000"/>
                </a:solidFill>
                <a:latin typeface="Arial"/>
              </a:rPr>
              <a:t>I </a:t>
            </a:r>
            <a:r>
              <a:rPr b="0" lang="ru-RU" sz="1800" spc="-1" strike="noStrike">
                <a:solidFill>
                  <a:srgbClr val="000000"/>
                </a:solidFill>
                <a:latin typeface="Arial"/>
              </a:rPr>
              <a:t>лично осмотрел оба шлюпа и разрешил поднять на них военные флаги Российской империи. Начальником экспедиции был Крузенштерн И.Ф., он же капитан флагмана экспедиции шлюпа «Надежда».  Общая  численность команды корабля 65 человек. Командир шлюпа «Нева» был Лисянский Ю.Ф., общая численность команды 54 человека. Состав команды и офицеры кораблей были подобраны командирами кораблей из лучших добровольцев военно-морского флота. Среди офицеров в кругосветном плавании приняли участие мореплаватели Ф.Беллинсгаузен и О. Коцебу, а также Н.П.Резанов, которому поручалось попытаться наладить торговые отношения с Японией. В экспедицию были включены ученые – астроном И.К.Горнер, естествоиспытатели В.Г.Тилезиус фон Тиленау и Г.И. Лангсдор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pic>
        <p:nvPicPr>
          <p:cNvPr id="59" name="Picture 3" descr="C:\Users\user\Desktop\Новая папка (2)\karta1.jpg"/>
          <p:cNvPicPr/>
          <p:nvPr/>
        </p:nvPicPr>
        <p:blipFill>
          <a:blip r:embed="rId2"/>
          <a:stretch/>
        </p:blipFill>
        <p:spPr>
          <a:xfrm>
            <a:off x="357120" y="1000080"/>
            <a:ext cx="8001000" cy="3575160"/>
          </a:xfrm>
          <a:prstGeom prst="rect">
            <a:avLst/>
          </a:prstGeom>
          <a:ln w="0">
            <a:noFill/>
          </a:ln>
        </p:spPr>
      </p:pic>
      <p:sp>
        <p:nvSpPr>
          <p:cNvPr id="60" name="Прямоугольник 4"/>
          <p:cNvSpPr/>
          <p:nvPr/>
        </p:nvSpPr>
        <p:spPr>
          <a:xfrm>
            <a:off x="2286000" y="48132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та первого русского кругосветного путешествия И.Ф.Крузенштерна и Ю.Ф.Лисянско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58000"/>
          </a:xfrm>
          <a:prstGeom prst="rect">
            <a:avLst/>
          </a:prstGeom>
          <a:ln w="0">
            <a:noFill/>
          </a:ln>
        </p:spPr>
      </p:pic>
      <p:sp>
        <p:nvSpPr>
          <p:cNvPr id="62" name="Прямоугольник 2"/>
          <p:cNvSpPr/>
          <p:nvPr/>
        </p:nvSpPr>
        <p:spPr>
          <a:xfrm>
            <a:off x="285840" y="4786200"/>
            <a:ext cx="857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6 июля (7августа) 1803 г. началось первое русское кругосветное путешествие на двух парусных шлюпах «Надежда» и «Нева» под руководством И.Ф.Крузенштерна, целью которой была доставка грузов в русские владения Северной Америки и на Камчатке, установление торговых отношений с Японией и Китаем, исследования тропической части Тихого океана близ русских владений.</a:t>
            </a:r>
            <a:endParaRPr b="0" lang="en-US" sz="1800" spc="-1" strike="noStrike">
              <a:solidFill>
                <a:srgbClr val="000000"/>
              </a:solidFill>
              <a:latin typeface="Arial"/>
            </a:endParaRPr>
          </a:p>
        </p:txBody>
      </p:sp>
      <p:pic>
        <p:nvPicPr>
          <p:cNvPr id="63" name="Picture 3" descr="C:\Users\user\Desktop\Новая папка (2)\800px-Yuriy_Lisyansky_portrait_by_Vladimir_Borovikovsky.jpg"/>
          <p:cNvPicPr/>
          <p:nvPr/>
        </p:nvPicPr>
        <p:blipFill>
          <a:blip r:embed="rId2"/>
          <a:stretch/>
        </p:blipFill>
        <p:spPr>
          <a:xfrm>
            <a:off x="762120" y="1000080"/>
            <a:ext cx="3166920" cy="3143160"/>
          </a:xfrm>
          <a:prstGeom prst="rect">
            <a:avLst/>
          </a:prstGeom>
          <a:ln w="0">
            <a:noFill/>
          </a:ln>
        </p:spPr>
      </p:pic>
      <p:pic>
        <p:nvPicPr>
          <p:cNvPr id="64" name="Picture 4" descr="C:\Users\user\Desktop\Новая папка (2)\Kruzenshtern_I_F.jpg"/>
          <p:cNvPicPr/>
          <p:nvPr/>
        </p:nvPicPr>
        <p:blipFill>
          <a:blip r:embed="rId3"/>
          <a:stretch/>
        </p:blipFill>
        <p:spPr>
          <a:xfrm>
            <a:off x="4929120" y="1000080"/>
            <a:ext cx="3500640" cy="3071880"/>
          </a:xfrm>
          <a:prstGeom prst="rect">
            <a:avLst/>
          </a:prstGeom>
          <a:ln w="0">
            <a:noFill/>
          </a:ln>
        </p:spPr>
      </p:pic>
      <p:sp>
        <p:nvSpPr>
          <p:cNvPr id="65" name="Прямоугольник 6"/>
          <p:cNvSpPr/>
          <p:nvPr/>
        </p:nvSpPr>
        <p:spPr>
          <a:xfrm>
            <a:off x="1078920" y="43578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Ф.Лисянский</a:t>
            </a:r>
            <a:endParaRPr b="0" lang="en-US" sz="1800" spc="-1" strike="noStrike">
              <a:solidFill>
                <a:srgbClr val="000000"/>
              </a:solidFill>
              <a:latin typeface="Arial"/>
            </a:endParaRPr>
          </a:p>
        </p:txBody>
      </p:sp>
      <p:sp>
        <p:nvSpPr>
          <p:cNvPr id="66" name="Прямоугольник 7"/>
          <p:cNvSpPr/>
          <p:nvPr/>
        </p:nvSpPr>
        <p:spPr>
          <a:xfrm>
            <a:off x="5509440" y="428616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Ф.Крузенштер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144000" cy="6858000"/>
          </a:xfrm>
          <a:prstGeom prst="rect">
            <a:avLst/>
          </a:prstGeom>
          <a:ln w="0">
            <a:noFill/>
          </a:ln>
        </p:spPr>
      </p:pic>
      <p:pic>
        <p:nvPicPr>
          <p:cNvPr id="68" name="Picture 3" descr="C:\Users\user\Desktop\Новая папка (2)\Krugosvetka_gl.jpg"/>
          <p:cNvPicPr/>
          <p:nvPr/>
        </p:nvPicPr>
        <p:blipFill>
          <a:blip r:embed="rId2"/>
          <a:stretch/>
        </p:blipFill>
        <p:spPr>
          <a:xfrm>
            <a:off x="285840" y="857160"/>
            <a:ext cx="8572320" cy="4000680"/>
          </a:xfrm>
          <a:prstGeom prst="rect">
            <a:avLst/>
          </a:prstGeom>
          <a:ln w="0">
            <a:noFill/>
          </a:ln>
        </p:spPr>
      </p:pic>
      <p:sp>
        <p:nvSpPr>
          <p:cNvPr id="69" name="Прямоугольник 3"/>
          <p:cNvSpPr/>
          <p:nvPr/>
        </p:nvSpPr>
        <p:spPr>
          <a:xfrm>
            <a:off x="428760" y="4929120"/>
            <a:ext cx="8715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т день шлюпы покинули Кронштадтский рейд, зашли в Копенгаген, Фалмут (Великобритания), на остров Тенерифе (Канарские острова), а затем взяли курс на Бразилию. После продолжительной стоянки у острова Санта-Катарина (Бразилия), 14(26) ноября 1803г суда впервые в истории русского флота пересекли экватор и направились на ю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0"/>
            <a:ext cx="9144000" cy="6858000"/>
          </a:xfrm>
          <a:prstGeom prst="rect">
            <a:avLst/>
          </a:prstGeom>
          <a:ln w="0">
            <a:noFill/>
          </a:ln>
        </p:spPr>
      </p:pic>
      <p:sp>
        <p:nvSpPr>
          <p:cNvPr id="71" name="Прямоугольник 2"/>
          <p:cNvSpPr/>
          <p:nvPr/>
        </p:nvSpPr>
        <p:spPr>
          <a:xfrm>
            <a:off x="214200" y="357120"/>
            <a:ext cx="87868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февраля (3 марта) 1804г. обогнув мыс Горн, они вступили в Тихий океан, где «Надежда» разлучилась с «Невой» и направилась к Маркизским островам. Здесь корабли вновь соединились и совершили переход к Гавайским островам. Затем «Нева» отправилась к берегам Аляски, а «Надежда» в Петропавловск-Камчатский. Во время плавания И.Ф.Крузенштерн исправлял карты, искал острова, существования которых ставилось под сомнение, а во время якорных стоянок занимался съемкой окрестных берег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 время плавания И.Ф.Крузенштерн снял и нанес на карту восточный берег Сахалина от залива Анива до мыса Терпения; описал южные берега Камчатки, провел гидрологические измерения; сделал описания быта, нравов обитателей Сахалина, Камчатки; собрал и систематически изложил сведения о торговле Японии и Кит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806 г. шлюпы без остановок прошли Индийский океан и, обогнув Африку, вышли в Атлантический океан. Обойдя с севера Великобританию, в июле-августе 1806г. экспедиция возвратилась в Кронштадт, пробыв в плавании 3 года и 12 дн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ександр </a:t>
            </a:r>
            <a:r>
              <a:rPr b="0" lang="en-US" sz="1800" spc="-1" strike="noStrike">
                <a:solidFill>
                  <a:srgbClr val="000000"/>
                </a:solidFill>
                <a:latin typeface="Arial"/>
              </a:rPr>
              <a:t>I </a:t>
            </a:r>
            <a:r>
              <a:rPr b="0" lang="ru-RU" sz="1800" spc="-1" strike="noStrike">
                <a:solidFill>
                  <a:srgbClr val="000000"/>
                </a:solidFill>
                <a:latin typeface="Arial"/>
              </a:rPr>
              <a:t> щедро наградил И.Ф.Крузенштерна, Ю.Ф.Лисянского и всех участников экспедиции, и в память этого важного события приказал выбить особую меда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угосветное плавание И.Ф.Крузенштерна и Ю.Ф.Лисянского стало важной вехой в развитии отечественной географии и естественных нау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0" y="0"/>
            <a:ext cx="9144000" cy="6858000"/>
          </a:xfrm>
          <a:prstGeom prst="rect">
            <a:avLst/>
          </a:prstGeom>
          <a:ln w="0">
            <a:noFill/>
          </a:ln>
        </p:spPr>
      </p:pic>
      <p:pic>
        <p:nvPicPr>
          <p:cNvPr id="73" name="Picture 2" descr=""/>
          <p:cNvPicPr/>
          <p:nvPr/>
        </p:nvPicPr>
        <p:blipFill>
          <a:blip r:embed="rId2"/>
          <a:stretch/>
        </p:blipFill>
        <p:spPr>
          <a:xfrm>
            <a:off x="0" y="0"/>
            <a:ext cx="9144000" cy="6858000"/>
          </a:xfrm>
          <a:prstGeom prst="rect">
            <a:avLst/>
          </a:prstGeom>
          <a:ln w="0">
            <a:noFill/>
          </a:ln>
        </p:spPr>
      </p:pic>
      <p:sp>
        <p:nvSpPr>
          <p:cNvPr id="74" name="Прямоугольник 3"/>
          <p:cNvSpPr/>
          <p:nvPr/>
        </p:nvSpPr>
        <p:spPr>
          <a:xfrm>
            <a:off x="714240" y="785880"/>
            <a:ext cx="7858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угосветное плавание Крузенштерна И.Ф. и Лисянского Ю.Ф. стало важной вехой в развитии отечественной географии и естественных наук. Оно положило начало новой науке – океанологии. Составленный И.Ф.Крузенштерном «Атлас южных морей» из 104 карт на долгие годы стал руководством для всех моряков, чьи суда бороздили воды Тихого океана и южных широт других океанов Зем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ультатами экспедиций стало следующ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оссийские корабли впервые выведены в Мировой океа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оздан положительный пример осуществления морской торговли России по всему миру, утверждено её место среди главных морских держа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оссийские моряки, прошедшие выучку в кругосветной экспедиции, заложили фундамент школы свободного мореплавания, на основе которой был создан Офицерский класс, преобразованный в дальнейшем в Морскую академи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Проведены обширнейшие океанографические, естественнонаучные, этнографические, лингвистические исследования, до сих пор являющиеся источником бесценной информации для учены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58000"/>
          </a:xfrm>
          <a:prstGeom prst="rect">
            <a:avLst/>
          </a:prstGeom>
          <a:ln w="0">
            <a:noFill/>
          </a:ln>
        </p:spPr>
      </p:pic>
      <p:sp>
        <p:nvSpPr>
          <p:cNvPr id="76" name="Прямоугольник 2"/>
          <p:cNvSpPr/>
          <p:nvPr/>
        </p:nvSpPr>
        <p:spPr>
          <a:xfrm>
            <a:off x="714240" y="2286000"/>
            <a:ext cx="735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  Федорович Крузенштерн внес огромный вклад в мировую науку. Мореплавателя по достоинству оценили потомки, именем И.Ф.Крузенштерна названы 13 географических объектов в различных частях планеты, в их числе атолл в архипелаге Маршалловых островов в Тихом океане, мыс на острове Парамушир в Охотском море, гора в Антарктиде, пролив в гряде Курильских остров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12:33:58Z</dcterms:created>
  <dc:creator>DGerasimov</dc:creator>
  <dc:description/>
  <dc:language>en-US</dc:language>
  <cp:lastModifiedBy>user</cp:lastModifiedBy>
  <dcterms:modified xsi:type="dcterms:W3CDTF">2015-11-11T17:46:06Z</dcterms:modified>
  <cp:revision>43</cp:revision>
  <dc:subject/>
  <dc:title>Слайд 1</dc:title>
</cp:coreProperties>
</file>