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569-4C52-4ED0-88B7-5F0796FE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64C-2550-4FD9-9FB6-191144D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44FC8-338A-4DE5-9687-E3DF7056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71846-9BEC-4841-9E38-6F13416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B3BD0-3253-444F-B7B0-599C792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40B49-CA93-46F3-A530-11BCEA6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7C2EB-F135-4322-BC49-B075564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282B-31BD-46A7-9303-3A2E86A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AB735-2FEB-4BBA-A219-F036B0B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B0793-A89B-4731-BE79-3574D278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53501-4F3D-4BE8-8594-B513128E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AFE52-A885-4E2D-ADA0-056CAFF4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E99-CCFA-4ABB-8D72-6FA46F77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FCA8-1477-44D0-9B6C-57379E4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A998-1EF1-41AD-967B-12801F2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9954E-402C-4D4C-B166-1ED6F7CE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67A28-F545-4EDA-91CD-70F29032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EE4D-FA9B-4EE3-A1E0-C7EDBE2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8C322-7503-482A-AAD4-23C5198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46A31-FB50-4C56-8F19-5D4B016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20FB0-E252-4714-9E40-554D891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3A33-7FC6-4171-A768-235F601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9CA8C-2263-4DCA-BCD5-FAED0AC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4ED-0288-464E-ABA6-C7E2C6B3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79E9A-4A38-474B-A0DC-A21DAF6C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200F0-665A-406D-BA87-864B5068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128A-005A-4F16-AFA6-827D6F8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27811-0CCA-4FE4-AC75-F5A5C86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C9BF5-F05E-4058-9388-15D28A7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0C46-1AF8-4A9F-A7E4-72D8EF5F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1F0D-11FA-4A76-96BB-453356D3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77C7-CEA3-49B7-8E2D-44DF1624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24D5E-FF9C-4731-92D9-F524924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FB73-3F45-42EA-A505-0DA66CA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DB5-2A24-4B5C-81E0-918CD458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2A6B-7045-4004-B902-564DB6A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C2629-ED0F-48EB-A449-4566D06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B8BD-3753-4A26-819F-0EBD8D85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B68D-311D-4311-9A6D-D62FB5B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B74F-97F1-4F89-8509-96346AB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588-5DA0-4224-A228-B88122A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D774-BF2F-4AB4-A912-E801E852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667-AA60-439C-A98B-61CDB2B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D94-279E-46A9-895E-D71FE63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1E0-E06F-44F2-B6C6-CC51252A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284D-471D-4D59-A659-4B1A759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D16A-6489-489C-8D48-5503EC93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1B59-9BEB-424A-AB30-277275E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FB9-9104-49B4-8BFA-ED7DC4C4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532-7FDC-459C-BA22-E8F9147F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CD98-F532-4551-ACF2-312F3BEA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6464-7235-48C0-903A-3B299720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FBAF-1B12-45D0-B462-DBC216D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87B5-A209-40A2-8863-5B1A8B5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8BBF-967B-4425-9C65-CA32F05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319-170B-4376-AC17-A79A7BF9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30EB-F779-457F-B76D-5C70FCB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3066-D43F-473B-B98F-FBF85E8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807A-DDF9-42D9-AE51-5A324B7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5D82C-8721-48CC-AF14-8012B9D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53BE-5377-4E46-8FE9-7AC37D9C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795A-AB21-403F-AD9B-80C97823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54AC-11C8-4D13-A3A0-469CA7E0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89B9-4B3A-416D-9FA5-AAE7BEAA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7A64-42C8-4E94-A5ED-F1F4CBB3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4D6E-B7C8-4778-BC25-CFFF59ED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96E-994A-4E73-BDD5-7670BE3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9E0F4-06D2-4E89-958D-0635526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26F4-BE64-4462-B92D-2EF826F6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32B9-E6BA-4B85-A813-2095F12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8AAE-E189-4C5E-9636-2EE25C9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0E89-9062-4D39-B72F-381623B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20F37-621C-4F05-B388-58E548E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0235-13A7-48EF-80BC-33CFD0F6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99DD-BE79-48F8-A550-0E17E63D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505C-D8F1-4CEF-AD12-2AAB3E2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D7FE-8133-4912-B801-B814550F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A61-92C9-4482-B094-A84BDB02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8116-A43A-42A1-96AC-A2CD066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361A6-6FCB-4D77-8E6A-2867B8B0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DB1A-3D41-413B-AE5B-82CE316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A27F-48B2-4C33-8112-A1E989F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9343-3D97-44EF-8EEA-91FFAD20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24D8-5304-4F03-87E5-B506D0C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C578-8512-4784-B4C4-D02C6097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87577-FA3B-4100-9D64-88DA8CAF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8B1E-B720-4B69-9DEF-C45B6729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CE5E-210C-4982-9A4C-E6B5E2B1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C8A5-A254-4FD8-8393-1C2945A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E3EF-653D-4A89-829C-0A660E63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BA307-2CD1-460F-8FE3-3C948D7E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1F418-85AA-4FD8-814D-EA5D7EA3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396B2-90E8-4D01-8A3C-335F2F95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B1B10-CF4B-4CF0-802B-09381F0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B2D2F-1292-4C34-A073-79D9253C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D6A04-DF64-4696-B3F5-C12A67B0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3DD92-1702-4332-854A-BC9838E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A63B8-DCB2-4E9F-A8E6-DD70CCB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9D1CB-30BF-4AE8-BD0E-8CE7F93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A17-0B13-4330-BB96-7AB6ACF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98D37-2340-4CE2-9414-7C98B25C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B9047-2196-4E35-BE34-D40AE954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294C8-97DA-4FB7-BBA6-5EE4D378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3A1E7-CB88-4085-8842-31F1898C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C79B-88B0-46A7-925D-FD3655B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463F-0AC9-44A9-ADED-55D1EF30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F8048-3B93-41AB-A5E5-3DC2FD0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3A1A-B266-411F-8795-352CD1F0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5AD7-4912-459B-9AC1-A0E16E1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B753-142B-45FA-81A8-8F1DF23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2BD-F173-4CA3-9CE0-60043FF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A543-820F-4358-B1A8-64DFF8FD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1F0F-EC77-4ED5-A47C-27A6F25A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8E30A-B9CF-4583-8836-ADB20F2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6C915-0D6B-4468-BEAB-0347D0CF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8541-11E8-44A3-8C82-5FD14BFB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806AC-9C41-4E9D-98AA-64E1C00F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3F5BB-6497-45B2-B050-215D8F0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753DF-E7FD-44E4-9FFF-92AB24AD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5003-5938-4387-93D7-9912A8D3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C150-8D08-4BE5-BD0C-265CE46B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869-7CD1-4BC3-BCB6-211C808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625D7-6444-4E90-8AD4-D5C55DC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5D60-AF97-40B3-B57D-84D59B2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8BE5-9C1B-4455-B0FC-637AB27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EB7D0-81A1-4E03-9AA7-FEBABBD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3E0B-363C-4D4A-AF41-25232A1B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8C8D-8072-460C-AFCF-8B7DDDC5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EC9D-603C-4AC3-89C3-501509AE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D43D7-EDCC-4C5D-9F4D-27ACC65E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AE75-AA11-4E4E-98F5-1BA6CFA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026A3-1DB8-4590-8E4C-20E7A24F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32E9-38CC-4143-AA47-5944ED629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9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2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7E8-C646-498B-8C0A-64A7A98F26B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7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56C9-3784-4821-B9FF-926D08495A1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B0E-CCF0-4049-B657-8B15C50C5B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1146-D888-4718-959A-C2242886A6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4C1A-7B4A-4BCD-841A-AA25093B12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013-0017-42C8-81B4-27AD86B673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796-606B-4005-A424-3DA5FB6A1F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0DED-B6BC-44CB-9F57-5C6198836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1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CBBE-0581-463D-9A9F-13C4E9D168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2FB-7202-4BE2-A10F-18D5D8F789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Урок здоровья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8893080" y="5157360"/>
            <a:ext cx="25113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7 Апреля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. Чуковский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ойдодыр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79680" y="2016000"/>
            <a:ext cx="52308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словицы о чистот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гонь чистит, вода мо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ятный не нравится нерях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 источник— чист ру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ая вода для хвори бе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ота и здоровье— родные сест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ота— залог здоров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о жить— здоровым бы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тота—лучшая крас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686440" y="-436932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От простой воды и мыла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у микробов тают силы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99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                           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Режим дня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820000" y="6668640"/>
            <a:ext cx="614232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627280" y="1820880"/>
            <a:ext cx="5040360" cy="4057920"/>
          </a:xfrm>
          <a:prstGeom prst="rect">
            <a:avLst/>
          </a:prstGeom>
          <a:solidFill>
            <a:srgbClr val="cec3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ъё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ы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ря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е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стилать пос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тр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гу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бодн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30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30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0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0"/>
                                        <p:tgtEl>
                                          <p:spTgt spid="8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0"/>
                                        <p:tgtEl>
                                          <p:spTgt spid="8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3000"/>
                                        <p:tgtEl>
                                          <p:spTgt spid="8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3000"/>
                                        <p:tgtEl>
                                          <p:spTgt spid="8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8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3000"/>
                                        <p:tgtEl>
                                          <p:spTgt spid="8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3000"/>
                                        <p:tgtEl>
                                          <p:spTgt spid="8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da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омендации Мойдоды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едневно вставай в одно и  тоже время, делай за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ром умывайся, чисть зубы, мой уши и ш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учайся обтираться после зарядки до пояса водой комнатной темп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мой руки перед едой, после прогулки, после работы и после посещения туа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3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3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3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3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686800" y="-42969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Надо, надо умыв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о утрам и вечер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А нечистым трубочиста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ыд и срам! Стыд и сра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Да здравствуем мыло душист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 полотенце пушист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 зубной порошок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 густой гребешок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Давайте же мыться плескатьс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упаться, нырять, кувырк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 ушате, в корыте, в лоха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 реке, в ручейке, в океане,-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И в ванне, и в ба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сегда и везд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ечная слава вод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8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8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8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8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8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8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8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8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8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8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8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8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8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8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7:36:14Z</dcterms:created>
  <dc:creator>Alexander</dc:creator>
  <dc:description/>
  <dc:language>en-US</dc:language>
  <cp:lastModifiedBy>Admin</cp:lastModifiedBy>
  <dcterms:modified xsi:type="dcterms:W3CDTF">2014-04-06T16:41:15Z</dcterms:modified>
  <cp:revision>3</cp:revision>
  <dc:subject/>
  <dc:title>Урок здоровья</dc:title>
</cp:coreProperties>
</file>