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gif" ContentType="image/gif"/>
  <Override PartName="/ppt/media/image8.gif" ContentType="image/gif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BEA9-5924-44FD-AEC7-6B918AB3E1F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3A04-0EEB-4F3E-A515-F496E440D14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671-7CB0-4023-A66F-382A6E01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076-D44A-466E-9FB9-5DD27C21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C642-063E-418B-9262-195F73AA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26D-4B49-4324-A6E5-FDCF5981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7C6-E050-40D5-B022-86981F12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6B0-2785-4357-B129-1A9774B4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929-19A0-4379-BE66-623B2D51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C0B-FB2C-44C7-A4C0-BDF5CBCA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3FC-8215-4BB8-B2A5-E3ADBCCC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17AF-5B57-4027-A87E-C0D60CBF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F27-FCB1-4FC2-A9DD-71AAE3D9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18D-6C16-4F37-AD56-682AE8F8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DA10-7D37-48A9-95D9-2190E901186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1173\Desktop\цирк\1302647317.png"/>
          <p:cNvPicPr/>
          <p:nvPr/>
        </p:nvPicPr>
        <p:blipFill>
          <a:blip r:embed="rId1"/>
          <a:srcRect l="0" t="8886" r="0" b="11112"/>
          <a:stretch/>
        </p:blipFill>
        <p:spPr>
          <a:xfrm>
            <a:off x="0" y="0"/>
            <a:ext cx="8996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5334120" y="2209680"/>
            <a:ext cx="3657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азвле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ФЭМП - ИЗ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4495680" y="990720"/>
            <a:ext cx="43434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alibri"/>
              </a:rPr>
              <a:t>ЦИРК0ВАЯ МАТЕМАТИ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5c2a34d10a58b7dc3a0e752d7c9339a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128621257_5152557_image_863110151037491518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1173\Desktop\00\ВСЕ\Анимашки разные\Математика\геометрия\422861.png"/>
          <p:cNvPicPr/>
          <p:nvPr/>
        </p:nvPicPr>
        <p:blipFill>
          <a:blip r:embed="rId3"/>
          <a:srcRect l="67109" t="39902" r="2542" b="31368"/>
          <a:stretch/>
        </p:blipFill>
        <p:spPr>
          <a:xfrm>
            <a:off x="1143000" y="3581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1173\Desktop\00\ВСЕ\Анимашки разные\Математика\геометрия\422861.png"/>
          <p:cNvPicPr/>
          <p:nvPr/>
        </p:nvPicPr>
        <p:blipFill>
          <a:blip r:embed="rId4"/>
          <a:srcRect l="65849" t="2405" r="3802" b="66504"/>
          <a:stretch/>
        </p:blipFill>
        <p:spPr>
          <a:xfrm>
            <a:off x="1447920" y="4419720"/>
            <a:ext cx="914400" cy="99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1173\Desktop\00\ВСЕ\Анимашки разные\Математика\геометрия\422861.png"/>
          <p:cNvPicPr/>
          <p:nvPr/>
        </p:nvPicPr>
        <p:blipFill>
          <a:blip r:embed="rId5"/>
          <a:srcRect l="0" t="0" r="69629" b="66504"/>
          <a:stretch/>
        </p:blipFill>
        <p:spPr>
          <a:xfrm>
            <a:off x="1752480" y="350532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1173\Desktop\00\ВСЕ\Анимашки разные\Математика\геометрия\422861.png"/>
          <p:cNvPicPr/>
          <p:nvPr/>
        </p:nvPicPr>
        <p:blipFill>
          <a:blip r:embed="rId6"/>
          <a:srcRect l="0" t="35923" r="69629" b="30581"/>
          <a:stretch/>
        </p:blipFill>
        <p:spPr>
          <a:xfrm>
            <a:off x="0" y="365760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1173\Desktop\00\ВСЕ\Анимашки разные\Математика\геометрия\422861.png"/>
          <p:cNvPicPr/>
          <p:nvPr/>
        </p:nvPicPr>
        <p:blipFill>
          <a:blip r:embed="rId7"/>
          <a:srcRect l="34173" t="32730" r="37975" b="28985"/>
          <a:stretch/>
        </p:blipFill>
        <p:spPr>
          <a:xfrm>
            <a:off x="533520" y="3962520"/>
            <a:ext cx="83808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1173\Desktop\00\ВСЕ\Анимашки разные\Математика\геометрия\422861.png"/>
          <p:cNvPicPr/>
          <p:nvPr/>
        </p:nvPicPr>
        <p:blipFill>
          <a:blip r:embed="rId8"/>
          <a:srcRect l="44319" t="80613" r="20247" b="0"/>
          <a:stretch/>
        </p:blipFill>
        <p:spPr>
          <a:xfrm>
            <a:off x="838080" y="5105520"/>
            <a:ext cx="935280" cy="5410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533520" y="0"/>
            <a:ext cx="7619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Какими геом.фигурами жонглирует клоун и сколько их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3.7037E-006 C 0.00295 -0.00116 0.00608 -0.00116 0.00868 -0.00324 C 0.0099 -0.00417 0.00938 -0.00672 0.01007 -0.00834 C 0.01493 -0.01898 0.01649 -0.02246 0.01997 -0.03334 C 0.02465 -0.04838 0.02986 -0.06528 0.0375 -0.07824 C 0.03958 -0.08195 0.04288 -0.08426 0.04497 -0.0882 C 0.05469 -0.10625 0.04479 -0.09815 0.05503 -0.10486 C 0.06632 -0.1206 0.08021 -0.12963 0.09253 -0.14329 C 0.09965 -0.15139 0.10608 -0.16297 0.11372 -0.16991 C 0.12049 -0.17616 0.12795 -0.18102 0.13507 -0.18658 C 0.14896 -0.19746 0.16076 -0.21412 0.17378 -0.22662 C 0.18229 -0.23472 0.19462 -0.24306 0.20243 -0.25162 C 0.2184 -0.26898 0.21823 -0.27755 0.23628 -0.29167 C 0.24392 -0.29769 0.25104 -0.30602 0.25868 -0.31158 C 0.26667 -0.31736 0.27552 -0.32107 0.28368 -0.32662 C 0.29774 -0.33611 0.28507 -0.33172 0.29757 -0.33496 C 0.31181 -0.34422 0.32813 -0.35093 0.34375 -0.35324 C 0.35382 -0.35672 0.36354 -0.36227 0.37378 -0.36482 C 0.39358 -0.36945 0.41493 -0.37107 0.43507 -0.37315 C 0.48594 -0.37199 0.53663 -0.37176 0.5875 -0.36991 C 0.60486 -0.36922 0.6224 -0.36273 0.63993 -0.36158 C 0.65486 -0.35764 0.66997 -0.35394 0.68507 -0.35162 C 0.69028 -0.34931 0.6934 -0.34398 0.69878 -0.34167 C 0.71111 -0.33056 0.70573 -0.33334 0.71372 -0.32986 C 0.72083 -0.32107 0.72951 -0.31111 0.73872 -0.30648 C 0.74201 -0.30023 0.74531 -0.3007 0.75 -0.29653 C 0.75556 -0.28542 0.76545 -0.2757 0.775 -0.27153 C 0.78351 -0.2632 0.78889 -0.26297 0.8 -0.26158 C 0.8342 -0.26204 0.86823 -0.26227 0.90243 -0.2632 C 0.91944 -0.26366 0.93576 -0.27361 0.95243 -0.27662 C 0.96545 -0.28496 0.94792 -0.27454 0.96493 -0.28148 C 0.98559 -0.29005 0.96319 -0.28426 0.98125 -0.2882 C 0.99236 -0.29445 1.00556 -0.29769 1.01753 -0.3 C 1.03872 -0.30834 1.06042 -0.31181 1.08247 -0.3132 C 1.11198 -0.32315 1.08333 -0.31505 1.12743 -0.31991 C 1.1375 -0.32107 1.1474 -0.32361 1.15747 -0.325 C 1.16285 -0.3257 1.1684 -0.32616 1.17378 -0.32662 C 1.19427 -0.33449 1.21528 -0.3382 1.23628 -0.34329 C 1.25556 -0.34792 1.25382 -0.33843 1.25382 -0.35324 E">
                                      <p:cBhvr>
                                        <p:cTn id="6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81481E-006 C 0.00937 -0.00625 0.00954 -0.00972 0.01631 -0.01828 C 0.01996 -0.03101 0.02743 -0.04051 0.03125 -0.05324 C 0.04357 -0.09421 0.06111 -0.12986 0.07881 -0.16689 C 0.08211 -0.17361 0.0842 -0.18171 0.0875 -0.18819 C 0.10052 -0.21412 0.10572 -0.20856 0.11875 -0.24328 C 0.13784 -0.29421 0.11024 -0.22245 0.13385 -0.27824 C 0.14114 -0.2956 0.1427 -0.30555 0.15121 -0.32152 C 0.18038 -0.37639 0.21059 -0.41273 0.2526 -0.4449 C 0.27291 -0.46041 0.29479 -0.48379 0.31753 -0.49328 C 0.32795 -0.49768 0.33836 -0.50231 0.34878 -0.50671 C 0.35468 -0.50926 0.35937 -0.51504 0.3651 -0.51851 C 0.38177 -0.52754 0.40069 -0.53611 0.41875 -0.54004 C 0.43732 -0.54814 0.45677 -0.54953 0.47621 -0.55162 C 0.50729 -0.56296 0.54079 -0.56319 0.57135 -0.54838 C 0.58489 -0.53449 0.56579 -0.55324 0.58385 -0.54004 C 0.58993 -0.53564 0.59548 -0.53032 0.60121 -0.52523 C 0.60572 -0.52106 0.61076 -0.51759 0.6151 -0.51319 C 0.63368 -0.49467 0.61215 -0.50995 0.63003 -0.49838 C 0.64305 -0.48101 0.6368 -0.48726 0.64756 -0.47847 C 0.65677 -0.46319 0.6684 -0.45046 0.67881 -0.43657 C 0.68316 -0.43078 0.68975 -0.42592 0.69375 -0.4199 C 0.70191 -0.4074 0.70798 -0.39722 0.71875 -0.38819 C 0.72934 -0.3706 0.71736 -0.38796 0.73125 -0.37523 C 0.73611 -0.37037 0.7401 -0.36458 0.74496 -0.35995 C 0.75885 -0.34652 0.77604 -0.33726 0.79131 -0.32662 C 0.7993 -0.31551 0.80885 -0.31064 0.81875 -0.30324 C 0.82847 -0.29583 0.83784 -0.28518 0.84878 -0.28171 C 0.86145 -0.26365 0.88159 -0.26111 0.89878 -0.25833 C 0.91718 -0.25555 0.93402 -0.25347 0.9526 -0.25347 E">
                                      <p:cBhvr>
                                        <p:cTn id="9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8148E-006 C 0.01163 -0.01088 0.01336 -0.02778 0.02256 -0.04167 C 0.03437 -0.05926 0.0493 -0.07408 0.0625 -0.08982 C 0.08923 -0.12199 0.11284 -0.16065 0.1401 -0.1919 C 0.15034 -0.20324 0.16197 -0.21227 0.17256 -0.22315 C 0.18454 -0.23565 0.19513 -0.24977 0.20746 -0.26181 C 0.2342 -0.28704 0.26441 -0.30602 0.2901 -0.33334 C 0.31944 -0.36482 0.34982 -0.39537 0.38003 -0.425 C 0.40434 -0.44885 0.43281 -0.46343 0.46006 -0.47986 C 0.46805 -0.48472 0.47552 -0.49121 0.48385 -0.49491 C 0.49305 -0.49908 0.50312 -0.49977 0.5125 -0.50324 C 0.5184 -0.50533 0.52395 -0.50996 0.53003 -0.51158 C 0.54357 -0.51505 0.55763 -0.51597 0.57135 -0.51829 C 0.58055 -0.51991 0.59878 -0.52315 0.59878 -0.52315 C 0.91614 -0.52176 0.84305 -0.54144 0.97881 -0.51667 C 0.98906 -0.50695 1.00156 -0.5007 1.0125 -0.49167 C 1.0342 -0.47361 1.05538 -0.4551 1.0776 -0.4382 C 1.10329 -0.41875 1.0776 -0.35926 1.0776 -0.31991 E">
                                      <p:cBhvr>
                                        <p:cTn id="12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4.07407E-006 C 0.00192 -0.00787 0.00521 -0.00718 0.01007 -0.01157 C 0.01789 -0.01829 0.02205 -0.02847 0.03004 -0.03495 C 0.03542 -0.04884 0.04219 -0.05648 0.05001 -0.06829 C 0.07223 -0.10185 0.09497 -0.12731 0.12257 -0.15162 C 0.13108 -0.15926 0.14115 -0.16412 0.14879 -0.17315 C 0.17917 -0.2088 0.2132 -0.2375 0.24636 -0.26829 C 0.25678 -0.27801 0.2658 -0.29028 0.27622 -0.3 C 0.28473 -0.30787 0.29497 -0.31227 0.30261 -0.32153 C 0.30591 -0.32546 0.30903 -0.32963 0.31251 -0.33333 C 0.31615 -0.33704 0.32032 -0.33935 0.32379 -0.34329 C 0.32674 -0.34653 0.3283 -0.35162 0.33126 -0.35486 C 0.3474 -0.37361 0.36511 -0.38981 0.38126 -0.40833 C 0.39046 -0.41875 0.39757 -0.43241 0.40747 -0.44167 C 0.41216 -0.44606 0.41702 -0.45 0.42136 -0.45486 C 0.46129 -0.49792 0.49619 -0.55393 0.54497 -0.57986 C 0.55469 -0.58495 0.56216 -0.59143 0.57257 -0.59329 C 0.59115 -0.60162 0.60938 -0.6044 0.62882 -0.60648 C 0.78421 -0.60532 0.93976 -0.6118 1.09497 -0.60324 C 1.14462 -0.60046 1.12136 -0.31296 1.12136 -0.725 E">
                                      <p:cBhvr>
                                        <p:cTn id="15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037E-007 C 0.0033 -0.0044 0.00781 -0.00787 0.0099 -0.01343 C 0.01406 -0.02431 0.0184 -0.03473 0.025 -0.04352 C 0.02795 -0.06436 0.04219 -0.07709 0.05121 -0.09352 C 0.07621 -0.13936 0.10243 -0.1801 0.12986 -0.22338 C 0.14653 -0.24954 0.16892 -0.26806 0.18611 -0.29352 C 0.29045 -0.44676 0.18194 -0.29051 0.25121 -0.39352 C 0.27517 -0.42917 0.29288 -0.44908 0.32118 -0.48681 C 0.32812 -0.49607 0.33333 -0.50741 0.34115 -0.51505 C 0.34861 -0.52223 0.3566 -0.52894 0.36371 -0.53681 C 0.38646 -0.56204 0.40642 -0.59121 0.43125 -0.61343 C 0.4566 -0.63612 0.43924 -0.61922 0.47118 -0.64167 C 0.48385 -0.6507 0.49479 -0.66505 0.50851 -0.67014 C 0.51615 -0.67292 0.52378 -0.67477 0.53125 -0.67848 C 0.5592 -0.69306 0.58437 -0.71088 0.61371 -0.72176 C 0.64531 -0.73334 0.67708 -0.75255 0.7099 -0.75672 C 0.79097 -0.80301 0.85625 -0.74607 0.93108 -0.74167 C 0.9625 -0.73982 0.99358 -0.73843 1.025 -0.73681 C 1.0375 -0.73612 1.05 -0.73565 1.0625 -0.73519 C 1.0875 -0.72385 1.05677 -0.73635 1.09496 -0.72848 C 1.09896 -0.72778 1.10243 -0.72454 1.10625 -0.72338 C 1.12812 -0.71713 1.15139 -0.71482 1.17361 -0.71019 C 1.18854 -0.63774 1.175 -0.70116 1.175 -0.90834 E">
                                      <p:cBhvr>
                                        <p:cTn id="18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C -0.03056 -0.02778 -0.00139 -0.1 0.0125 -0.13519 C 0.04983 -0.22917 0.09392 -0.32454 0.16007 -0.38681 C 0.18507 -0.41042 0.21024 -0.43704 0.24132 -0.44352 C 0.24462 -0.44514 0.24774 -0.44722 0.25122 -0.44838 C 0.25486 -0.44954 0.25885 -0.44861 0.2625 -0.45 C 0.26649 -0.45139 0.26997 -0.45486 0.27378 -0.45671 C 0.28212 -0.46065 0.29132 -0.4632 0.3 -0.46505 C 0.35035 -0.46366 0.34253 -0.46713 0.37257 -0.45671 C 0.37413 -0.45509 0.37552 -0.45278 0.37726 -0.45185 C 0.38229 -0.44954 0.39236 -0.44676 0.39236 -0.44676 C 0.40347 -0.43704 0.38663 -0.45116 0.40243 -0.44167 C 0.41233 -0.43565 0.41354 -0.43264 0.42483 -0.43009 C 0.43003 -0.425 0.43385 -0.42222 0.43993 -0.42014 C 0.47882 -0.38611 0.52135 -0.3588 0.56128 -0.32685 C 0.58524 -0.30764 0.57118 -0.32454 0.59375 -0.31019 C 0.60972 -0.3 0.62326 -0.28704 0.64132 -0.28333 C 0.65243 -0.27847 0.64497 -0.28125 0.65625 -0.27847 C 0.66076 -0.27732 0.66997 -0.275 0.66997 -0.275 C 0.78073 -0.27755 0.89236 -0.26389 1.00243 -0.28333 C 1.02778 -0.28773 1.05208 -0.29884 1.07743 -0.30347 C 1.12135 -0.31157 1.16389 -0.31852 1.20747 -0.33009 C 1.22066 -0.39792 1.21007 -0.33889 1.21007 -0.51181 E">
                                      <p:cBhvr>
                                        <p:cTn id="21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00896933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ff6ef357356c"/>
          <p:cNvPicPr/>
          <p:nvPr/>
        </p:nvPicPr>
        <p:blipFill>
          <a:blip r:embed="rId2"/>
          <a:stretch/>
        </p:blipFill>
        <p:spPr>
          <a:xfrm>
            <a:off x="7010280" y="2209680"/>
            <a:ext cx="2008440" cy="2743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5fa16b0db9_19568965_o2"/>
          <p:cNvPicPr/>
          <p:nvPr/>
        </p:nvPicPr>
        <p:blipFill>
          <a:blip r:embed="rId3"/>
          <a:stretch/>
        </p:blipFill>
        <p:spPr>
          <a:xfrm>
            <a:off x="0" y="2438280"/>
            <a:ext cx="1809720" cy="2676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huge"/>
          <p:cNvPicPr/>
          <p:nvPr/>
        </p:nvPicPr>
        <p:blipFill>
          <a:blip r:embed="rId4"/>
          <a:stretch/>
        </p:blipFill>
        <p:spPr>
          <a:xfrm>
            <a:off x="3193920" y="3041640"/>
            <a:ext cx="3262320" cy="3193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1173\Desktop\00\ВСЕ\Анимашки разные\Математика\Цифры разные\115051110_large_6x (1).png"/>
          <p:cNvPicPr/>
          <p:nvPr/>
        </p:nvPicPr>
        <p:blipFill>
          <a:blip r:embed="rId5"/>
          <a:stretch/>
        </p:blipFill>
        <p:spPr>
          <a:xfrm>
            <a:off x="3505320" y="380880"/>
            <a:ext cx="1995480" cy="2571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5486400" y="0"/>
            <a:ext cx="3657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Сколько артистов на аре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Calibri"/>
              </a:rPr>
              <a:t>Клоун-эквилибрис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клоун с шарами"/>
          <p:cNvPicPr/>
          <p:nvPr/>
        </p:nvPicPr>
        <p:blipFill>
          <a:blip r:embed="rId1"/>
          <a:stretch/>
        </p:blipFill>
        <p:spPr>
          <a:xfrm>
            <a:off x="1905120" y="533520"/>
            <a:ext cx="4235400" cy="5790960"/>
          </a:xfrm>
          <a:prstGeom prst="rect">
            <a:avLst/>
          </a:prstGeom>
          <a:ln w="0">
            <a:noFill/>
          </a:ln>
        </p:spPr>
      </p:pic>
      <p:sp>
        <p:nvSpPr>
          <p:cNvPr id="68" name="Дуга 4"/>
          <p:cNvSpPr/>
          <p:nvPr/>
        </p:nvSpPr>
        <p:spPr>
          <a:xfrm rot="10800000">
            <a:off x="0" y="4647600"/>
            <a:ext cx="9144000" cy="990360"/>
          </a:xfrm>
          <a:custGeom>
            <a:avLst/>
            <a:gdLst>
              <a:gd name="textAreaLeft" fmla="*/ 75960 w 9144000"/>
              <a:gd name="textAreaRight" fmla="*/ 9144360 w 9144000"/>
              <a:gd name="textAreaTop" fmla="*/ 0 h 990360"/>
              <a:gd name="textAreaBottom" fmla="*/ 495360 h 990360"/>
            </a:gdLst>
            <a:ahLst/>
            <a:rect l="textAreaLeft" t="textAreaTop" r="textAreaRight" b="textAreaBottom"/>
            <a:pathLst>
              <a:path stroke="0" w="9144000" h="990600">
                <a:moveTo>
                  <a:pt x="76258" y="405215"/>
                </a:moveTo>
                <a:lnTo>
                  <a:pt x="76257" y="405215"/>
                </a:lnTo>
                <a:arcTo wR="4572000" hR="495300" stAng="-10731124" swAng="10731132"/>
                <a:lnTo>
                  <a:pt x="4572000" y="495300"/>
                </a:lnTo>
                <a:close/>
              </a:path>
              <a:path fill="none" w="9144000" h="990600">
                <a:moveTo>
                  <a:pt x="76258" y="405215"/>
                </a:moveTo>
                <a:lnTo>
                  <a:pt x="76257" y="405215"/>
                </a:lnTo>
                <a:arcTo wR="4572000" hR="495300" stAng="-10731124" swAng="10731132"/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173</cp:lastModifiedBy>
  <dcterms:modified xsi:type="dcterms:W3CDTF">2016-11-22T12:10:08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