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156D-3384-4C70-87B7-1577F8B1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4A63-3930-4B86-B847-19429B1E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6B12-A213-457C-981A-769A125B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D081-F7B9-4D60-8960-7629E7A5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EBDF-9E5E-4F29-9799-317AA3F7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4B55-8516-4F29-A91C-430C160A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6AE6-F020-4B9C-9364-D0305155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B785-0D07-4334-9EDF-8FEE0AAE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3A31-1B4D-4AE5-8690-606606A8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0C49-99B6-4C0C-B0AE-D5EF9ED0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93DF-3AFB-41AE-8BA8-E52A70B7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6DC7-E4A5-4B12-9C84-84507EC0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3199-9DAD-4C36-AAFA-55AC40860DF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4f81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962121544"/>
          <p:cNvPicPr/>
          <p:nvPr/>
        </p:nvPicPr>
        <p:blipFill>
          <a:blip r:embed="rId1"/>
          <a:stretch/>
        </p:blipFill>
        <p:spPr>
          <a:xfrm>
            <a:off x="2819520" y="1752480"/>
            <a:ext cx="2743200" cy="50263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5181480" y="152280"/>
            <a:ext cx="3657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КТО ВЫСТУПАЕТ НА АРЕН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1173\Desktop\00\ВСЕ\Анимашки разные\цирк\e1cfd8e947cc0ed2b62ddfd05460ed5e.jpg"/>
          <p:cNvPicPr/>
          <p:nvPr/>
        </p:nvPicPr>
        <p:blipFill>
          <a:blip r:embed="rId1"/>
          <a:stretch/>
        </p:blipFill>
        <p:spPr>
          <a:xfrm>
            <a:off x="0" y="-685800"/>
            <a:ext cx="5505480" cy="5448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1173\Desktop\00\ВСЕ\Анимашки разные\Математика\Цифры разные\знаки разн\091439_1385446479.png"/>
          <p:cNvPicPr/>
          <p:nvPr/>
        </p:nvPicPr>
        <p:blipFill>
          <a:blip r:embed="rId2"/>
          <a:srcRect l="38673" t="56264" r="22655" b="7821"/>
          <a:stretch/>
        </p:blipFill>
        <p:spPr>
          <a:xfrm>
            <a:off x="5334120" y="1752480"/>
            <a:ext cx="1258920" cy="878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Users\1173\Desktop\00\ВСЕ\Анимашки разные\Математика\Цифры разные\знаки разн\091439_1385446479.png"/>
          <p:cNvPicPr/>
          <p:nvPr/>
        </p:nvPicPr>
        <p:blipFill>
          <a:blip r:embed="rId3"/>
          <a:srcRect l="7031" t="4690" r="54689" b="46875"/>
          <a:stretch/>
        </p:blipFill>
        <p:spPr>
          <a:xfrm>
            <a:off x="1828800" y="2057400"/>
            <a:ext cx="1752480" cy="1295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5181480" y="579132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РЕШИ ПРИМ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Picture 12" descr="C:\Users\1173\Desktop\Рисунок2.gif"/>
          <p:cNvPicPr/>
          <p:nvPr/>
        </p:nvPicPr>
        <p:blipFill>
          <a:blip r:embed="rId4"/>
          <a:stretch/>
        </p:blipFill>
        <p:spPr>
          <a:xfrm>
            <a:off x="6781680" y="762120"/>
            <a:ext cx="2038320" cy="259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C:\Users\1173\Desktop\Рисунок3.gif"/>
          <p:cNvPicPr/>
          <p:nvPr/>
        </p:nvPicPr>
        <p:blipFill>
          <a:blip r:embed="rId5"/>
          <a:stretch/>
        </p:blipFill>
        <p:spPr>
          <a:xfrm>
            <a:off x="0" y="762120"/>
            <a:ext cx="1467000" cy="1923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C:\Users\1173\Desktop\Рисунок4.gif"/>
          <p:cNvPicPr/>
          <p:nvPr/>
        </p:nvPicPr>
        <p:blipFill>
          <a:blip r:embed="rId6"/>
          <a:stretch/>
        </p:blipFill>
        <p:spPr>
          <a:xfrm>
            <a:off x="3956040" y="603360"/>
            <a:ext cx="151776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circus-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Назови профессии    цирковых артистов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7" descr="C:\Users\1173\Desktop\Рисунок5.gif"/>
          <p:cNvPicPr/>
          <p:nvPr/>
        </p:nvPicPr>
        <p:blipFill>
          <a:blip r:embed="rId2"/>
          <a:stretch/>
        </p:blipFill>
        <p:spPr>
          <a:xfrm>
            <a:off x="2193840" y="2971800"/>
            <a:ext cx="451656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image_860506161257223261273"/>
          <p:cNvPicPr/>
          <p:nvPr/>
        </p:nvPicPr>
        <p:blipFill>
          <a:blip r:embed="rId1"/>
          <a:stretch/>
        </p:blipFill>
        <p:spPr>
          <a:xfrm>
            <a:off x="682560" y="1365120"/>
            <a:ext cx="3908520" cy="5237280"/>
          </a:xfrm>
          <a:prstGeom prst="rect">
            <a:avLst/>
          </a:prstGeom>
          <a:ln w="0">
            <a:noFill/>
          </a:ln>
        </p:spPr>
      </p:pic>
      <p:sp>
        <p:nvSpPr>
          <p:cNvPr id="54" name="Прямая соединительная линия 6"/>
          <p:cNvSpPr/>
          <p:nvPr/>
        </p:nvSpPr>
        <p:spPr>
          <a:xfrm>
            <a:off x="6172200" y="3429000"/>
            <a:ext cx="533520" cy="114300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5-конечная звезда 8"/>
          <p:cNvSpPr/>
          <p:nvPr/>
        </p:nvSpPr>
        <p:spPr>
          <a:xfrm rot="20449800">
            <a:off x="5943600" y="3124080"/>
            <a:ext cx="457200" cy="533520"/>
          </a:xfrm>
          <a:custGeom>
            <a:avLst/>
            <a:gdLst>
              <a:gd name="textAreaLeft" fmla="*/ 141120 w 457200"/>
              <a:gd name="textAreaRight" fmla="*/ 316080 w 457200"/>
              <a:gd name="textAreaTop" fmla="*/ 203760 h 533520"/>
              <a:gd name="textAreaBottom" fmla="*/ 407520 h 533520"/>
            </a:gdLst>
            <a:ahLst/>
            <a:rect l="textAreaLeft" t="textAreaTop" r="textAreaRight" b="textAreaBottom"/>
            <a:pathLst>
              <a:path w="457200" h="533400">
                <a:moveTo>
                  <a:pt x="0" y="203740"/>
                </a:moveTo>
                <a:lnTo>
                  <a:pt x="174636" y="203742"/>
                </a:lnTo>
                <a:lnTo>
                  <a:pt x="228600" y="0"/>
                </a:lnTo>
                <a:lnTo>
                  <a:pt x="282564" y="203742"/>
                </a:lnTo>
                <a:lnTo>
                  <a:pt x="457200" y="203740"/>
                </a:lnTo>
                <a:lnTo>
                  <a:pt x="315916" y="329658"/>
                </a:lnTo>
                <a:lnTo>
                  <a:pt x="369883" y="533398"/>
                </a:lnTo>
                <a:lnTo>
                  <a:pt x="228600" y="407479"/>
                </a:lnTo>
                <a:lnTo>
                  <a:pt x="87317" y="533398"/>
                </a:lnTo>
                <a:lnTo>
                  <a:pt x="141284" y="329658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6552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724280" y="152280"/>
            <a:ext cx="44197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Кто из них дрессировщик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8" descr="C:\Users\1173\Desktop\Рисунок1.gif"/>
          <p:cNvPicPr/>
          <p:nvPr/>
        </p:nvPicPr>
        <p:blipFill>
          <a:blip r:embed="rId2"/>
          <a:stretch/>
        </p:blipFill>
        <p:spPr>
          <a:xfrm>
            <a:off x="6172200" y="3048120"/>
            <a:ext cx="21906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73</dc:creator>
  <dc:description/>
  <dc:language>en-US</dc:language>
  <cp:lastModifiedBy>1173</cp:lastModifiedBy>
  <dcterms:modified xsi:type="dcterms:W3CDTF">2016-11-22T12:19:34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