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5E2-63FE-4F4E-A495-168D6435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462-8263-4F2B-B461-8A5880AA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E7F-4075-43FA-A011-752E235F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FB2-C5D7-4C11-95EB-C3504B34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BC22-48AB-4152-A4EB-3278DD1C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3E20-A788-4149-A3D3-0CBDF1AC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12B4-0D3D-4D04-A209-A6D95C51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A22F-9816-4FB2-AADF-638B23E4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274D-F7FD-4C28-9A50-A32BFE4C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633B-C597-4107-81E4-18348890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5BCC-44FF-4900-B206-BDEC358B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080-03DB-45B0-8436-4E2357E7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52A2-76DB-4983-958A-86CF485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4E53-CAF0-4147-A7E0-4EE423E2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FFFF-4B4B-4894-A2C9-16DB26A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4BB5-4DA6-44EB-86F6-F1FC896F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AF81-F418-412A-8981-2FE169E2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3D58C-4BD4-4AB8-8BBB-CF54425F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CFDE5-864D-492D-90BA-2C30DECE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23FA-9311-4557-9DD7-3108A9EE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35C6-2271-42DF-83D6-5F31E2E7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AEE52-313C-42D7-8496-CA175398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128-0FBB-4EE4-87CE-9BF4208A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74C8D-7AF6-483B-85AE-17463A8C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41D1-3CC6-496C-863B-813585C2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CE49F-3D8E-442B-B4FC-B42C68FA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AD41-58B8-4432-9005-70B592CE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0A45-12D3-4CF4-ABB5-9D3A0DAF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6FD03-43DC-487B-B54A-380D0F2A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60A9-5678-43A2-BFE1-9D8DC6A2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8825A-9708-40B3-ABD6-1FC8FD07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03EA5-3055-469B-AC45-87183562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5D506-733A-49E0-A16C-6D54ED20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57E-6303-4334-8AAF-31EE83B6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3FFC-DDC3-422F-BAA9-0A96ACDF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75FE-DF22-4DD7-ABBE-17522ADB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4432B-CE90-4B58-86A1-E0E4ED7C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3FA3B-7DF3-42FD-93DF-A3D59A3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B680-FE8D-457E-9271-E06FEBC1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5A087-164E-436F-8B4B-CD7C63E6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F943-818E-4B64-A2AA-F7B585A0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D306D-11E9-4C5C-AB7D-C189D328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6CBA-7CDC-4DEA-9B75-CC5C764E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CDC-8138-47F5-8686-575C8B7E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92F-7295-4C0A-9BE2-C50EC584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05D-FCF1-431C-83B0-D0326A54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777-6D64-43E7-BABA-91500FA2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451-CC17-42F1-ACE6-19C8105C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82EF-0994-4D2F-B68F-78A842A786F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D439-2952-496E-9C8A-09E3B155F9C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40F2-E8D3-4974-9DE0-01CB315095C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2F3A-018F-45F3-B71E-DEE4038FA87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jirafenok.ru/wp-content/uploads/2013/05/mat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jirafenok.ru/wp-content/uploads/2013/05/mat12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33240" y="719280"/>
            <a:ext cx="7950240" cy="3846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45007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Подготовила: Петрова М.Е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Воспитатель МБДОУ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«Детский сад №142»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http://adalin.mospsy.ru/img3/msd_01.jpg"/>
          <p:cNvPicPr/>
          <p:nvPr/>
        </p:nvPicPr>
        <p:blipFill>
          <a:blip r:embed="rId2"/>
          <a:stretch/>
        </p:blipFill>
        <p:spPr>
          <a:xfrm>
            <a:off x="571680" y="3786120"/>
            <a:ext cx="297972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Это цифра один. Помоги мальчику найти все предметы, которых по одному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Рисунок 3" descr="игрушки математика"/>
          <p:cNvPicPr/>
          <p:nvPr/>
        </p:nvPicPr>
        <p:blipFill>
          <a:blip r:embed="rId1"/>
          <a:stretch/>
        </p:blipFill>
        <p:spPr>
          <a:xfrm>
            <a:off x="2643120" y="2071800"/>
            <a:ext cx="44290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42960" y="35712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Сосчитай сколько тортов на картинке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Раздели их на 4 части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Рисунок 3" descr="цифра 4 торты"/>
          <p:cNvPicPr/>
          <p:nvPr/>
        </p:nvPicPr>
        <p:blipFill>
          <a:blip r:embed="rId1"/>
          <a:stretch/>
        </p:blipFill>
        <p:spPr>
          <a:xfrm>
            <a:off x="2500200" y="1857240"/>
            <a:ext cx="44290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42960" y="14292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9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нак "Равно" =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нак, который ты видишь посередине картинки, называется "равно"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ва домика с одной стороны, равны двум домикам с другой сторон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 обеих сторон одинаковое количество (число) домиков, тогда и ставим равн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Рисунок 3" descr="домики"/>
          <p:cNvPicPr/>
          <p:nvPr/>
        </p:nvPicPr>
        <p:blipFill>
          <a:blip r:embed="rId1"/>
          <a:stretch/>
        </p:blipFill>
        <p:spPr>
          <a:xfrm>
            <a:off x="3286080" y="2500200"/>
            <a:ext cx="3286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00040" y="14292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nstantia"/>
              </a:rPr>
              <a:t>Раскрась столько предметов, сколько показывает цифра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Рисунок 3" descr="научить считать ребенка, учиться считать до 10, математика 2+ 3+ в картинках скачать бесплатно"/>
          <p:cNvPicPr/>
          <p:nvPr/>
        </p:nvPicPr>
        <p:blipFill>
          <a:blip r:embed="rId1"/>
          <a:stretch/>
        </p:blipFill>
        <p:spPr>
          <a:xfrm>
            <a:off x="1500120" y="1643040"/>
            <a:ext cx="56437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28760" y="7142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Кто темнее 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ошадь темнее коровы, корова темнее собак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то темнее всех ?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*   *   *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колько концов 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колько концов у двух палок 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 у двух с половиной палок ? 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530280" y="1994040"/>
            <a:ext cx="78516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566640" y="-60480"/>
            <a:ext cx="7785360" cy="15652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000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1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вышение у детей старшего дошкольного возраста интереса к математике посредством создания условий для исследовательской деятельности по изучению цифр и линий во взаимосвязи с окружающей жизнью, с предметами ближайшего окружения. Формирование интереса к математически занимательным задача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Формировать у дошкольников элементарные представления о цифрах от 0-10; разнообразных линиях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азвивать умения детей самостоятельно использовать полученные знания в разных видах деятельности, вовлекать сверстников в развёрнутые игры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ддерживать интерес к познанию, созданию нового, необычного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Формировать заинтересованность родителей в достижениях своих детей в совместной с ними деятельност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ктивизирование мыслительной и познавательной деятельности детей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Формирование умения понимать задачи и выполнять ее самостоятельн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Продолжительность проекта: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реднесрочный (1 месяц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Участники проекта: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оспитанники подготовительной группы, родители и педагоги групп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566640" y="-201600"/>
            <a:ext cx="7785360" cy="15732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00040" y="7142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3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временному обществу нужны люди интеллектуально смелые, самостоятельные, оригинально мыслящие, творческие, умеющие принимать нестандартные решения. Все эти качества личности у старших дошкольников можно сформировать при помощи разнообразных математических игр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ожно не только дать детям знания, но и научить добывать их самостоятельно, опираясь на основную естественную деятельность ребёнка – игру, сформировать у него коммуникативные навыки и умения работать в разнообразных группах, исполняя разные социальные роли (лидера, исполнителя, посредника и прочее.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учению дошкольников началам математики должно отводиться важное место. Это вызвано целым рядом причин: началом школьного обучения с шести лет, обилием информации, получаемой ребенком, повышением внимания к компьютеризации, желанием сделать процесс обучения более интенсивным, стремлением родителей в связи с этим как можно раньше научить ребенка узнавать цифры, считать, решать задач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 концу шестого и на седьмом году жизни интенсивно формируются все стороны личности ребенка: нравственная, интеллектуальная, эмоционально-волевая, действенно-практическая. Роль взрослого – развитие и поддержка творческой активности детей, создание условий, позволяющих им самостоятельно определить цели и содержание предстоящей деятельности, выбрать способы работы над проектом и организовать ее, определить перспективы развития опыт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анимательная математика непосредственно способствует развитию необходимых для дальнейшей жизни ребенка качест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06320" y="-92160"/>
            <a:ext cx="778536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1428840" y="577800"/>
          <a:ext cx="6357960" cy="5697720"/>
        </p:xfrm>
        <a:graphic>
          <a:graphicData uri="http://schemas.openxmlformats.org/drawingml/2006/table">
            <a:tbl>
              <a:tblPr/>
              <a:tblGrid>
                <a:gridCol w="1976400"/>
                <a:gridCol w="2452680"/>
                <a:gridCol w="1928880"/>
              </a:tblGrid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тап реализации проек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держание рабо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частни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5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ительный эта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Определение темы, цели проект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Изучение литературы по тем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Подготовка дидактического материал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Консультация для родителе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Составление план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и, педагог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2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онный эта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Беседа о цифрах и линиях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Выяснение представления о них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Схема знакомства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Как называется цифра, линия?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Описание цифры, линии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На что они похожи?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Где встречается в окружающей действительности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анники, педаг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86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эта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Выбрать цифру или линию. Исследовать ее, дать описание, найти в окружающей действительности и в предметах ближайшего окружения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Совместно с родителями  сочиняют сказки, рисуют рисунки, делают поделки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В ходе проводимой работы по воспитанию у дошкольников представления о, цифрах, разнообразных линия, мы широко использовали игру: в самостоятельной деятельности дети играют индивидуально или объединяются со сверстниками  в разнообразных играх с данными математическими понятиям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блюдения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гадывание загадок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думывание загад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анники, педаг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эта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бщение результатов работ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анники, педаг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633240" y="-55440"/>
            <a:ext cx="7785360" cy="15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1500120" y="785880"/>
          <a:ext cx="6096240" cy="5887800"/>
        </p:xfrm>
        <a:graphic>
          <a:graphicData uri="http://schemas.openxmlformats.org/drawingml/2006/table">
            <a:tbl>
              <a:tblPr/>
              <a:tblGrid>
                <a:gridCol w="428760"/>
                <a:gridCol w="5214960"/>
                <a:gridCol w="452520"/>
              </a:tblGrid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новные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рганиза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фра и число 1 и 2. Прямой и обратный счет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е стихов 01 и 02. Крылатые выражения, связанные с этими числами.Д/и «исправь ошибку»Физминутка «Дожд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 «Большой – маленький»Работа на листе бумаги: графический диктан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нед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и цифра 3 и 4. Демонстрационный материал: цифры 3 и 4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ихи, крылатые выражения, сказки, в которых есть цифры 3 и 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/и «назови правильно»Игра «наоборо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минутка «Зарядка»Игра «Длинный – коротк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в тет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3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нед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и цифра 5 и 6. Математическая разминка «Бусы из геометрических фигур». Игровое упражнение «Смотри и считай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дактическая игра «Живая неделя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нед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и цифра 7 и 8. Задание «Напиши правильно». Упражнение «Посчитай и раскрась». Упражнение «Слушай и рисуй». Логическая задача «За каким пеньком спрятался зай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нед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и цифра 9, число 10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/и «Числовые домики». Д/и «Не ошибись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мся образовывать числа 9 и 10. Задание «Рисуем зайку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93560" y="-55440"/>
            <a:ext cx="7785360" cy="1566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71680" y="1000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5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проектной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деятельности Реализуется инициатива ребёнка – это значимо для развития умения детьми пользоваться исследовательскими методами: собирать необходимую информацию, факты, уметь их анализировать с разных точек зрения, выдвигать гипотезы, делать выводы и заключе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ект – это система постепенно усложняющихся практических заданий. Таким образом, у ребёнка происходит накопление собственного опыта, углубление его знаний и совершенствование  умений. У дошкольника развиваются такие качества личности, как самостоятельность, инициативность, любознательность, опыт взаимодействия и др., что прописано в требованиях  к выпускнику детского сад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центре внимания – ребенок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разовательный процесс строится в логике деятельности, имеющей личностный смысл для ребенка, что повышает его мотивацию к познанию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ндивидуальный темп работы над проектом обеспечивает выход каждого ребенка на свой уровень развит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боко осознанное усвоение базовых знаний обеспечивается за счет универсального использования этих знаний в разных ситуациях, в самостоятельной деятельно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ru-RU" sz="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566640" y="371520"/>
            <a:ext cx="7785360" cy="1566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2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ложительная динамика мониторинга формирования математических представлений у детей старшего дошкольного возрас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Формирование операций логического мышления (анализ, синтез, классификация, сравнение, обобщение, абстрагирование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Формирование представления о математических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лучение математических знаний о цифре и числ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владение умением мысленно разбить число на составные част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566640" y="615960"/>
            <a:ext cx="7785360" cy="2182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00040" y="23572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бы оценить результаты был составлен комплекс вопросов, задаваемых во время беседы с детьми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 называется цифра, линия?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писание цифры, лини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 что они похожи?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де встречается в окружающей действительности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з чего состоит число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 низкому уровню относятся дети, на один и менее вопрос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 среднему - на 2-3 вопрос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 высокому уровню – ответившие на все вопросы и проявляющие инициативу в процессе деятельно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цифра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72080" y="785880"/>
            <a:ext cx="2857680" cy="8762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мат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4429080"/>
            <a:ext cx="2857680" cy="9334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3" descr="мат3"/>
          <p:cNvPicPr/>
          <p:nvPr/>
        </p:nvPicPr>
        <p:blipFill>
          <a:blip r:embed="rId5"/>
          <a:stretch/>
        </p:blipFill>
        <p:spPr>
          <a:xfrm>
            <a:off x="5429160" y="3500280"/>
            <a:ext cx="2857680" cy="9525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36000" y="-50760"/>
            <a:ext cx="637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яблок на рисунке? Какая цифра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341440" y="1560960"/>
            <a:ext cx="33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Вот один, иль един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Очень тонкая, как сп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С.Я. Марш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-20160" y="3124080"/>
            <a:ext cx="44632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Два - похожа на гус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С длинным клювом, шеей то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С.Я. Марш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969080" y="4789800"/>
            <a:ext cx="379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Тройка - третий из значков -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Состоит из двух крюч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dbfa"/>
                </a:solidFill>
                <a:latin typeface="Lucida Sans Unicode"/>
                <a:ea typeface="Times New Roman"/>
              </a:rPr>
              <a:t>С.Я. Маршак</a:t>
            </a:r>
            <a:r>
              <a:rPr b="0" lang="ru-RU" sz="2000" spc="-1" strike="noStrike">
                <a:solidFill>
                  <a:srgbClr val="6bdbfa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13:51:14Z</dcterms:created>
  <dc:creator>ан</dc:creator>
  <dc:description/>
  <dc:language>en-US</dc:language>
  <cp:lastModifiedBy>ан</cp:lastModifiedBy>
  <dcterms:modified xsi:type="dcterms:W3CDTF">2015-10-16T15:49:48Z</dcterms:modified>
  <cp:revision>6</cp:revision>
  <dc:subject/>
  <dc:title>Муниципальное бюджетное дошкольное образовательное учреждение «Детский сад №142»   Проект «Занимательная математика от 0 до 10»</dc:title>
</cp:coreProperties>
</file>