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3C7C-223E-4141-8F8A-CE6E47386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BD86-497A-4DE6-B412-91A1D50B6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619C-80A8-462F-AF9B-1210EC15F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0BAD-A9C4-4045-A149-680BC05CA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B56222-DD8A-438C-80C3-518D82BCD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2EBB1C-220C-4AD2-B00C-B588C5885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27D541-6D8D-4114-BF68-73BD1F9DF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7EBECA-5D74-48C7-BC68-C7DEF8AF9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1FCE67-0CB3-4E40-A65F-62113AA5F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8778B1-23B3-46A5-A81A-DBC476603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B2D036-780E-44FF-B6DE-EC9C49C7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9706-A1C0-47A3-8921-9E0AA4935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28CF5D-1B29-4DAF-AB0C-E481BCC6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FB3448-9C9A-4DF3-9B78-32B1A742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F57FCB-F342-46ED-9B47-A837D60E1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930FB8-8843-4D24-9D3F-EAB6F5E3C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60838F-21F3-4E23-83CD-818F18EB8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28E21-A8D8-44F7-95FA-9B846FCA9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98C3E-E5F9-4546-A6BD-12AFD8D08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B5CC5-794C-4AD5-963F-40553B56C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AF760-72EF-4D69-B9EF-22C31D00D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14B7F-FBE1-48E1-945F-1ACD59D2F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1CB6-C20D-4382-9E41-2A5666460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4424E-CE41-43D1-B3DF-E68CA4A84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65843-882A-44E6-BE04-5908DA5A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030A0-0BC5-44FF-8FC9-94DC1F9C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F7B24-7699-47B8-9377-1BC051FE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07FA9-528F-4242-9AA2-FB1CA3E48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4EA41-8E78-454C-A55D-83058C811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9EE10-5E7D-473B-BE9A-7E1D6D0EA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277E1-D662-44CB-BE3B-9131BDD27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DE931-D30D-4A94-BF8D-D5012F4F7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E1E5C-404A-4AFE-9763-A671E7821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4362-8504-4AD1-973C-8112F97DB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A7F31-51AE-4297-BA7A-AE7DF4A5F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26E31-30B7-402C-9C11-161ADB325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EA121-3D1E-4E95-BE0C-62A29012E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227ED-9451-4713-946C-F038727B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1EFB3-0E6D-4EFA-B9E9-D9392D8C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70392-DF7E-431E-A36E-D747B4C8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D7B40-5041-4207-9CFE-67D10C5E9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3CBD2-58BE-40B3-B98B-0370E6B13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46E7F-47CA-41E4-A9F9-33B0FEF00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CC948-08F5-467D-892E-00EACDB5F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93FC-47E8-472B-93C4-7D50224BB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1FD5B-9A66-4C75-82E8-FD0EBF282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0CBE7-DCC9-49C4-8548-02E76020F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4AE54-0A83-4E71-957B-B3CA44C4B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43A25-4363-41C8-BD1C-07EC448D5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5B756-B302-48D0-A24E-4A37B1003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C4FEF-CD77-444B-9343-D6CB63B2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4BC94-83D5-4DC7-89D7-3FCC27A4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7C896-5584-403A-9275-E0D9E625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352C5-17B9-4437-A842-887CAD440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AB90C-264E-4426-AE94-407F62B3F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C61F-D5E2-4FCD-B430-6A7487806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867C5-EE29-4881-B081-CCAAD726F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6BDC9-CEC3-4A52-A9C2-E676646D8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7A90D-DB39-4B3A-80FB-C09D3A4FB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6DE48-9A76-456A-AC6D-153A7825D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43CCA-ECD7-41E7-9F7E-68A710785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7891B-3415-4325-A355-467E05C2E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D6281-AD44-4987-8BD9-7DD2D144D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55E2A-EA33-450F-9166-FE82F711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E71B4-A302-4036-95C9-EDD49F31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B7537-D3A0-417F-BD53-15F5F3F3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60D7-8A6E-4473-90E3-FB00EC9E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93906B-E15A-4171-B902-384FE9981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DD0FA-A9CB-4B63-87C0-CA75C5ACD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C02D9-42E9-4856-8F0C-3417A6B40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D723-B7C8-4746-97A5-E124B696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C8E7-BBBD-4FA2-836F-D180EBDD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abbc"/>
            </a:gs>
            <a:gs pos="50000">
              <a:srgbClr val="cae4fa"/>
            </a:gs>
            <a:gs pos="100000">
              <a:srgbClr val="98abb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093E5-A8F0-485D-BFFC-DE974BF906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abbc"/>
            </a:gs>
            <a:gs pos="50000">
              <a:srgbClr val="cae4fa"/>
            </a:gs>
            <a:gs pos="100000">
              <a:srgbClr val="98abb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D573B-BBFB-47D1-A889-4135EAC629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abbc"/>
            </a:gs>
            <a:gs pos="50000">
              <a:srgbClr val="cae4fa"/>
            </a:gs>
            <a:gs pos="100000">
              <a:srgbClr val="98abb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F6BD8-3F16-4295-BA9B-3C0422A15F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abbc"/>
            </a:gs>
            <a:gs pos="50000">
              <a:srgbClr val="cae4fa"/>
            </a:gs>
            <a:gs pos="100000">
              <a:srgbClr val="98abb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567C8-A568-43DE-8E43-8A7C2509ED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65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98AA-AFCE-4C2E-9ECE-71221E8821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15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73f8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883C2-6DBE-4DB2-AB8C-C5651BF410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slideLayout" Target="../slideLayouts/slideLayout5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abbc"/>
            </a:gs>
            <a:gs pos="50000">
              <a:srgbClr val="cae4fa"/>
            </a:gs>
            <a:gs pos="100000">
              <a:srgbClr val="98ab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9933ff"/>
                </a:solidFill>
                <a:latin typeface="Times New Roman"/>
              </a:rPr>
              <a:t>Тема: «Проводники и диэлектрики в электрическом поле»</a:t>
            </a:r>
            <a:endParaRPr b="1" lang="en-US" sz="6600" spc="-1" strike="noStrike">
              <a:solidFill>
                <a:srgbClr val="d9d9ff"/>
              </a:solidFill>
              <a:latin typeface="Arial Black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3492360" y="-963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266720" y="5219280"/>
            <a:ext cx="4876920" cy="16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езентацию подготовила Авакян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ракся 10 б клас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abbc"/>
            </a:gs>
            <a:gs pos="50000">
              <a:srgbClr val="cae4fa"/>
            </a:gs>
            <a:gs pos="100000">
              <a:srgbClr val="98abb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8458200" cy="29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ahoma"/>
              </a:rPr>
              <a:t>Спасибо за внимание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abbc"/>
            </a:gs>
            <a:gs pos="50000">
              <a:srgbClr val="cae4fa"/>
            </a:gs>
            <a:gs pos="100000">
              <a:srgbClr val="98abb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9933ff"/>
                </a:solidFill>
                <a:latin typeface="Times New Roman"/>
              </a:rPr>
              <a:t>Проводники</a:t>
            </a:r>
            <a:endParaRPr b="1" lang="en-US" sz="48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84000" y="2061720"/>
            <a:ext cx="5111640" cy="47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роводниками называются такие материалы, в которых имеются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вободные носители электрических заряд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87120" y="2130120"/>
            <a:ext cx="37861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666699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6012000" y="1700280"/>
            <a:ext cx="2376360" cy="37447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6084720" y="1773360"/>
            <a:ext cx="503280" cy="4730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6084720" y="2492280"/>
            <a:ext cx="503280" cy="47304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4"/>
          <a:stretch/>
        </p:blipFill>
        <p:spPr>
          <a:xfrm>
            <a:off x="7667640" y="1773360"/>
            <a:ext cx="503280" cy="4730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5"/>
          <a:stretch/>
        </p:blipFill>
        <p:spPr>
          <a:xfrm>
            <a:off x="6877080" y="1773360"/>
            <a:ext cx="503280" cy="47304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6"/>
          <a:stretch/>
        </p:blipFill>
        <p:spPr>
          <a:xfrm>
            <a:off x="7667640" y="2492280"/>
            <a:ext cx="503280" cy="4730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7"/>
          <a:stretch/>
        </p:blipFill>
        <p:spPr>
          <a:xfrm>
            <a:off x="6084720" y="3284640"/>
            <a:ext cx="503280" cy="47304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8"/>
          <a:stretch/>
        </p:blipFill>
        <p:spPr>
          <a:xfrm>
            <a:off x="6877080" y="2492280"/>
            <a:ext cx="503280" cy="4730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9"/>
          <a:stretch/>
        </p:blipFill>
        <p:spPr>
          <a:xfrm>
            <a:off x="6588000" y="1844640"/>
            <a:ext cx="339840" cy="33984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10"/>
          <a:stretch/>
        </p:blipFill>
        <p:spPr>
          <a:xfrm>
            <a:off x="7740720" y="2205000"/>
            <a:ext cx="339480" cy="3398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11"/>
          <a:stretch/>
        </p:blipFill>
        <p:spPr>
          <a:xfrm>
            <a:off x="7667640" y="3284640"/>
            <a:ext cx="503280" cy="47304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12"/>
          <a:stretch/>
        </p:blipFill>
        <p:spPr>
          <a:xfrm>
            <a:off x="7020000" y="3284640"/>
            <a:ext cx="503280" cy="47304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13"/>
          <a:stretch/>
        </p:blipFill>
        <p:spPr>
          <a:xfrm>
            <a:off x="6084720" y="4005360"/>
            <a:ext cx="503280" cy="47304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14"/>
          <a:stretch/>
        </p:blipFill>
        <p:spPr>
          <a:xfrm>
            <a:off x="7667640" y="4005360"/>
            <a:ext cx="503280" cy="473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15"/>
          <a:stretch/>
        </p:blipFill>
        <p:spPr>
          <a:xfrm>
            <a:off x="6877080" y="4005360"/>
            <a:ext cx="503280" cy="47304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16"/>
          <a:stretch/>
        </p:blipFill>
        <p:spPr>
          <a:xfrm>
            <a:off x="6084720" y="4797360"/>
            <a:ext cx="503280" cy="47304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17"/>
          <a:stretch/>
        </p:blipFill>
        <p:spPr>
          <a:xfrm>
            <a:off x="6877080" y="4797360"/>
            <a:ext cx="503280" cy="47304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18"/>
          <a:stretch/>
        </p:blipFill>
        <p:spPr>
          <a:xfrm>
            <a:off x="7667640" y="4797360"/>
            <a:ext cx="503280" cy="47304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19"/>
          <a:stretch/>
        </p:blipFill>
        <p:spPr>
          <a:xfrm>
            <a:off x="6588000" y="3357720"/>
            <a:ext cx="339840" cy="33948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20"/>
          <a:stretch/>
        </p:blipFill>
        <p:spPr>
          <a:xfrm>
            <a:off x="6156360" y="4437000"/>
            <a:ext cx="339840" cy="33984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1"/>
          <a:stretch/>
        </p:blipFill>
        <p:spPr>
          <a:xfrm>
            <a:off x="6156360" y="2924280"/>
            <a:ext cx="339840" cy="33948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2"/>
          <a:stretch/>
        </p:blipFill>
        <p:spPr>
          <a:xfrm>
            <a:off x="6516720" y="4869000"/>
            <a:ext cx="339840" cy="33948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23"/>
          <a:stretch/>
        </p:blipFill>
        <p:spPr>
          <a:xfrm>
            <a:off x="7308720" y="4869000"/>
            <a:ext cx="339840" cy="33948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24"/>
          <a:stretch/>
        </p:blipFill>
        <p:spPr>
          <a:xfrm>
            <a:off x="7812000" y="2924280"/>
            <a:ext cx="339840" cy="33948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25"/>
          <a:stretch/>
        </p:blipFill>
        <p:spPr>
          <a:xfrm>
            <a:off x="7380360" y="1844640"/>
            <a:ext cx="339480" cy="33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7037E-007 C 0.16198 -0.00278 0.13038 0.03426 0.13038 -0.05972 E">
                                      <p:cBhvr>
                                        <p:cTn id="16" dur="5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0.00809 L -0.01024 0.10913 E">
                                      <p:cBhvr>
                                        <p:cTn id="18" dur="30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1.85185E-006 C -0.00434 0.01783 -0.00781 0.03611 0.00538 0.04491 C 0.01094 0.05417 0.02552 0.05301 0.03455 0.05417 C 0.04358 0.05533 0.05521 0.05255 0.05955 0.05232 C 0.06441 0.0544 0.06407 0.05718 0.06094 0.05278 C 0.06268 0.05185 0.06545 0.05093 0.06736 0.0507 C 0.07847 0.04884 0.08316 0.05556 0.09427 0.05486 C 0.10209 0.05232 0.12275 0.0507 0.13073 0.0507 E">
                                      <p:cBhvr>
                                        <p:cTn id="20" dur="5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4.04624E-006 C -0.01215 4.04624E-006 -0.04305 0.00323 -0.05711 0.003 C -0.07118 0.00277 -0.07222 -0.00024 -0.0842 -0.00139 C -0.09618 -0.00255 -0.1217 0.0037 -0.12864 -0.00347 C -0.12673 -0.02891 -0.12552 -0.02474 -0.12552 -0.0444 E">
                                      <p:cBhvr>
                                        <p:cTn id="22" dur="5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83237E-006 C 0.00087 -0.00878 0.00295 -0.04254 0.00903 -0.04901 C 0.01945 -0.06011 0.04722 -0.05526 0.04879 -0.05734 E">
                                      <p:cBhvr>
                                        <p:cTn id="24" dur="5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7.40741E-007 C 0.01389 0.0044 0.01319 0.00393 0.03177 0.00208 C 0.03542 -0.00509 0.03993 -0.0088 0.04444 -0.01482 C 0.04497 -0.0169 0.04601 -0.01898 0.04601 -0.02107 C 0.04601 -0.05 0.04254 -0.06713 0.04149 -0.09607 C 0.0408 -0.11412 0.0026 -0.1088 0.0026 -0.09954 E">
                                      <p:cBhvr>
                                        <p:cTn id="26" dur="5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-2.83237E-006 C -0.0026 -0.01341 0.00035 -0.02982 0.00677 -0.04254 C 0.00729 -0.04462 0.00174 -0.04092 0.00313 -0.04231 C 0.00885 -0.04786 0.02951 -0.05896 0.03385 -0.05942 C 0.05191 -0.05826 0.06354 -0.05942 0.08142 -0.06381 C 0.08333 -0.06427 0.09045 -0.06404 0.09097 -0.06589 C 0.09045 -0.07861 0.09601 -0.0867 0.09514 -0.09942 C 0.09497 -0.1015 0.08941 -0.10844 0.08941 -0.10821 E">
                                      <p:cBhvr>
                                        <p:cTn id="28" dur="50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12 -0.0007 C -0.01059 2.59258999999997E-006 -0.03716 -0.00371 -0.04445 0.02222 C -0.04393 0.03565 -0.05 0.03865 -0.04914 0.05208 C -0.0474 0.07639 -0.04757 0.05092 -0.04757 0.06065 E">
                                      <p:cBhvr>
                                        <p:cTn id="30" dur="3000" fill="hold"/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4.44444E-006 -0.00069 C -0.00052 0.00139 0.00053 0.00925 -0.00034 0.0111 C -0.00104 0.01295 -0.00451 0.00786 -0.00468 0.00994 C -0.00225 0.01549 -0.00607 0.03376 0.00122 0.04069 C 0.00851 0.04763 0.0283 0.05318 0.03941 0.0511 C 0.0441 0.04902 0.03316 0.05249 0.03941 0.05249 E">
                                      <p:cBhvr>
                                        <p:cTn id="32" dur="5000" fill="hold"/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abbc"/>
            </a:gs>
            <a:gs pos="50000">
              <a:srgbClr val="cae4fa"/>
            </a:gs>
            <a:gs pos="100000">
              <a:srgbClr val="98abb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5076720" y="1197000"/>
            <a:ext cx="3527640" cy="5041800"/>
          </a:xfrm>
          <a:prstGeom prst="rect">
            <a:avLst/>
          </a:prstGeom>
          <a:solidFill>
            <a:srgbClr val="fedef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5651640" y="1773360"/>
            <a:ext cx="2422440" cy="3671640"/>
          </a:xfrm>
          <a:prstGeom prst="rect">
            <a:avLst/>
          </a:prstGeom>
          <a:ln w="0">
            <a:noFill/>
          </a:ln>
        </p:spPr>
      </p:pic>
      <p:grpSp>
        <p:nvGrpSpPr>
          <p:cNvPr id="295" name=""/>
          <p:cNvGrpSpPr/>
          <p:nvPr/>
        </p:nvGrpSpPr>
        <p:grpSpPr>
          <a:xfrm>
            <a:off x="5655960" y="1989000"/>
            <a:ext cx="2413080" cy="2951280"/>
            <a:chOff x="5655960" y="1989000"/>
            <a:chExt cx="2413080" cy="2951280"/>
          </a:xfrm>
        </p:grpSpPr>
        <p:sp>
          <p:nvSpPr>
            <p:cNvPr id="296" name=""/>
            <p:cNvSpPr/>
            <p:nvPr/>
          </p:nvSpPr>
          <p:spPr>
            <a:xfrm flipH="1">
              <a:off x="5655960" y="2421000"/>
              <a:ext cx="241308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5655960" y="2924280"/>
              <a:ext cx="241308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5655960" y="3500280"/>
              <a:ext cx="241308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5655960" y="3932280"/>
              <a:ext cx="241308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5655960" y="4437000"/>
              <a:ext cx="241308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5655960" y="4940280"/>
              <a:ext cx="241308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5655960" y="1989000"/>
              <a:ext cx="241308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8069400" y="1844640"/>
            <a:ext cx="318960" cy="31428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8069400" y="3355920"/>
            <a:ext cx="318960" cy="31428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4"/>
          <a:stretch/>
        </p:blipFill>
        <p:spPr>
          <a:xfrm>
            <a:off x="8069400" y="2852640"/>
            <a:ext cx="318960" cy="31428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5"/>
          <a:stretch/>
        </p:blipFill>
        <p:spPr>
          <a:xfrm>
            <a:off x="8069400" y="3789360"/>
            <a:ext cx="318960" cy="31428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6"/>
          <a:stretch/>
        </p:blipFill>
        <p:spPr>
          <a:xfrm>
            <a:off x="8069400" y="4292640"/>
            <a:ext cx="318960" cy="31428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7"/>
          <a:stretch/>
        </p:blipFill>
        <p:spPr>
          <a:xfrm>
            <a:off x="8069400" y="4797360"/>
            <a:ext cx="318960" cy="31428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8"/>
          <a:stretch/>
        </p:blipFill>
        <p:spPr>
          <a:xfrm>
            <a:off x="8069400" y="5229360"/>
            <a:ext cx="318960" cy="31428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9"/>
          <a:stretch/>
        </p:blipFill>
        <p:spPr>
          <a:xfrm>
            <a:off x="5292720" y="2924280"/>
            <a:ext cx="338040" cy="20952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10"/>
          <a:stretch/>
        </p:blipFill>
        <p:spPr>
          <a:xfrm>
            <a:off x="5292720" y="2421000"/>
            <a:ext cx="338040" cy="20952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11"/>
          <a:stretch/>
        </p:blipFill>
        <p:spPr>
          <a:xfrm>
            <a:off x="5292720" y="1916280"/>
            <a:ext cx="338040" cy="20952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12"/>
          <a:stretch/>
        </p:blipFill>
        <p:spPr>
          <a:xfrm>
            <a:off x="5292720" y="3429000"/>
            <a:ext cx="338040" cy="20952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13"/>
          <a:stretch/>
        </p:blipFill>
        <p:spPr>
          <a:xfrm>
            <a:off x="5292720" y="3860640"/>
            <a:ext cx="338040" cy="2098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14"/>
          <a:stretch/>
        </p:blipFill>
        <p:spPr>
          <a:xfrm>
            <a:off x="5292720" y="4365720"/>
            <a:ext cx="338040" cy="2095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15"/>
          <a:stretch/>
        </p:blipFill>
        <p:spPr>
          <a:xfrm>
            <a:off x="5292720" y="4869000"/>
            <a:ext cx="338040" cy="20952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16"/>
          <a:stretch/>
        </p:blipFill>
        <p:spPr>
          <a:xfrm>
            <a:off x="5292720" y="5229360"/>
            <a:ext cx="338040" cy="20952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33ff"/>
                </a:solidFill>
                <a:latin typeface="Times New Roman"/>
              </a:rPr>
              <a:t>Заряд внутри проводника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26560" y="2349360"/>
            <a:ext cx="40388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 принципу суперпозиции полей напряжённость внутри проводника равна нул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6243480" y="5597640"/>
                <a:ext cx="17510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21" name=""/>
          <p:cNvGrpSpPr/>
          <p:nvPr/>
        </p:nvGrpSpPr>
        <p:grpSpPr>
          <a:xfrm>
            <a:off x="5435640" y="1628640"/>
            <a:ext cx="2925720" cy="3527640"/>
            <a:chOff x="5435640" y="1628640"/>
            <a:chExt cx="2925720" cy="3527640"/>
          </a:xfrm>
        </p:grpSpPr>
        <p:sp>
          <p:nvSpPr>
            <p:cNvPr id="322" name=""/>
            <p:cNvSpPr/>
            <p:nvPr/>
          </p:nvSpPr>
          <p:spPr>
            <a:xfrm>
              <a:off x="5437080" y="2708280"/>
              <a:ext cx="2924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437080" y="3213000"/>
              <a:ext cx="2924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437080" y="3716280"/>
              <a:ext cx="2924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437080" y="4148280"/>
              <a:ext cx="2924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437080" y="4653000"/>
              <a:ext cx="2924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437080" y="5156280"/>
              <a:ext cx="2924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437080" y="1628640"/>
              <a:ext cx="2924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435640" y="2205000"/>
              <a:ext cx="2879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30" name="" descr=""/>
          <p:cNvPicPr/>
          <p:nvPr/>
        </p:nvPicPr>
        <p:blipFill>
          <a:blip r:embed="rId17"/>
          <a:stretch/>
        </p:blipFill>
        <p:spPr>
          <a:xfrm>
            <a:off x="8101080" y="1844640"/>
            <a:ext cx="314280" cy="314280"/>
          </a:xfrm>
          <a:prstGeom prst="rect">
            <a:avLst/>
          </a:prstGeom>
          <a:ln w="0">
            <a:noFill/>
          </a:ln>
        </p:spPr>
      </p:pic>
      <p:grpSp>
        <p:nvGrpSpPr>
          <p:cNvPr id="331" name=""/>
          <p:cNvGrpSpPr/>
          <p:nvPr/>
        </p:nvGrpSpPr>
        <p:grpSpPr>
          <a:xfrm>
            <a:off x="6084720" y="5589720"/>
            <a:ext cx="646200" cy="0"/>
            <a:chOff x="6084720" y="5589720"/>
            <a:chExt cx="646200" cy="0"/>
          </a:xfrm>
        </p:grpSpPr>
        <p:sp>
          <p:nvSpPr>
            <p:cNvPr id="332" name=""/>
            <p:cNvSpPr/>
            <p:nvPr/>
          </p:nvSpPr>
          <p:spPr>
            <a:xfrm>
              <a:off x="6084720" y="5589720"/>
              <a:ext cx="144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588000" y="5589720"/>
              <a:ext cx="1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7164360" y="558972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6877080" y="1268280"/>
                <a:ext cx="3524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6" name=""/>
          <p:cNvSpPr/>
          <p:nvPr/>
        </p:nvSpPr>
        <p:spPr>
          <a:xfrm>
            <a:off x="6948360" y="1268280"/>
            <a:ext cx="14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6877080" y="2349360"/>
                <a:ext cx="36036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Е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8" name=""/>
          <p:cNvSpPr/>
          <p:nvPr/>
        </p:nvSpPr>
        <p:spPr>
          <a:xfrm>
            <a:off x="6948360" y="2349360"/>
            <a:ext cx="14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8"/>
          <a:stretch/>
        </p:blipFill>
        <p:spPr>
          <a:xfrm>
            <a:off x="8101080" y="227664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826920" y="3860640"/>
            <a:ext cx="4038840" cy="22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ледовательно, поток напряженности через любую замкнутую поверхность  внутри проводника равен нулю. Значит, и заряд внутри этой поверхности  равен нул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6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324000" y="1413000"/>
            <a:ext cx="864216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Явление разделения разноимённых зарядов в проводнике, помещённом в электрическое поле, называется электростатической индукцией.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33ff"/>
                </a:solidFill>
                <a:latin typeface="Times New Roman"/>
              </a:rPr>
              <a:t>Электростатическая индукция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2124000" y="3284640"/>
            <a:ext cx="5688000" cy="325260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7020000" y="3789360"/>
            <a:ext cx="216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2916360" y="3573360"/>
            <a:ext cx="4390920" cy="2735280"/>
            <a:chOff x="2916360" y="3573360"/>
            <a:chExt cx="4390920" cy="2735280"/>
          </a:xfrm>
        </p:grpSpPr>
        <p:sp>
          <p:nvSpPr>
            <p:cNvPr id="346" name=""/>
            <p:cNvSpPr/>
            <p:nvPr/>
          </p:nvSpPr>
          <p:spPr>
            <a:xfrm>
              <a:off x="2916360" y="3573360"/>
              <a:ext cx="4319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987640" y="6308640"/>
              <a:ext cx="4319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564000" y="4437000"/>
              <a:ext cx="3024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564000" y="4797360"/>
              <a:ext cx="3024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564000" y="5157720"/>
              <a:ext cx="3024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64000" y="5877000"/>
              <a:ext cx="3024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564000" y="5516640"/>
              <a:ext cx="3024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564000" y="4076640"/>
              <a:ext cx="3024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877080" y="3716280"/>
              <a:ext cx="36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Monotype Corsiva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4356000" y="3716280"/>
            <a:ext cx="1440000" cy="252108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3"/>
          <a:stretch/>
        </p:blipFill>
        <p:spPr>
          <a:xfrm>
            <a:off x="5076720" y="3789360"/>
            <a:ext cx="439920" cy="241452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4"/>
          <a:stretch/>
        </p:blipFill>
        <p:spPr>
          <a:xfrm>
            <a:off x="4716360" y="3789360"/>
            <a:ext cx="393840" cy="242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7037E-007 L 0.01562 3.7037E-007 E">
                                      <p:cBhvr>
                                        <p:cTn id="103" dur="200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7037E-006 L -0.0158 -3.7037E-006 E">
                                      <p:cBhvr>
                                        <p:cTn id="105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e4fa"/>
            </a:gs>
            <a:gs pos="100000">
              <a:srgbClr val="98abb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547640" y="549000"/>
            <a:ext cx="54007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амыми известными  </a:t>
            </a:r>
            <a:r>
              <a:rPr b="0" lang="en-US" sz="3200" spc="-1" strike="noStrike">
                <a:solidFill>
                  <a:srgbClr val="010199"/>
                </a:solidFill>
                <a:latin typeface="Times New Roman"/>
              </a:rPr>
              <a:t>электрическими рыбам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являют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1042920" y="3357720"/>
            <a:ext cx="2808360" cy="219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5508720" y="3429000"/>
            <a:ext cx="2808360" cy="2097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61" name=""/>
          <p:cNvSpPr/>
          <p:nvPr/>
        </p:nvSpPr>
        <p:spPr>
          <a:xfrm>
            <a:off x="468360" y="2637000"/>
            <a:ext cx="4356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электрический ска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003640" y="2637000"/>
            <a:ext cx="367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электрический угор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427640" y="2637000"/>
            <a:ext cx="360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374999977648258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875"/>
                            </p:stCondLst>
                            <p:childTnLst>
                              <p:par>
                                <p:cTn id="11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250" autoRev="1" fill="hold"/>
                                        <p:tgtEl>
                                          <p:spTgt spid="3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375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374999977648258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45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374999977648258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375"/>
                            </p:stCondLst>
                            <p:childTnLst>
                              <p:par>
                                <p:cTn id="12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" dur="250" autoRev="1" fill="hold"/>
                                        <p:tgtEl>
                                          <p:spTgt spid="3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abbc"/>
            </a:gs>
            <a:gs pos="50000">
              <a:srgbClr val="cae4fa"/>
            </a:gs>
            <a:gs pos="100000">
              <a:srgbClr val="98abb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5435640" y="1484280"/>
            <a:ext cx="3233520" cy="4319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9933ff"/>
                </a:solidFill>
                <a:latin typeface="Times New Roman"/>
              </a:rPr>
              <a:t>Диэлектрики</a:t>
            </a:r>
            <a:endParaRPr b="1" lang="en-US" sz="48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58600" y="1926720"/>
            <a:ext cx="411948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иэлектриками называются материалы, в которых нет свободных электрических заряд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rcRect l="61126" t="53201" r="16649" b="31950"/>
          <a:stretch/>
        </p:blipFill>
        <p:spPr>
          <a:xfrm>
            <a:off x="5508720" y="1557360"/>
            <a:ext cx="576000" cy="50328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3"/>
          <a:srcRect l="2828" t="4275" r="69450" b="78769"/>
          <a:stretch/>
        </p:blipFill>
        <p:spPr>
          <a:xfrm>
            <a:off x="6156360" y="2997360"/>
            <a:ext cx="719280" cy="57456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4"/>
          <a:srcRect l="27801" t="36163" r="41649" b="48988"/>
          <a:stretch/>
        </p:blipFill>
        <p:spPr>
          <a:xfrm>
            <a:off x="6227640" y="4221000"/>
            <a:ext cx="792360" cy="50328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5"/>
          <a:srcRect l="47278" t="51095" r="41649" b="27675"/>
          <a:stretch/>
        </p:blipFill>
        <p:spPr>
          <a:xfrm>
            <a:off x="5796000" y="3068640"/>
            <a:ext cx="287280" cy="71928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6"/>
          <a:srcRect l="36152" t="6382" r="36152" b="82982"/>
          <a:stretch/>
        </p:blipFill>
        <p:spPr>
          <a:xfrm>
            <a:off x="7020000" y="3141720"/>
            <a:ext cx="718920" cy="36036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7"/>
          <a:srcRect l="2828" t="4275" r="69450" b="78769"/>
          <a:stretch/>
        </p:blipFill>
        <p:spPr>
          <a:xfrm>
            <a:off x="7885080" y="1484280"/>
            <a:ext cx="719280" cy="57456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8"/>
          <a:srcRect l="27801" t="36163" r="41649" b="48988"/>
          <a:stretch/>
        </p:blipFill>
        <p:spPr>
          <a:xfrm>
            <a:off x="7667640" y="5084640"/>
            <a:ext cx="792000" cy="50328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9"/>
          <a:srcRect l="36152" t="6382" r="36152" b="82982"/>
          <a:stretch/>
        </p:blipFill>
        <p:spPr>
          <a:xfrm>
            <a:off x="5651640" y="5157720"/>
            <a:ext cx="718920" cy="36036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10"/>
          <a:srcRect l="47278" t="51095" r="41649" b="27675"/>
          <a:stretch/>
        </p:blipFill>
        <p:spPr>
          <a:xfrm>
            <a:off x="7020000" y="1628640"/>
            <a:ext cx="287280" cy="71928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11"/>
          <a:srcRect l="47278" t="51095" r="41649" b="27675"/>
          <a:stretch/>
        </p:blipFill>
        <p:spPr>
          <a:xfrm>
            <a:off x="6732720" y="5084640"/>
            <a:ext cx="287280" cy="71928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12"/>
          <a:srcRect l="61126" t="53201" r="16649" b="34056"/>
          <a:stretch/>
        </p:blipFill>
        <p:spPr>
          <a:xfrm>
            <a:off x="5580000" y="4365720"/>
            <a:ext cx="576360" cy="43164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13"/>
          <a:srcRect l="33377" t="36163" r="41649" b="48988"/>
          <a:stretch/>
        </p:blipFill>
        <p:spPr>
          <a:xfrm>
            <a:off x="6300720" y="1484280"/>
            <a:ext cx="647640" cy="50328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14"/>
          <a:srcRect l="36152" t="6382" r="38848" b="82982"/>
          <a:stretch/>
        </p:blipFill>
        <p:spPr>
          <a:xfrm>
            <a:off x="7812000" y="3789360"/>
            <a:ext cx="649440" cy="36036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971640" y="3645000"/>
            <a:ext cx="38163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255960" indent="176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уществует три вида диэлектриков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полярные, неполярные и сегнетоэлектри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6 -0.01273 C 0.00121 0.00116 0.03351 0.01574 0.03663 0.02986 C 0.03871 0.03912 0.02674 0.05254 0.03385 0.05579 C 0.04045 0.06458 0.01979 0.06458 0.02639 0.07778 C 0.0283 0.08148 0.03194 0.08264 0.03472 0.08518 C 0.03628 0.08657 0.03715 0.08958 0.03889 0.09074 C 0.04097 0.09213 0.04358 0.0919 0.04583 0.09259 C 0.04913 0.09491 0.05191 0.09907 0.05555 0.1 C 0.0658 0.10254 0.08455 0.10185 0.09444 0.10185 E">
                                      <p:cBhvr>
                                        <p:cTn id="131" dur="5000" fill="hold"/>
                                        <p:tgtEl>
                                          <p:spTgt spid="3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77778E-006 1.11111E-006 C 0.00937 0.00741 0.01926 0.01459 0.02638 0.02593 C 0.03107 0.03334 0.03419 0.04306 0.04027 0.04815 C 0.04565 0.05278 0.05086 0.05394 0.05555 0.05926 C 0.06093 0.06528 0.06683 0.07292 0.0736 0.07593 C 0.0776 0.0838 0.08211 0.08542 0.08749 0.09074 C 0.09843 0.10162 0.10902 0.11829 0.12222 0.12408 C 0.1243 0.12824 0.12621 0.13334 0.13055 0.13334 E">
                                      <p:cBhvr>
                                        <p:cTn id="133" dur="5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16 -0.00324 C 0.00799 -0.00949 0.00955 -0.01806 0.00868 -0.02431 C 0.00868 -0.02894 0.00816 -0.03148 0.00781 -0.03634 C 0.00833 -0.03727 0.00851 -0.03866 0.00816 -0.03982 C 0.00799 -0.0463 0.00712 -0.04144 0.00729 -0.04792 C 0.0059 -0.05764 0.00729 -0.05324 0.00677 -0.06042 C 0.00729 -0.0632 0.00677 -0.06597 0.0066 -0.06875 C 0.00677 -0.06991 0.00608 -0.07292 0.00608 -0.07269 C 0.00764 -0.07894 0.00608 -0.08333 0.00608 -0.08935 C 0.00677 -0.09282 0.00677 -0.09792 0.00712 -0.10046 C 0.0066 -0.10972 0.00521 -0.11921 0.00469 -0.12824 C 0.00365 -0.13357 0.00347 -0.1382 0.00365 -0.14398 C 0.00642 -0.16412 0.00747 -0.18495 0.00816 -0.20509 C 0.01042 -0.22199 0.00938 -0.22708 0.00938 -0.24213 C 0.0099 -0.24491 0.01059 -0.24861 0.01094 -0.24977 E">
                                      <p:cBhvr>
                                        <p:cTn id="135" dur="50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4.07407E-006 C -0.00607 -0.0206 -0.01059 -0.04143 -0.01388 -0.06296 C -0.01493 -0.08888 -0.01388 -0.09189 -0.01388 -0.11296 E">
                                      <p:cBhvr>
                                        <p:cTn id="137" dur="5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7037E-007 C 0.00122 -0.02037 0.0033 -0.0412 0.00695 -0.06111 C 0.00834 -0.09097 0.01389 -0.12199 0.01389 -0.15185 E">
                                      <p:cBhvr>
                                        <p:cTn id="139" dur="5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3.7037E-007 C -0.00173 0.00648 -0.0026 0.01296 -0.00312 0.01944 C -0.00364 0.02268 -0.00416 0.0294 -0.00416 0.02963 C -0.00312 0.08866 -0.0033 0.14375 0.0158 0.17338 E">
                                      <p:cBhvr>
                                        <p:cTn id="141" dur="50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00301 C -4.16667000000003E-006 0.04004 0.01355 0.07153 0.01441 0.10856 C 0.01459 0.11805 0.00521 0.1331 0.00973 0.14074 C 0.0125 0.1456 0.02223 0.14815 0.02223 0.14838 C 0.03316 0.16273 0.02778 0.1493 0.04532 0.1493 E">
                                      <p:cBhvr>
                                        <p:cTn id="143" dur="500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33333E-006 C 0.00799 0.00718 0.00017 0.00139 0.01389 0.00556 C 0.01667 0.00648 0.02222 0.00926 0.02222 0.00926 C 0.02656 0.01505 0.03108 0.01945 0.03611 0.02408 C 0.03889 0.02662 0.04445 0.03148 0.04445 0.03148 C 0.04774 0.04468 0.04306 0.02871 0.05 0.04259 C 0.05452 0.05139 0.05816 0.06505 0.05833 0.07593 C 0.05868 0.09514 0.05833 0.11412 0.05833 0.13333 E">
                                      <p:cBhvr>
                                        <p:cTn id="145" dur="50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0.00278 C -0.0085 0.01574 -0.01303 0.01135 -0.02083 0.01667 C -0.02239 0.0176 -0.02327 0.02014 -0.025 0.02037 C -0.03749 0.02199 -0.05 0.02153 -0.0625 0.02223 C -0.07657 0.02686 -0.06615 0.02408 -0.09445 0.02408 E">
                                      <p:cBhvr>
                                        <p:cTn id="147" dur="50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22222E-006 C -0.00799 -0.00208 -0.01285 -0.00717 -0.01945 -0.01296 C -0.02223 -0.01551 -0.02778 -0.02037 -0.02778 -0.02037 C -0.03334 -0.03148 -0.04028 -0.04907 -0.04028 -0.06296 E">
                                      <p:cBhvr>
                                        <p:cTn id="149" dur="50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C -0.00504 -0.0345 -0.00452 -0.04098 -0.01111 -0.07547 C 3.33333000000075E-006 -0.08287 -0.01389 -0.1176 -0.01389 -0.12176 E">
                                      <p:cBhvr>
                                        <p:cTn id="151" dur="5000" fill="hold"/>
                                        <p:tgtEl>
                                          <p:spTgt spid="3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85185E-006 C -0.01303 0.00069 -0.02605 0.00023 -0.03889 0.00185 C -0.04184 0.00208 -0.0448 0.00347 -0.04723 0.00555 C -0.04862 0.00671 -0.04966 0.00903 -0.05139 0.00926 C -0.05868 0.01018 -0.06615 0.00926 -0.07362 0.00926 E">
                                      <p:cBhvr>
                                        <p:cTn id="153" dur="50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95 -0.05046 C 0.00295 -0.05162 0.00017 -0.16365 0.00712 -0.1912 C 0.00781 -0.20138 0.01111 -0.21736 0.01128 -0.22824 C 0.01163 -0.24861 0.01128 -0.26898 0.01128 -0.28935 E">
                                      <p:cBhvr>
                                        <p:cTn id="155" dur="5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abbc"/>
            </a:gs>
            <a:gs pos="100000">
              <a:srgbClr val="cae4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4788000" y="2205000"/>
            <a:ext cx="3744720" cy="237636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9933ff"/>
                </a:solidFill>
                <a:latin typeface="Times New Roman"/>
              </a:rPr>
              <a:t>Поляризация диэлектриков</a:t>
            </a:r>
            <a:endParaRPr b="1" lang="en-US" sz="48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99640" y="2060640"/>
            <a:ext cx="370692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Момент силы стремится повернуть диполь так, чтобы его ось была направлена по линии напряжённости пол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003640" y="2781360"/>
            <a:ext cx="3168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003640" y="4292640"/>
            <a:ext cx="3168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667640" y="2349360"/>
            <a:ext cx="50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812000" y="242100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5867280" y="3213000"/>
            <a:ext cx="1513080" cy="68436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08720" y="350028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5508720" y="3500280"/>
            <a:ext cx="504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1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33ff"/>
                                      </p:to>
                                    </p:animClr>
                                    <p:animClr clrSpc="rgb">
                                      <p:cBhvr>
                                        <p:cTn id="199" dur="1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33ff"/>
                                      </p:to>
                                    </p:animClr>
                                    <p:set>
                                      <p:cBhvr>
                                        <p:cTn id="200" dur="1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0"/>
                            </p:stCondLst>
                            <p:childTnLst>
                              <p:par>
                                <p:cTn id="207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1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33ff"/>
                                      </p:to>
                                    </p:animClr>
                                    <p:animClr clrSpc="rgb">
                                      <p:cBhvr>
                                        <p:cTn id="209" dur="1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33ff"/>
                                      </p:to>
                                    </p:animClr>
                                    <p:set>
                                      <p:cBhvr>
                                        <p:cTn id="210" dur="1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6000"/>
                            </p:stCondLst>
                            <p:childTnLst>
                              <p:par>
                                <p:cTn id="217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8" dur="1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33ff"/>
                                      </p:to>
                                    </p:animClr>
                                    <p:animClr clrSpc="rgb">
                                      <p:cBhvr>
                                        <p:cTn id="219" dur="1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33ff"/>
                                      </p:to>
                                    </p:animClr>
                                    <p:set>
                                      <p:cBhvr>
                                        <p:cTn id="220" dur="1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7000"/>
                            </p:stCondLst>
                            <p:childTnLst>
                              <p:par>
                                <p:cTn id="227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1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33ff"/>
                                      </p:to>
                                    </p:animClr>
                                    <p:animClr clrSpc="rgb">
                                      <p:cBhvr>
                                        <p:cTn id="229" dur="1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33ff"/>
                                      </p:to>
                                    </p:animClr>
                                    <p:set>
                                      <p:cBhvr>
                                        <p:cTn id="230" dur="1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abbc"/>
            </a:gs>
            <a:gs pos="100000">
              <a:srgbClr val="cae4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" descr=""/>
          <p:cNvPicPr/>
          <p:nvPr/>
        </p:nvPicPr>
        <p:blipFill>
          <a:blip r:embed="rId1"/>
          <a:srcRect l="0" t="0" r="0" b="2676"/>
          <a:stretch/>
        </p:blipFill>
        <p:spPr>
          <a:xfrm>
            <a:off x="179280" y="2276640"/>
            <a:ext cx="4753080" cy="2595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99"/>
                </a:solidFill>
                <a:latin typeface="Microsoft Sans Serif"/>
              </a:rPr>
              <a:t>Конденсаторы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"/>
          <p:cNvSpPr/>
          <p:nvPr/>
        </p:nvSpPr>
        <p:spPr>
          <a:xfrm>
            <a:off x="4716360" y="1628640"/>
            <a:ext cx="4284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99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онденсатор электрический – система из двух или более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электродов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обкладок),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разделённых диэлектрико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толщина которого мала по сравнению с размерами обкладо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851280" y="3860640"/>
            <a:ext cx="79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4356000" y="44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2"/>
          <a:srcRect l="8420" t="0" r="0" b="0"/>
          <a:stretch/>
        </p:blipFill>
        <p:spPr>
          <a:xfrm>
            <a:off x="4067280" y="2852640"/>
            <a:ext cx="796680" cy="1440000"/>
          </a:xfrm>
          <a:prstGeom prst="rect">
            <a:avLst/>
          </a:prstGeom>
          <a:ln w="0">
            <a:noFill/>
          </a:ln>
        </p:spPr>
      </p:pic>
      <p:grpSp>
        <p:nvGrpSpPr>
          <p:cNvPr id="397" name=""/>
          <p:cNvGrpSpPr/>
          <p:nvPr/>
        </p:nvGrpSpPr>
        <p:grpSpPr>
          <a:xfrm>
            <a:off x="1332000" y="3213000"/>
            <a:ext cx="2305080" cy="792000"/>
            <a:chOff x="1332000" y="3213000"/>
            <a:chExt cx="2305080" cy="792000"/>
          </a:xfrm>
        </p:grpSpPr>
        <p:sp>
          <p:nvSpPr>
            <p:cNvPr id="398" name=""/>
            <p:cNvSpPr/>
            <p:nvPr/>
          </p:nvSpPr>
          <p:spPr>
            <a:xfrm>
              <a:off x="1332000" y="3213000"/>
              <a:ext cx="0" cy="7920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197080" y="3213000"/>
              <a:ext cx="0" cy="79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84360" y="3213000"/>
              <a:ext cx="0" cy="79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773440" y="3213000"/>
              <a:ext cx="0" cy="79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060720" y="3213000"/>
              <a:ext cx="0" cy="79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349800" y="3213000"/>
              <a:ext cx="0" cy="79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37080" y="3213000"/>
              <a:ext cx="0" cy="79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908360" y="3213000"/>
              <a:ext cx="0" cy="79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620720" y="3213000"/>
              <a:ext cx="0" cy="79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07" name="" descr=""/>
          <p:cNvPicPr/>
          <p:nvPr/>
        </p:nvPicPr>
        <p:blipFill>
          <a:blip r:embed="rId3"/>
          <a:stretch/>
        </p:blipFill>
        <p:spPr>
          <a:xfrm>
            <a:off x="179280" y="2781360"/>
            <a:ext cx="874800" cy="147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abbc"/>
            </a:gs>
            <a:gs pos="50000">
              <a:srgbClr val="cae4fa"/>
            </a:gs>
            <a:gs pos="100000">
              <a:srgbClr val="98abb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Times New Roman"/>
              </a:rPr>
              <a:t>Применение диэлектриков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402920" y="1773000"/>
            <a:ext cx="727236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Диэлектрики используютс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 науке и технике как электроизоляционные материалы, как конденсаторные материал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 вычислительной техник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 оптик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1T15:17:16Z</dcterms:created>
  <dc:creator>Юля</dc:creator>
  <dc:description/>
  <dc:language>en-US</dc:language>
  <cp:lastModifiedBy>дом</cp:lastModifiedBy>
  <dcterms:modified xsi:type="dcterms:W3CDTF">2015-04-08T14:51:35Z</dcterms:modified>
  <cp:revision>57</cp:revision>
  <dc:subject/>
  <dc:title>Тема: «Проводники и диэлектрики в электрическом поле»</dc:title>
</cp:coreProperties>
</file>