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BC4-2B60-4123-B5A7-9661E060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5DC-23B6-4BFB-A15B-05E6B37B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EEF-DDB5-4D8B-8126-2AD229B0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0A6-243B-4220-92DC-142C8E08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E39-55CC-462B-9B72-EF08E854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4999-80F4-41FD-8DC8-490BC8A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BAE-909D-4515-8963-724D926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855-1635-4C76-8CFB-43323198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AB1-D75B-4C33-BD28-7CB1423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D1B1-A85C-4DD8-BD50-C911E80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3AE5-97A5-45FC-AEDF-E2BDA7B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AEA-D420-4AB2-B23F-EFEDE37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D59-1CF8-4FA1-B413-8DCDAA16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13D-2DB6-43BB-B876-CFC67702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E82-3112-4781-B35E-C7921EF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24B3-C7A3-4A1E-97B1-2113FCB5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51BC-B08E-47CE-8CEB-3FA5CE3B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9C9-9A5A-4F39-9A8E-65B4978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80A-7CDC-4023-89D6-112905F1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F89-FDAB-42EE-BE8A-A8D7BAB8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406-45D5-47C9-8408-4A6B2FE2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E24-48CB-42F4-A47B-2392F81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755-4FB9-4BD1-AE56-551F8799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5A7-EE9E-4073-B417-8EAE6CF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5956-7D2F-4201-B438-9B553903E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915B-A7D6-4164-A184-C4A86E76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62699"/>
                </a:solidFill>
                <a:latin typeface="Times New Roman"/>
              </a:rPr>
              <a:t>Родительское собрание для родителей будущих первоклассник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143000" y="142884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Times New Roman"/>
              </a:rPr>
              <a:t>Если  вы ответили утвердительно на </a:t>
            </a: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10-14 вопросов</a:t>
            </a:r>
            <a:r>
              <a:rPr b="0" lang="ru-RU" sz="2800" spc="-1" strike="noStrike">
                <a:solidFill>
                  <a:srgbClr val="262699"/>
                </a:solidFill>
                <a:latin typeface="Times New Roman"/>
              </a:rPr>
              <a:t>, то вы на верном пути. За время занятий он многому научился и многое узнал. А те вопросы, на которые вы ответили отрицательно, укажут вам, на какие моменты нужно обратить внимание, в чем ещё надо потренироваться с ребён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643040" y="857160"/>
            <a:ext cx="65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4d"/>
                </a:solidFill>
                <a:latin typeface="Times New Roman"/>
              </a:rPr>
              <a:t>В том случае, если количество утвердительных ответов </a:t>
            </a:r>
            <a:r>
              <a:rPr b="1" lang="ru-RU" sz="3600" spc="-1" strike="noStrike">
                <a:solidFill>
                  <a:srgbClr val="00664d"/>
                </a:solidFill>
                <a:latin typeface="Times New Roman"/>
              </a:rPr>
              <a:t>9 или менее</a:t>
            </a:r>
            <a:r>
              <a:rPr b="0" lang="ru-RU" sz="3600" spc="-1" strike="noStrike">
                <a:solidFill>
                  <a:srgbClr val="00664d"/>
                </a:solidFill>
                <a:latin typeface="Times New Roman"/>
              </a:rPr>
              <a:t>, вам следует больше уделять времени и внимания занятиям с ребёнком. Он ещё не совсем готов пойти в школу. Поэтому ваша задача- систематически заниматься с малышом.</a:t>
            </a:r>
            <a:r>
              <a:rPr b="1" lang="ru-RU" sz="3600" spc="-1" strike="noStrike">
                <a:solidFill>
                  <a:srgbClr val="0066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Берегите своих детей, заботьтесь о них, учите их жить в этом сложном мире!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Желаю Вам всего доброг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 презентации: Самсонова Наталья Сергеевна,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У «СОШ №3 имени С.В.Ишеева» г.Ясногорска Тульской обла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5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Первая заповедь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99"/>
                </a:solidFill>
                <a:latin typeface="Times New Roman"/>
              </a:rPr>
              <a:t>Родившийся ребёнок в семье должен быть всегда желанны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571760" y="428760"/>
            <a:ext cx="56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торая  запов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357720" y="1714680"/>
            <a:ext cx="485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Не оставляйте маленьких детей без присмот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505240" y="500040"/>
            <a:ext cx="41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Третья  запов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714240" y="242892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Научите ребёнка общаться с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</a:rPr>
              <a:t>окружающим миро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roadway BT"/>
              </a:rPr>
              <a:t>Заповедь четвёрт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7184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Broadway BT"/>
              </a:rPr>
              <a:t>Научите ребёнка распознавать добро и зло, истинные намерения люд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Заповедь пят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4d"/>
                </a:solidFill>
                <a:latin typeface="Times New Roman"/>
              </a:rPr>
              <a:t>Научите ребёнка самостоятельно с честью и достоинством, без ущерба для жизни, выходить из сложных жизненных ситуа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0" y="33840"/>
            <a:ext cx="10767960" cy="71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т ли ваш ребенок идти в школу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лекает ли вашего ребенка в школе то, что он там много узнает и в ней буд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 учиться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ожет ли ваш ребенок заниматься самостоятельно каким-либо делом, требующи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ности в течение 30 минут (например, собирать конструктор)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ерно ли, что ваш ребенок в присутствии незнакомых нисколько не стесняется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еет ли ваш ребенок составлять рассказы по картинке не короче чем из пя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й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ожет ли ваш ребенок рассказать наизусть несколько стихотворений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меет ли он изменять существительные по числам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меет ли ваш ребенок читать по слогам или, что еще лучше, целыми словами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Умеет ли ваш ребенок считать до 10 и обратно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Может ли он решать простые задачи на вычитание или прибавление единицы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ерно ли, что ваш ребенок имеет твердую руку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Любит ли он рисовать и раскрашивать картинки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Может ли ваш ребенок пользоваться ножницами и клеем (например, дел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ликации)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Может ли он собрать разрезную картинку из пяти частей за одну минуту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Знает ли ребенок названия диких и домашних животных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ожет ли он обобщать понятия (например, назвать одним словом «овощи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, морковь, лук)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Любит ли ваш ребенок заниматься самостоятельно – рисовать, собирать мозаику и т.д.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Может ли он понимать и точно выполнять словесные инструкци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 для роди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 ответили утвердительн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15 и более вопро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значит, ваш ребёнок вполне готов к школьному обучению. Вы занимались с ним не напрасно, и в дальнейшем, если у него и возникнут трудности при обучении, он с вашей помощью сможет с ними справ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31:32Z</dcterms:created>
  <dc:creator>qwerty</dc:creator>
  <dc:description/>
  <cp:keywords>шаблоны для презентаций</cp:keywords>
  <dc:language>en-US</dc:language>
  <cp:lastModifiedBy>Admin</cp:lastModifiedBy>
  <dcterms:modified xsi:type="dcterms:W3CDTF">2016-11-20T20:07:10Z</dcterms:modified>
  <cp:revision>13</cp:revision>
  <dc:subject/>
  <dc:title>фон облака</dc:title>
</cp:coreProperties>
</file>