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5.jpeg" ContentType="image/jpeg"/>
  <Override PartName="/ppt/media/image26.jpeg" ContentType="image/jpeg"/>
  <Override PartName="/ppt/media/image13.png" ContentType="image/png"/>
  <Override PartName="/ppt/media/image8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190E-778F-462A-B750-B4A7A584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F01-4A50-40D8-938A-1B53F206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C62-830D-48C9-8F5E-E315F071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279-FD1C-44AD-B308-0E5D65AA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4CDA-7AF4-4345-B78F-3F69357F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78C4-5C89-4216-9AFF-45C956A4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2A60-B7E2-473A-B672-918DAFB7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A790-071F-4F53-99F7-77CC00AA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A3A0-9877-4016-9651-F057CD8F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F2DC-1D1D-4FA8-B1C0-1D595892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7756-1F5B-4700-96F6-23898281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0BD-DB8B-462D-9BCA-5BCFF057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2E2C-9B8D-4F35-A117-A6255C77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586D-672D-4016-88C5-94C63370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863B-437A-4BD8-805B-F606289B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7900-A78C-4BA6-8607-B65AE8D5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2EDE-392E-4C50-A793-C78E90ED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C06A4-B60A-43A5-9C2D-42F3CA62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DEF94-9EE6-4E27-8A09-3947D44A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B95A9-2246-4CBC-91E0-36C2302C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79112-4C9A-4823-82BE-C91DAD88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5C9D1-7E36-4CB3-8622-B47A1752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F39-6D78-4387-879C-76F8369A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FC011-C2EC-4646-BEAA-9DFBCC21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CE718-C743-4ECA-8484-D3AD69E4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A3435-9375-46D1-ABAE-099BE9F7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BED6D-802F-49BB-BEB3-94D15CEC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6C941-8B4F-4AB3-8958-EBFAEBA3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18FEA-644E-4EDB-9516-1AC56FA3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2A9DB-8B55-43E3-A69A-FA903A8C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04B6A-6A9C-44DE-9582-817EE5C0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E9BDE-2606-4EED-A07B-CA133CD4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5DB33-3AFD-4281-817A-B9758248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F7C-E68F-4609-BD80-255FDEDF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54269-1088-4FAA-9753-C4056BA3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5B83D-7F2D-4930-B241-CED921F3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DD8A6-456D-4578-AF96-0D283B70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FB8C7-9C47-4C1F-9214-480DB274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53EF1-28F3-4EDB-A04F-7D931B44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212F0-821F-4DA9-A123-FCB840C3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8EDBA-092F-488D-A1AE-4894B7F0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8633C-9004-4CB3-B01C-5D25E592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E8CDE-6C55-45B3-B87B-D684291F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7BBDA-B3A5-44F9-B041-7F9653C0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806-D9BF-4273-A443-7D8E7B17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B4671-CF53-4079-8C02-5FDA651F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E5127-1A7D-4AAF-9356-E3D045CD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03D95-0F51-411C-BC1D-97FF7FA7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BE694-8561-4677-9FDE-8F545CAA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35266-79EE-43AF-A1DC-F6608454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FCE77-9DC9-4F86-9816-84AC36FD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15CB3-BF74-41DF-812E-6454251B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8D612-72F6-429C-B961-A260A0A2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DC4A4-2D10-426B-8C0E-F4E5C73B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6E641-1B67-4DB1-80FD-6DC78C0B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126-E54D-489B-8B6B-771077B9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F47E7-46EF-49CF-8F3C-2408EFCE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C38AE-1B87-4A86-8714-0FA31973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E2BBB-638C-4623-9074-AB9C3215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161BB-B4F4-4FEC-963F-250C734B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B8864-0159-4B23-9043-54E610FB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75076-A797-469F-93F7-5981ED47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50DCC-990A-436A-BCD4-0DD9DEB4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6ACF1-3CC2-4FA3-9ED1-AF831EBD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6E333-F883-4D42-BDBB-24D1804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FCDED-8548-42CA-BB47-A78DA736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D8E-9C58-4AAE-B575-F0140876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737BC-664C-4F61-ACB4-D5ABE729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852F3-924D-4EF2-8A8C-17636547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3A1C2-0E57-4E2F-B951-2A33118F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83B94-391E-47CC-A119-2885F914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F1E38-F408-47A9-9986-104DCBF2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1C6D9-8CFC-424B-8706-E9ED936B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BE8A3-2165-4B93-A878-A546B695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A7E6F-6BC6-4877-96AA-58E8B753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69C31-3A9C-4CF1-A689-B02B86F7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1E412-BC4A-4C55-9C34-B5EECDAB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EE0-B246-4816-8E2A-CEA773D3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21BB0-980C-4883-97D7-B21D5E78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44823-8EA3-45BC-9B6E-272A233E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A578A-660D-4129-A27C-33F7B918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C683E-42C2-4448-80F8-A573C03B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8E438-09E3-4817-8D03-30C05505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5F7-44EE-4F9A-8E85-1F9D7B1F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46B9-0F5F-47D6-BB29-693FCE3F5E7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7AE8-0783-46D6-893E-7C14FA813AF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0443-EEEB-4B5B-B48E-4D88FFDCA92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2ED3-EF1E-499D-A449-BB2EAA8076C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2E2C-5B40-4B07-BF27-9BFE885F502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1999-C6D7-4807-9BC5-F3FB5FB367B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01AB-64A8-4AB3-9230-78B89A112B9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3000" cy="5119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99"/>
            </a:outerShdw>
          </a:effectLst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8d3e"/>
                </a:solidFill>
                <a:latin typeface="Verdana"/>
              </a:rPr>
              <a:t>Сервировка стола к завтраку </a:t>
            </a:r>
            <a:br>
              <a:rPr sz="5700"/>
            </a:br>
            <a:br>
              <a:rPr sz="57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ыполнила ученица 6 «А» класса 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МБОУ Куйбышевская СОШ Плескачёва Вероника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1" name="Picture 5" descr="k27"/>
          <p:cNvPicPr/>
          <p:nvPr/>
        </p:nvPicPr>
        <p:blipFill>
          <a:blip r:embed="rId1"/>
          <a:stretch/>
        </p:blipFill>
        <p:spPr>
          <a:xfrm>
            <a:off x="7093080" y="5300640"/>
            <a:ext cx="10792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826920" y="47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ЕТЫ ДЛЯ СТ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11" descr="wedding_table14"/>
          <p:cNvPicPr/>
          <p:nvPr/>
        </p:nvPicPr>
        <p:blipFill>
          <a:blip r:embed="rId1"/>
          <a:stretch/>
        </p:blipFill>
        <p:spPr>
          <a:xfrm>
            <a:off x="468360" y="1268280"/>
            <a:ext cx="3672000" cy="48974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mwd105612_sum10_table6_xl"/>
          <p:cNvPicPr/>
          <p:nvPr/>
        </p:nvPicPr>
        <p:blipFill>
          <a:blip r:embed="rId2"/>
          <a:stretch/>
        </p:blipFill>
        <p:spPr>
          <a:xfrm>
            <a:off x="4716360" y="1628640"/>
            <a:ext cx="388944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7"/>
          <p:cNvSpPr/>
          <p:nvPr/>
        </p:nvSpPr>
        <p:spPr>
          <a:xfrm>
            <a:off x="826920" y="47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ИАНТЫ СКЛАДЫВАНИЯ САЛФ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6" descr="c3dc3bb77afc8e399c71c2ab6d2738d6_big"/>
          <p:cNvPicPr/>
          <p:nvPr/>
        </p:nvPicPr>
        <p:blipFill>
          <a:blip r:embed="rId1"/>
          <a:stretch/>
        </p:blipFill>
        <p:spPr>
          <a:xfrm>
            <a:off x="324000" y="1197000"/>
            <a:ext cx="8496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250920" y="404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ction Force"/>
              </a:rPr>
              <a:t>Приятный завтрак в кругу семьи будет способствовать хорошему настроению весь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" descr="Kukol_dom4"/>
          <p:cNvPicPr/>
          <p:nvPr/>
        </p:nvPicPr>
        <p:blipFill>
          <a:blip r:embed="rId1"/>
          <a:stretch/>
        </p:blipFill>
        <p:spPr>
          <a:xfrm>
            <a:off x="3556080" y="2441520"/>
            <a:ext cx="20318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250920" y="333360"/>
            <a:ext cx="85690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тр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наиболее важный прием пищи, т.к. он обеспечивает организм необходимыми питательными веществами, это залог здоровья, хорошего самочувствия                                                                                в течение                                                                                                всего дня и                                                                                    бодрого                                                                                    настро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2011-01-22_204851"/>
          <p:cNvPicPr/>
          <p:nvPr/>
        </p:nvPicPr>
        <p:blipFill>
          <a:blip r:embed="rId1"/>
          <a:stretch/>
        </p:blipFill>
        <p:spPr>
          <a:xfrm>
            <a:off x="1557360" y="1052640"/>
            <a:ext cx="602928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324000" y="404640"/>
            <a:ext cx="806436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ЮДА, КОТОРЫЕ ПОДАЮТ НА ЗАВТ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рячий напиток (чай, молоко, кофе, какао и т.д.), 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рячее блюдо                                                                         (каша, омлет,                                                                            яичниц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ёд, джем,                                                                              повидло, варенье,                                                                         масло, колбаса,                                                                       сыр, варёное яйцо,                                                                           хлеб, булочки,                                                                 бутерб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12078"/>
          <p:cNvPicPr/>
          <p:nvPr/>
        </p:nvPicPr>
        <p:blipFill>
          <a:blip r:embed="rId1"/>
          <a:stretch/>
        </p:blipFill>
        <p:spPr>
          <a:xfrm>
            <a:off x="762120" y="638280"/>
            <a:ext cx="761976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5" descr="симпсоны"/>
          <p:cNvPicPr/>
          <p:nvPr/>
        </p:nvPicPr>
        <p:blipFill>
          <a:blip r:embed="rId1"/>
          <a:stretch/>
        </p:blipFill>
        <p:spPr>
          <a:xfrm>
            <a:off x="1692360" y="1268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6"/>
          <p:cNvSpPr/>
          <p:nvPr/>
        </p:nvSpPr>
        <p:spPr>
          <a:xfrm>
            <a:off x="468360" y="26028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ction Force"/>
              </a:rPr>
              <a:t>Чтобы завтрак доставил удовольствие всем, надо знать правила поведения за сто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395280" y="404640"/>
            <a:ext cx="84978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ВЕСТИ СЕБЯ ЗА СТО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разговаривай с полным р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 время еды не дуй на слишком горячее блюдо, не стучи ложкой по тарелке. Старайся есть беззву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ешь ложкой то, что можно есть вил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ешь с но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ьзуясь ножом, держи его в правой руке, а вилку - в ле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общего блюда бери крайний кусочек, не выбир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тебе нужно что-нибудь достать, вежливо попроси пере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мешав сахар в чашке, положи ложку на блюд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ончив еду, ложку не облизывай. Грязные нож и вилку на скатерть не кл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сиди боком к столу или положив ногу на ногу - это некрасиво и невежли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50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50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50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1332000" y="40464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ction Force"/>
              </a:rPr>
              <a:t>Приятного аппет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6" descr="1289663658_05"/>
          <p:cNvPicPr/>
          <p:nvPr/>
        </p:nvPicPr>
        <p:blipFill>
          <a:blip r:embed="rId1"/>
          <a:stretch/>
        </p:blipFill>
        <p:spPr>
          <a:xfrm>
            <a:off x="2700360" y="1295280"/>
            <a:ext cx="3743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5"/>
          <p:cNvSpPr/>
          <p:nvPr/>
        </p:nvSpPr>
        <p:spPr>
          <a:xfrm>
            <a:off x="539640" y="476280"/>
            <a:ext cx="338472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виров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подготовка и оформление стола для приема пищ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расстановка всех необходимых, предметов — посуды, приборов, салфеток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7" descr="2011-01-22_194742"/>
          <p:cNvPicPr/>
          <p:nvPr/>
        </p:nvPicPr>
        <p:blipFill>
          <a:blip r:embed="rId1"/>
          <a:stretch/>
        </p:blipFill>
        <p:spPr>
          <a:xfrm>
            <a:off x="3995640" y="620640"/>
            <a:ext cx="45896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6"/>
          <p:cNvSpPr/>
          <p:nvPr/>
        </p:nvSpPr>
        <p:spPr>
          <a:xfrm>
            <a:off x="324000" y="404640"/>
            <a:ext cx="849600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к сервировке ст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вировка стола долж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овать мероприятию - завтраку, обеду, ужину, чаю и т.д.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го сочетаться с мен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эстетичн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ть тему застолья                                                                     (день рождения, Новый                                                                        год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се предметы сервировки должны быть расположены в соответствии с принятыми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8" descr="2_1_table06"/>
          <p:cNvPicPr/>
          <p:nvPr/>
        </p:nvPicPr>
        <p:blipFill>
          <a:blip r:embed="rId1"/>
          <a:stretch/>
        </p:blipFill>
        <p:spPr>
          <a:xfrm>
            <a:off x="2443320" y="1805040"/>
            <a:ext cx="42573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684360" y="549360"/>
            <a:ext cx="7848360" cy="45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довательность сервировки сто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ачале накрывают стол скатер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авляют тарел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ладывают столовые прибо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вят стеклянную (хрустальную) посу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ладывают салф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ставляют приборы со специями, вазы с цветам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7715520" cy="6068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2357280" y="2928960"/>
            <a:ext cx="4159440" cy="22334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"/>
          <p:cNvPicPr/>
          <p:nvPr/>
        </p:nvPicPr>
        <p:blipFill>
          <a:blip r:embed="rId3"/>
          <a:stretch/>
        </p:blipFill>
        <p:spPr>
          <a:xfrm>
            <a:off x="1428840" y="1714680"/>
            <a:ext cx="2178000" cy="1285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4"/>
          <a:stretch/>
        </p:blipFill>
        <p:spPr>
          <a:xfrm>
            <a:off x="4714920" y="107172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"/>
          <p:cNvPicPr/>
          <p:nvPr/>
        </p:nvPicPr>
        <p:blipFill>
          <a:blip r:embed="rId5"/>
          <a:stretch/>
        </p:blipFill>
        <p:spPr>
          <a:xfrm>
            <a:off x="1285920" y="2143080"/>
            <a:ext cx="2357280" cy="268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6"/>
          <a:stretch/>
        </p:blipFill>
        <p:spPr>
          <a:xfrm>
            <a:off x="2000160" y="3286080"/>
            <a:ext cx="536760" cy="1785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7"/>
          <a:stretch/>
        </p:blipFill>
        <p:spPr>
          <a:xfrm>
            <a:off x="6500880" y="3000240"/>
            <a:ext cx="642960" cy="20066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"/>
          <p:cNvPicPr/>
          <p:nvPr/>
        </p:nvPicPr>
        <p:blipFill>
          <a:blip r:embed="rId8"/>
          <a:stretch/>
        </p:blipFill>
        <p:spPr>
          <a:xfrm>
            <a:off x="7072200" y="2143080"/>
            <a:ext cx="10861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684360" y="549360"/>
            <a:ext cx="78483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еобходимо для сервировки стола к завтра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тер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лфет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о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у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ы.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foods-on-table-HV074_350A_wallcoo"/>
          <p:cNvPicPr/>
          <p:nvPr/>
        </p:nvPicPr>
        <p:blipFill>
          <a:blip r:embed="rId1"/>
          <a:stretch/>
        </p:blipFill>
        <p:spPr>
          <a:xfrm>
            <a:off x="1238400" y="7002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5" descr="http://www.rodovoedrevo.ru/multimedia/audio_cd_covers/1000955066.jpg"/>
          <p:cNvPicPr/>
          <p:nvPr/>
        </p:nvPicPr>
        <p:blipFill>
          <a:blip r:embed="rId1"/>
          <a:stretch/>
        </p:blipFill>
        <p:spPr>
          <a:xfrm>
            <a:off x="6227640" y="2708280"/>
            <a:ext cx="2698920" cy="3986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2011-01-22_205646"/>
          <p:cNvPicPr/>
          <p:nvPr/>
        </p:nvPicPr>
        <p:blipFill>
          <a:blip r:embed="rId2"/>
          <a:stretch/>
        </p:blipFill>
        <p:spPr>
          <a:xfrm>
            <a:off x="250920" y="1484280"/>
            <a:ext cx="3819600" cy="33051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2"/>
          <p:cNvSpPr/>
          <p:nvPr/>
        </p:nvSpPr>
        <p:spPr>
          <a:xfrm>
            <a:off x="4500720" y="234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йная ло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6588000" y="2708280"/>
            <a:ext cx="1224000" cy="5763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5"/>
          <p:cNvSpPr/>
          <p:nvPr/>
        </p:nvSpPr>
        <p:spPr>
          <a:xfrm flipH="1">
            <a:off x="3634920" y="2708280"/>
            <a:ext cx="1297080" cy="7920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8"/>
          <p:cNvSpPr/>
          <p:nvPr/>
        </p:nvSpPr>
        <p:spPr>
          <a:xfrm flipV="1">
            <a:off x="5651640" y="3573000"/>
            <a:ext cx="1873080" cy="11509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1"/>
          <p:cNvSpPr/>
          <p:nvPr/>
        </p:nvSpPr>
        <p:spPr>
          <a:xfrm flipH="1" flipV="1">
            <a:off x="3419640" y="4076640"/>
            <a:ext cx="1512720" cy="6494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3851280" y="4508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овая ло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3"/>
          <p:cNvSpPr/>
          <p:nvPr/>
        </p:nvSpPr>
        <p:spPr>
          <a:xfrm flipH="1" flipV="1">
            <a:off x="3203280" y="4221000"/>
            <a:ext cx="1439640" cy="1368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4"/>
          <p:cNvSpPr/>
          <p:nvPr/>
        </p:nvSpPr>
        <p:spPr>
          <a:xfrm flipV="1">
            <a:off x="6084720" y="4221000"/>
            <a:ext cx="1584360" cy="1368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3924360" y="53737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овый но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3924360" y="60213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овая ви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7"/>
          <p:cNvSpPr/>
          <p:nvPr/>
        </p:nvSpPr>
        <p:spPr>
          <a:xfrm flipH="1" flipV="1">
            <a:off x="755640" y="4005000"/>
            <a:ext cx="3673440" cy="21603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8"/>
          <p:cNvSpPr/>
          <p:nvPr/>
        </p:nvSpPr>
        <p:spPr>
          <a:xfrm flipV="1">
            <a:off x="6227640" y="4797000"/>
            <a:ext cx="1584360" cy="13683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9"/>
          <p:cNvSpPr/>
          <p:nvPr/>
        </p:nvSpPr>
        <p:spPr>
          <a:xfrm>
            <a:off x="1403280" y="47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БОРЫ ДЛЯ СЕРВИ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4"/>
          <p:cNvSpPr/>
          <p:nvPr/>
        </p:nvSpPr>
        <p:spPr>
          <a:xfrm>
            <a:off x="4896000" y="1052640"/>
            <a:ext cx="40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УДА ДЛЯ СЕРВИ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2" descr=""/>
          <p:cNvPicPr/>
          <p:nvPr/>
        </p:nvPicPr>
        <p:blipFill>
          <a:blip r:embed="rId1"/>
          <a:stretch/>
        </p:blipFill>
        <p:spPr>
          <a:xfrm>
            <a:off x="4433760" y="3068640"/>
            <a:ext cx="4710240" cy="3511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4" descr="2011-01-22_205646"/>
          <p:cNvPicPr/>
          <p:nvPr/>
        </p:nvPicPr>
        <p:blipFill>
          <a:blip r:embed="rId2"/>
          <a:stretch/>
        </p:blipFill>
        <p:spPr>
          <a:xfrm>
            <a:off x="179280" y="260280"/>
            <a:ext cx="4608720" cy="3987720"/>
          </a:xfrm>
          <a:prstGeom prst="rect">
            <a:avLst/>
          </a:prstGeom>
          <a:ln w="0">
            <a:noFill/>
          </a:ln>
        </p:spPr>
      </p:pic>
      <p:sp>
        <p:nvSpPr>
          <p:cNvPr id="345" name="Line 15"/>
          <p:cNvSpPr/>
          <p:nvPr/>
        </p:nvSpPr>
        <p:spPr>
          <a:xfrm flipH="1" flipV="1">
            <a:off x="2843280" y="3141720"/>
            <a:ext cx="3744720" cy="24480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 flipH="1" flipV="1">
            <a:off x="2916000" y="1196640"/>
            <a:ext cx="4392360" cy="287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 flipH="1" flipV="1">
            <a:off x="3995280" y="981000"/>
            <a:ext cx="4537080" cy="273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 flipH="1" flipV="1">
            <a:off x="1042560" y="3573360"/>
            <a:ext cx="3745080" cy="24480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384720" cy="4773600"/>
          </a:xfrm>
          <a:prstGeom prst="rect">
            <a:avLst/>
          </a:prstGeom>
          <a:ln w="0">
            <a:noFill/>
          </a:ln>
        </p:spPr>
      </p:pic>
      <p:sp>
        <p:nvSpPr>
          <p:cNvPr id="350" name="TextBox 5"/>
          <p:cNvSpPr/>
          <p:nvPr/>
        </p:nvSpPr>
        <p:spPr>
          <a:xfrm>
            <a:off x="3995640" y="76500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ашку на блюдце ставят справа, возле кончика но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6"/>
          <p:cNvSpPr/>
          <p:nvPr/>
        </p:nvSpPr>
        <p:spPr>
          <a:xfrm>
            <a:off x="4000680" y="177336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яйца «всмятку» или «в мешоче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ют в специальной подста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айной ложеч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7"/>
          <p:cNvSpPr/>
          <p:nvPr/>
        </p:nvSpPr>
        <p:spPr>
          <a:xfrm>
            <a:off x="4002480" y="3213000"/>
            <a:ext cx="49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шу подают в полупорцио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ел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8"/>
          <p:cNvSpPr/>
          <p:nvPr/>
        </p:nvSpPr>
        <p:spPr>
          <a:xfrm>
            <a:off x="3994560" y="436572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 ней полагается десертная ло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9"/>
          <p:cNvSpPr/>
          <p:nvPr/>
        </p:nvSpPr>
        <p:spPr>
          <a:xfrm>
            <a:off x="4078440" y="5214960"/>
            <a:ext cx="46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илку при сервировке клад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ва от тарелки, а нож с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 flipH="1">
            <a:off x="2627280" y="981000"/>
            <a:ext cx="1440000" cy="1008000"/>
          </a:xfrm>
          <a:prstGeom prst="line">
            <a:avLst/>
          </a:prstGeom>
          <a:ln w="44280">
            <a:solidFill>
              <a:srgbClr val="6b9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900000" y="1989000"/>
            <a:ext cx="3167280" cy="216000"/>
          </a:xfrm>
          <a:prstGeom prst="line">
            <a:avLst/>
          </a:prstGeom>
          <a:ln w="44280">
            <a:solidFill>
              <a:srgbClr val="6b9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6"/>
          <p:cNvSpPr/>
          <p:nvPr/>
        </p:nvSpPr>
        <p:spPr>
          <a:xfrm flipH="1" flipV="1">
            <a:off x="1834920" y="3357720"/>
            <a:ext cx="2158920" cy="71280"/>
          </a:xfrm>
          <a:prstGeom prst="line">
            <a:avLst/>
          </a:prstGeom>
          <a:ln w="44280">
            <a:solidFill>
              <a:srgbClr val="6b9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 flipH="1" flipV="1">
            <a:off x="3132000" y="3715920"/>
            <a:ext cx="935280" cy="792360"/>
          </a:xfrm>
          <a:prstGeom prst="line">
            <a:avLst/>
          </a:prstGeom>
          <a:ln w="44280">
            <a:solidFill>
              <a:srgbClr val="6b9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 flipH="1" flipV="1">
            <a:off x="2916000" y="3933720"/>
            <a:ext cx="1150920" cy="1511280"/>
          </a:xfrm>
          <a:prstGeom prst="line">
            <a:avLst/>
          </a:prstGeom>
          <a:ln w="44280">
            <a:solidFill>
              <a:srgbClr val="6b9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9"/>
          <p:cNvSpPr/>
          <p:nvPr/>
        </p:nvSpPr>
        <p:spPr>
          <a:xfrm flipH="1" flipV="1">
            <a:off x="900000" y="3933720"/>
            <a:ext cx="3167280" cy="1511280"/>
          </a:xfrm>
          <a:prstGeom prst="line">
            <a:avLst/>
          </a:prstGeom>
          <a:ln w="44280">
            <a:solidFill>
              <a:srgbClr val="6b9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5:56:39Z</dcterms:created>
  <dc:creator>Admin</dc:creator>
  <dc:description/>
  <dc:language>en-US</dc:language>
  <cp:lastModifiedBy>Учитель</cp:lastModifiedBy>
  <dcterms:modified xsi:type="dcterms:W3CDTF">2016-11-22T08:34:07Z</dcterms:modified>
  <cp:revision>7</cp:revision>
  <dc:subject/>
  <dc:title>Слайд 1</dc:title>
</cp:coreProperties>
</file>