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86F-572E-4143-98F5-B2C911B84E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E2F5-786D-48A3-B0BB-72E0236935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08D-1065-42C1-AD85-39045B77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0B2-6F3D-491D-BC7C-7105AF1C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C8C-CF01-46A4-9AB9-707B4A6D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569-2049-4167-94F0-EA4099FA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8B3-DEAC-4647-8050-4D151CCD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98B-C949-4DA8-9B1A-9094786F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0E0-B06E-41A8-A52D-CD4746F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C0D-95A7-453D-B871-C2FC32D1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51F-F92A-42B0-89F2-989D609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D5F-EC1B-462F-8A10-6017D5CC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64A-99E3-4B6F-B82A-CCA968F8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7C9-44C6-4211-AA17-A1700234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B66C-0AE1-4928-9917-55860A522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71.png"/><Relationship Id="rId4" Type="http://schemas.openxmlformats.org/officeDocument/2006/relationships/image" Target="../media/image42.png"/><Relationship Id="rId5" Type="http://schemas.openxmlformats.org/officeDocument/2006/relationships/image" Target="../media/image72.png"/><Relationship Id="rId6" Type="http://schemas.openxmlformats.org/officeDocument/2006/relationships/slide" Target="slide11.xml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image" Target="../media/image75.png"/><Relationship Id="rId10" Type="http://schemas.openxmlformats.org/officeDocument/2006/relationships/image" Target="../media/image14.png"/><Relationship Id="rId11" Type="http://schemas.openxmlformats.org/officeDocument/2006/relationships/image" Target="../media/image36.png"/><Relationship Id="rId12" Type="http://schemas.openxmlformats.org/officeDocument/2006/relationships/image" Target="../media/image35.png"/><Relationship Id="rId13" Type="http://schemas.openxmlformats.org/officeDocument/2006/relationships/image" Target="../media/image28.png"/><Relationship Id="rId14" Type="http://schemas.openxmlformats.org/officeDocument/2006/relationships/image" Target="../media/image13.png"/><Relationship Id="rId15" Type="http://schemas.openxmlformats.org/officeDocument/2006/relationships/image" Target="../media/image76.pn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7.png"/><Relationship Id="rId6" Type="http://schemas.openxmlformats.org/officeDocument/2006/relationships/image" Target="../media/image10.png"/><Relationship Id="rId7" Type="http://schemas.openxmlformats.org/officeDocument/2006/relationships/image" Target="../media/image78.png"/><Relationship Id="rId8" Type="http://schemas.openxmlformats.org/officeDocument/2006/relationships/image" Target="../media/image12.png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79.png"/><Relationship Id="rId13" Type="http://schemas.openxmlformats.org/officeDocument/2006/relationships/image" Target="../media/image80.png"/><Relationship Id="rId14" Type="http://schemas.openxmlformats.org/officeDocument/2006/relationships/image" Target="../media/image81.png"/><Relationship Id="rId15" Type="http://schemas.openxmlformats.org/officeDocument/2006/relationships/image" Target="../media/image82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10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image" Target="../media/image7.png"/><Relationship Id="rId11" Type="http://schemas.openxmlformats.org/officeDocument/2006/relationships/image" Target="../media/image28.png"/><Relationship Id="rId12" Type="http://schemas.openxmlformats.org/officeDocument/2006/relationships/image" Target="../media/image13.png"/><Relationship Id="rId13" Type="http://schemas.openxmlformats.org/officeDocument/2006/relationships/image" Target="../media/image90.png"/><Relationship Id="rId14" Type="http://schemas.openxmlformats.org/officeDocument/2006/relationships/image" Target="../media/image13.png"/><Relationship Id="rId15" Type="http://schemas.openxmlformats.org/officeDocument/2006/relationships/slide" Target="slide8.xml"/><Relationship Id="rId16" Type="http://schemas.openxmlformats.org/officeDocument/2006/relationships/image" Target="../media/image91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image" Target="../media/image50.pn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46.radikal.ru/0805/3e/dcd0e688db78t.jpg" TargetMode="External"/><Relationship Id="rId3" Type="http://schemas.openxmlformats.org/officeDocument/2006/relationships/hyperlink" Target="http://radikal.ru/F/i046.radikal.ru/0805/1d/553b7ae1e0b1.png.html" TargetMode="External"/><Relationship Id="rId4" Type="http://schemas.openxmlformats.org/officeDocument/2006/relationships/hyperlink" Target="http://i011.radikal.ru/0805/e6/fd2cc8d085c2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" Target="slide4.xml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0.png"/><Relationship Id="rId6" Type="http://schemas.openxmlformats.org/officeDocument/2006/relationships/slide" Target="slide5.xml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14.png"/><Relationship Id="rId11" Type="http://schemas.openxmlformats.org/officeDocument/2006/relationships/image" Target="../media/image7.png"/><Relationship Id="rId12" Type="http://schemas.openxmlformats.org/officeDocument/2006/relationships/image" Target="../media/image28.png"/><Relationship Id="rId13" Type="http://schemas.openxmlformats.org/officeDocument/2006/relationships/image" Target="../media/image13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13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12.png"/><Relationship Id="rId12" Type="http://schemas.openxmlformats.org/officeDocument/2006/relationships/slide" Target="slide6.xml"/><Relationship Id="rId13" Type="http://schemas.openxmlformats.org/officeDocument/2006/relationships/image" Target="../media/image14.png"/><Relationship Id="rId14" Type="http://schemas.openxmlformats.org/officeDocument/2006/relationships/image" Target="../media/image4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" Target="slide7.xml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14.png"/><Relationship Id="rId10" Type="http://schemas.openxmlformats.org/officeDocument/2006/relationships/image" Target="../media/image36.png"/><Relationship Id="rId11" Type="http://schemas.openxmlformats.org/officeDocument/2006/relationships/image" Target="../media/image35.png"/><Relationship Id="rId12" Type="http://schemas.openxmlformats.org/officeDocument/2006/relationships/image" Target="../media/image28.png"/><Relationship Id="rId13" Type="http://schemas.openxmlformats.org/officeDocument/2006/relationships/image" Target="../media/image13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1.png"/><Relationship Id="rId5" Type="http://schemas.openxmlformats.org/officeDocument/2006/relationships/image" Target="../media/image10.png"/><Relationship Id="rId6" Type="http://schemas.openxmlformats.org/officeDocument/2006/relationships/image" Target="../media/image52.png"/><Relationship Id="rId7" Type="http://schemas.openxmlformats.org/officeDocument/2006/relationships/image" Target="../media/image12.png"/><Relationship Id="rId8" Type="http://schemas.openxmlformats.org/officeDocument/2006/relationships/slide" Target="slide8.xml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42.png"/><Relationship Id="rId4" Type="http://schemas.openxmlformats.org/officeDocument/2006/relationships/image" Target="../media/image58.png"/><Relationship Id="rId5" Type="http://schemas.openxmlformats.org/officeDocument/2006/relationships/image" Target="../media/image10.png"/><Relationship Id="rId6" Type="http://schemas.openxmlformats.org/officeDocument/2006/relationships/slide" Target="slide9.xml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image" Target="../media/image14.png"/><Relationship Id="rId11" Type="http://schemas.openxmlformats.org/officeDocument/2006/relationships/image" Target="../media/image7.png"/><Relationship Id="rId12" Type="http://schemas.openxmlformats.org/officeDocument/2006/relationships/image" Target="../media/image28.png"/><Relationship Id="rId13" Type="http://schemas.openxmlformats.org/officeDocument/2006/relationships/image" Target="../media/image13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8.png"/><Relationship Id="rId4" Type="http://schemas.openxmlformats.org/officeDocument/2006/relationships/image" Target="../media/image67.png"/><Relationship Id="rId5" Type="http://schemas.openxmlformats.org/officeDocument/2006/relationships/image" Target="../media/image54.png"/><Relationship Id="rId6" Type="http://schemas.openxmlformats.org/officeDocument/2006/relationships/image" Target="../media/image35.png"/><Relationship Id="rId7" Type="http://schemas.openxmlformats.org/officeDocument/2006/relationships/image" Target="../media/image13.png"/><Relationship Id="rId8" Type="http://schemas.openxmlformats.org/officeDocument/2006/relationships/image" Target="../media/image36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39.png"/><Relationship Id="rId12" Type="http://schemas.openxmlformats.org/officeDocument/2006/relationships/image" Target="../media/image12.png"/><Relationship Id="rId13" Type="http://schemas.openxmlformats.org/officeDocument/2006/relationships/slide" Target="slide10.xml"/><Relationship Id="rId14" Type="http://schemas.openxmlformats.org/officeDocument/2006/relationships/image" Target="../media/image14.png"/><Relationship Id="rId15" Type="http://schemas.openxmlformats.org/officeDocument/2006/relationships/image" Target="../media/image70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857680" y="857160"/>
            <a:ext cx="56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908000" y="836640"/>
            <a:ext cx="51390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User\Рабочий стол\1.ТРИГГЕРЫ\Овчинникова\МК  4\сетка.png"/>
          <p:cNvPicPr/>
          <p:nvPr/>
        </p:nvPicPr>
        <p:blipFill>
          <a:blip r:embed="rId3"/>
          <a:stretch/>
        </p:blipFill>
        <p:spPr>
          <a:xfrm>
            <a:off x="2357280" y="3857760"/>
            <a:ext cx="451836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Рабочий стол\1.ТРИГГЕРЫ\Овчинникова\МК  4\мяч.png"/>
          <p:cNvPicPr/>
          <p:nvPr/>
        </p:nvPicPr>
        <p:blipFill>
          <a:blip r:embed="rId4"/>
          <a:stretch/>
        </p:blipFill>
        <p:spPr>
          <a:xfrm>
            <a:off x="5357880" y="5715000"/>
            <a:ext cx="785880" cy="79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User\Рабочий стол\1.ТРИГГЕРЫ\Овчинникова\МК  4\4.png"/>
          <p:cNvPicPr/>
          <p:nvPr/>
        </p:nvPicPr>
        <p:blipFill>
          <a:blip r:embed="rId5"/>
          <a:stretch/>
        </p:blipFill>
        <p:spPr>
          <a:xfrm>
            <a:off x="285840" y="357192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User\Рабочий стол\1.ТРИГГЕРЫ\Овчинникова\МК  4\1.png"/>
          <p:cNvPicPr/>
          <p:nvPr/>
        </p:nvPicPr>
        <p:blipFill>
          <a:blip r:embed="rId6"/>
          <a:stretch/>
        </p:blipFill>
        <p:spPr>
          <a:xfrm>
            <a:off x="6786720" y="3714840"/>
            <a:ext cx="1928520" cy="28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Блок-схема: процесс 1" descr=""/>
          <p:cNvPicPr/>
          <p:nvPr/>
        </p:nvPicPr>
        <p:blipFill>
          <a:blip r:embed="rId3"/>
          <a:stretch/>
        </p:blipFill>
        <p:spPr>
          <a:xfrm>
            <a:off x="6645240" y="1036800"/>
            <a:ext cx="226692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Скругленный прямоугольник 2" descr=""/>
          <p:cNvPicPr/>
          <p:nvPr/>
        </p:nvPicPr>
        <p:blipFill>
          <a:blip r:embed="rId4"/>
          <a:stretch/>
        </p:blipFill>
        <p:spPr>
          <a:xfrm>
            <a:off x="7186680" y="60480"/>
            <a:ext cx="1708200" cy="993600"/>
          </a:xfrm>
          <a:prstGeom prst="rect">
            <a:avLst/>
          </a:prstGeom>
          <a:ln w="0">
            <a:noFill/>
          </a:ln>
        </p:spPr>
      </p:pic>
      <p:pic>
        <p:nvPicPr>
          <p:cNvPr id="215" name="Скругленный прямоугольник 3" descr=""/>
          <p:cNvPicPr/>
          <p:nvPr/>
        </p:nvPicPr>
        <p:blipFill>
          <a:blip r:embed="rId5"/>
          <a:stretch/>
        </p:blipFill>
        <p:spPr>
          <a:xfrm>
            <a:off x="743040" y="171360"/>
            <a:ext cx="6280200" cy="846360"/>
          </a:xfrm>
          <a:prstGeom prst="rect">
            <a:avLst/>
          </a:prstGeom>
          <a:ln w="0">
            <a:noFill/>
          </a:ln>
        </p:spPr>
      </p:pic>
      <p:sp>
        <p:nvSpPr>
          <p:cNvPr id="216" name="Блок-схема: знак завершения 4">
            <a:hlinkClick r:id="rId6" action="ppaction://hlinksldjump"/>
          </p:cNvPr>
          <p:cNvSpPr/>
          <p:nvPr/>
        </p:nvSpPr>
        <p:spPr>
          <a:xfrm>
            <a:off x="407196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alibr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Блок-схема: процесс 5" descr=""/>
          <p:cNvPicPr/>
          <p:nvPr/>
        </p:nvPicPr>
        <p:blipFill>
          <a:blip r:embed="rId7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218" name="Блок-схема: процесс 6" descr=""/>
          <p:cNvPicPr/>
          <p:nvPr/>
        </p:nvPicPr>
        <p:blipFill>
          <a:blip r:embed="rId8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219" name="Блок-схема: процесс 7" descr=""/>
          <p:cNvPicPr/>
          <p:nvPr/>
        </p:nvPicPr>
        <p:blipFill>
          <a:blip r:embed="rId9"/>
          <a:stretch/>
        </p:blipFill>
        <p:spPr>
          <a:xfrm>
            <a:off x="2365200" y="1036800"/>
            <a:ext cx="2109960" cy="761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3" descr="C:\Documents and Settings\User\Рабочий стол\ТРИГГЕРЫ\Овчинникова\МК  4\сетка.png"/>
          <p:cNvPicPr/>
          <p:nvPr/>
        </p:nvPicPr>
        <p:blipFill>
          <a:blip r:embed="rId10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C:\Documents and Settings\User\Рабочий стол\ТРИГГЕРЫ\Овчинникова\МК  4\4.png"/>
          <p:cNvPicPr/>
          <p:nvPr/>
        </p:nvPicPr>
        <p:blipFill>
          <a:blip r:embed="rId11"/>
          <a:stretch/>
        </p:blipFill>
        <p:spPr>
          <a:xfrm>
            <a:off x="6954840" y="3643200"/>
            <a:ext cx="1689120" cy="2990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C:\Documents and Settings\User\Рабочий стол\ТРИГГЕРЫ\Овчинникова\МК  4\1.png"/>
          <p:cNvPicPr/>
          <p:nvPr/>
        </p:nvPicPr>
        <p:blipFill>
          <a:blip r:embed="rId12"/>
          <a:stretch/>
        </p:blipFill>
        <p:spPr>
          <a:xfrm>
            <a:off x="285840" y="3429000"/>
            <a:ext cx="2111400" cy="291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User\Рабочий стол\ТРИГГЕРЫ\Овчинникова\МК  4\мяч.png"/>
          <p:cNvPicPr/>
          <p:nvPr/>
        </p:nvPicPr>
        <p:blipFill>
          <a:blip r:embed="rId13"/>
          <a:stretch/>
        </p:blipFill>
        <p:spPr>
          <a:xfrm rot="6252600">
            <a:off x="5948280" y="3582720"/>
            <a:ext cx="795240" cy="804960"/>
          </a:xfrm>
          <a:prstGeom prst="rect">
            <a:avLst/>
          </a:prstGeom>
          <a:ln w="0">
            <a:noFill/>
          </a:ln>
        </p:spPr>
      </p:pic>
      <p:pic>
        <p:nvPicPr>
          <p:cNvPr id="224" name="апп.mp3" descr=""/>
          <p:cNvPicPr/>
          <p:nvPr/>
        </p:nvPicPr>
        <p:blipFill>
          <a:blip r:embed="rId14"/>
          <a:stretch/>
        </p:blipFill>
        <p:spPr>
          <a:xfrm>
            <a:off x="9358200" y="471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Скругленный прямоугольник 14" descr=""/>
          <p:cNvPicPr/>
          <p:nvPr/>
        </p:nvPicPr>
        <p:blipFill>
          <a:blip r:embed="rId15"/>
          <a:stretch/>
        </p:blipFill>
        <p:spPr>
          <a:xfrm>
            <a:off x="0" y="42840"/>
            <a:ext cx="1042920" cy="968400"/>
          </a:xfrm>
          <a:prstGeom prst="rect">
            <a:avLst/>
          </a:prstGeom>
          <a:ln w="0">
            <a:noFill/>
          </a:ln>
        </p:spPr>
      </p:pic>
      <p:grpSp>
        <p:nvGrpSpPr>
          <p:cNvPr id="226" name="Овал 15"/>
          <p:cNvGrpSpPr/>
          <p:nvPr/>
        </p:nvGrpSpPr>
        <p:grpSpPr>
          <a:xfrm>
            <a:off x="8345520" y="1841400"/>
            <a:ext cx="590400" cy="596880"/>
            <a:chOff x="8345520" y="1841400"/>
            <a:chExt cx="590400" cy="596880"/>
          </a:xfrm>
        </p:grpSpPr>
        <p:pic>
          <p:nvPicPr>
            <p:cNvPr id="227" name="Овал 15" descr=""/>
            <p:cNvPicPr/>
            <p:nvPr/>
          </p:nvPicPr>
          <p:blipFill>
            <a:blip r:embed="rId16"/>
            <a:stretch/>
          </p:blipFill>
          <p:spPr>
            <a:xfrm>
              <a:off x="8345520" y="184140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54244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Овал 16"/>
          <p:cNvGrpSpPr/>
          <p:nvPr/>
        </p:nvGrpSpPr>
        <p:grpSpPr>
          <a:xfrm>
            <a:off x="8345520" y="2341440"/>
            <a:ext cx="590400" cy="596880"/>
            <a:chOff x="8345520" y="2341440"/>
            <a:chExt cx="590400" cy="596880"/>
          </a:xfrm>
        </p:grpSpPr>
        <p:pic>
          <p:nvPicPr>
            <p:cNvPr id="230" name="Овал 16" descr=""/>
            <p:cNvPicPr/>
            <p:nvPr/>
          </p:nvPicPr>
          <p:blipFill>
            <a:blip r:embed="rId17"/>
            <a:stretch/>
          </p:blipFill>
          <p:spPr>
            <a:xfrm>
              <a:off x="8345520" y="234144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4244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Овал 17"/>
          <p:cNvGrpSpPr/>
          <p:nvPr/>
        </p:nvGrpSpPr>
        <p:grpSpPr>
          <a:xfrm>
            <a:off x="8345520" y="2914560"/>
            <a:ext cx="590400" cy="596880"/>
            <a:chOff x="8345520" y="2914560"/>
            <a:chExt cx="590400" cy="596880"/>
          </a:xfrm>
        </p:grpSpPr>
        <p:pic>
          <p:nvPicPr>
            <p:cNvPr id="233" name="Овал 17" descr=""/>
            <p:cNvPicPr/>
            <p:nvPr/>
          </p:nvPicPr>
          <p:blipFill>
            <a:blip r:embed="rId18"/>
            <a:stretch/>
          </p:blipFill>
          <p:spPr>
            <a:xfrm>
              <a:off x="8345520" y="291456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854244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2" dur="indefinite" restart="never" nodeType="tmRoot">
          <p:childTnLst>
            <p:seq>
              <p:cTn id="65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68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03608E-006 C -0.00486 -0.01064 -0.02187 -0.02128 -0.0276 -0.02128 C -0.0651 -0.02128 -0.10364 0.14524 -0.10364 0.31175 C -0.10364 0.2278 -0.12274 0.14524 -0.14097 0.14524 C -0.16024 0.14524 -0.17847 0.22919 -0.17847 0.31175 C -0.17847 0.27035 -0.18802 0.2278 -0.19757 0.2278 C -0.20729 0.2278 -0.21684 0.2692 -0.21684 0.31175 C -0.21684 0.29047 -0.2217 0.27035 -0.22656 0.27035 C -0.23125 0.27035 -0.23611 0.29163 -0.23611 0.31175 C -0.23611 0.30111 -0.23871 0.29047 -0.24097 0.29047 C -0.24218 0.29047 -0.24566 0.30111 -0.24566 0.31175 C -0.24566 0.30643 -0.24704 0.30111 -0.24826 0.30111 C -0.24826 0.29972 -0.25069 0.30643 -0.25069 0.31175 C -0.25069 0.30897 -0.25069 0.30643 -0.25208 0.30643 C -0.25208 0.30782 -0.25329 0.30921 -0.25329 0.31175 C -0.25329 0.31036 -0.25329 0.30897 -0.25329 0.30782 C -0.25451 0.30782 -0.25451 0.30921 -0.25451 0.31059 C -0.25573 0.31059 -0.25573 0.30921 -0.25573 0.30782 C -0.25694 0.30782 -0.25694 0.30921 -0.25694 0.31059 E">
                                      <p:cBhvr>
                                        <p:cTn id="69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4" dur="59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9593E-006 L -0.07726 -0.03931 E">
                                      <p:cBhvr>
                                        <p:cTn id="70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23 L -0.09114 -0.13043 C -0.11024 -0.15911 -0.14184 -0.18201 -0.17725 -0.19264 C -0.21753 -0.20583 -0.30434 -0.14315 -0.33576 -0.10731 L -0.41475 0.04371 E">
                                      <p:cBhvr>
                                        <p:cTn id="708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26 -0.03931 L -0.00642 0.00278 E">
                                      <p:cBhvr>
                                        <p:cTn id="72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3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74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Documents and Settings\User\Рабочий стол\ТРИГГЕРЫ\Овчинникова\МК  4\3.png"/>
          <p:cNvPicPr/>
          <p:nvPr/>
        </p:nvPicPr>
        <p:blipFill>
          <a:blip r:embed="rId3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237" name="Скругленный прямоугольник 4" descr=""/>
          <p:cNvPicPr/>
          <p:nvPr/>
        </p:nvPicPr>
        <p:blipFill>
          <a:blip r:embed="rId4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238" name="Скругленный прямоугольник 9" descr=""/>
          <p:cNvPicPr/>
          <p:nvPr/>
        </p:nvPicPr>
        <p:blipFill>
          <a:blip r:embed="rId5"/>
          <a:stretch/>
        </p:blipFill>
        <p:spPr>
          <a:xfrm>
            <a:off x="2457360" y="55440"/>
            <a:ext cx="6491520" cy="998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User\Рабочий стол\ТРИГГЕРЫ\Овчинникова\МК  4\2.png"/>
          <p:cNvPicPr/>
          <p:nvPr/>
        </p:nvPicPr>
        <p:blipFill>
          <a:blip r:embed="rId6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pic>
        <p:nvPicPr>
          <p:cNvPr id="240" name="Блок-схема: процесс 7" descr=""/>
          <p:cNvPicPr/>
          <p:nvPr/>
        </p:nvPicPr>
        <p:blipFill>
          <a:blip r:embed="rId7"/>
          <a:stretch/>
        </p:blipFill>
        <p:spPr>
          <a:xfrm>
            <a:off x="6724800" y="1036800"/>
            <a:ext cx="2114280" cy="761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User\Рабочий стол\ТРИГГЕРЫ\Овчинникова\МК  4\мяч.png"/>
          <p:cNvPicPr/>
          <p:nvPr/>
        </p:nvPicPr>
        <p:blipFill>
          <a:blip r:embed="rId8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242" name="Блок-схема: знак завершения 14">
            <a:hlinkClick r:id="rId9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alibr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апп.mp3" descr=""/>
          <p:cNvPicPr/>
          <p:nvPr/>
        </p:nvPicPr>
        <p:blipFill>
          <a:blip r:embed="rId10"/>
          <a:stretch/>
        </p:blipFill>
        <p:spPr>
          <a:xfrm>
            <a:off x="-30492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3" descr="C:\Documents and Settings\User\Рабочий стол\ТРИГГЕРЫ\Овчинникова\МК  4\сетка.png"/>
          <p:cNvPicPr/>
          <p:nvPr/>
        </p:nvPicPr>
        <p:blipFill>
          <a:blip r:embed="rId11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245" name="Блок-схема: процесс 8" descr=""/>
          <p:cNvPicPr/>
          <p:nvPr/>
        </p:nvPicPr>
        <p:blipFill>
          <a:blip r:embed="rId12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246" name="Блок-схема: процесс 6" descr=""/>
          <p:cNvPicPr/>
          <p:nvPr/>
        </p:nvPicPr>
        <p:blipFill>
          <a:blip r:embed="rId13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Блок-схема: процесс 5" descr=""/>
          <p:cNvPicPr/>
          <p:nvPr/>
        </p:nvPicPr>
        <p:blipFill>
          <a:blip r:embed="rId14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248" name="Скругленный прямоугольник 16" descr=""/>
          <p:cNvPicPr/>
          <p:nvPr/>
        </p:nvPicPr>
        <p:blipFill>
          <a:blip r:embed="rId15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249" name="Овал 18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250" name="Овал 18" descr=""/>
            <p:cNvPicPr/>
            <p:nvPr/>
          </p:nvPicPr>
          <p:blipFill>
            <a:blip r:embed="rId16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Овал 19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253" name="Овал 19" descr=""/>
            <p:cNvPicPr/>
            <p:nvPr/>
          </p:nvPicPr>
          <p:blipFill>
            <a:blip r:embed="rId17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Овал 20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256" name="Овал 20" descr=""/>
            <p:cNvPicPr/>
            <p:nvPr/>
          </p:nvPicPr>
          <p:blipFill>
            <a:blip r:embed="rId18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5" dur="indefinite" restart="never" nodeType="tmRoot">
          <p:childTnLst>
            <p:seq>
              <p:cTn id="74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777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5" dur="5904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2192E-006 L 0.06805 -0.02891 E">
                                      <p:cBhvr>
                                        <p:cTn id="78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1249 L 0.09549 -0.16259 C 0.11441 -0.19589 0.14584 -0.21809 0.18004 -0.22433 C 0.21927 -0.2315 0.25226 -0.22086 0.27726 -0.19543 L 0.39584 -0.08349 E">
                                      <p:cBhvr>
                                        <p:cTn id="789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0.03423 L 2.5E-006 4.75486E-006 E">
                                      <p:cBhvr>
                                        <p:cTn id="79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1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82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834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Блок-схема: процесс 3" descr=""/>
          <p:cNvPicPr/>
          <p:nvPr/>
        </p:nvPicPr>
        <p:blipFill>
          <a:blip r:embed="rId2"/>
          <a:stretch/>
        </p:blipFill>
        <p:spPr>
          <a:xfrm>
            <a:off x="6645240" y="1036800"/>
            <a:ext cx="226692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7254720" y="60480"/>
            <a:ext cx="1713240" cy="993600"/>
          </a:xfrm>
          <a:prstGeom prst="rect">
            <a:avLst/>
          </a:prstGeom>
          <a:ln w="0">
            <a:noFill/>
          </a:ln>
        </p:spPr>
      </p:pic>
      <p:pic>
        <p:nvPicPr>
          <p:cNvPr id="260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1170000" y="171360"/>
            <a:ext cx="6138720" cy="846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pic>
        <p:nvPicPr>
          <p:cNvPr id="262" name="Блок-схема: процесс 2" descr=""/>
          <p:cNvPicPr/>
          <p:nvPr/>
        </p:nvPicPr>
        <p:blipFill>
          <a:blip r:embed="rId6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263" name="Блок-схема: процесс 4" descr=""/>
          <p:cNvPicPr/>
          <p:nvPr/>
        </p:nvPicPr>
        <p:blipFill>
          <a:blip r:embed="rId7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264" name="Блок-схема: процесс 1" descr=""/>
          <p:cNvPicPr/>
          <p:nvPr/>
        </p:nvPicPr>
        <p:blipFill>
          <a:blip r:embed="rId8"/>
          <a:stretch/>
        </p:blipFill>
        <p:spPr>
          <a:xfrm>
            <a:off x="225360" y="1036800"/>
            <a:ext cx="2103480" cy="761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3" descr="C:\Documents and Settings\User\Рабочий стол\ТРИГГЕРЫ\Овчинникова\МК  4\сетка.png"/>
          <p:cNvPicPr/>
          <p:nvPr/>
        </p:nvPicPr>
        <p:blipFill>
          <a:blip r:embed="rId9"/>
          <a:stretch/>
        </p:blipFill>
        <p:spPr>
          <a:xfrm>
            <a:off x="3700440" y="3200400"/>
            <a:ext cx="1596960" cy="3681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Documents and Settings\User\Рабочий стол\ТРИГГЕРЫ\Овчинникова\МК  4\3.png"/>
          <p:cNvPicPr/>
          <p:nvPr/>
        </p:nvPicPr>
        <p:blipFill>
          <a:blip r:embed="rId10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C:\Documents and Settings\User\Рабочий стол\ТРИГГЕРЫ\Овчинникова\МК  4\мяч.png"/>
          <p:cNvPicPr/>
          <p:nvPr/>
        </p:nvPicPr>
        <p:blipFill>
          <a:blip r:embed="rId11"/>
          <a:stretch/>
        </p:blipFill>
        <p:spPr>
          <a:xfrm rot="6252600">
            <a:off x="5948280" y="3582720"/>
            <a:ext cx="795240" cy="804960"/>
          </a:xfrm>
          <a:prstGeom prst="rect">
            <a:avLst/>
          </a:prstGeom>
          <a:ln w="0">
            <a:noFill/>
          </a:ln>
        </p:spPr>
      </p:pic>
      <p:pic>
        <p:nvPicPr>
          <p:cNvPr id="268" name="апп.mp3" descr=""/>
          <p:cNvPicPr/>
          <p:nvPr/>
        </p:nvPicPr>
        <p:blipFill>
          <a:blip r:embed="rId12"/>
          <a:stretch/>
        </p:blipFill>
        <p:spPr>
          <a:xfrm>
            <a:off x="9358200" y="5500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9" name="Скругленный прямоугольник 15" descr=""/>
          <p:cNvPicPr/>
          <p:nvPr/>
        </p:nvPicPr>
        <p:blipFill>
          <a:blip r:embed="rId13"/>
          <a:stretch/>
        </p:blipFill>
        <p:spPr>
          <a:xfrm>
            <a:off x="12600" y="42840"/>
            <a:ext cx="1298520" cy="968400"/>
          </a:xfrm>
          <a:prstGeom prst="rect">
            <a:avLst/>
          </a:prstGeom>
          <a:ln w="0">
            <a:noFill/>
          </a:ln>
        </p:spPr>
      </p:pic>
      <p:pic>
        <p:nvPicPr>
          <p:cNvPr id="270" name="солнышко.mp3" descr=""/>
          <p:cNvPicPr/>
          <p:nvPr/>
        </p:nvPicPr>
        <p:blipFill>
          <a:blip r:embed="rId14"/>
          <a:stretch/>
        </p:blipFill>
        <p:spPr>
          <a:xfrm>
            <a:off x="9358200" y="4500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Блок-схема: знак завершения 9">
            <a:hlinkClick r:id="rId15" action="ppaction://hlinksldjump"/>
          </p:cNvPr>
          <p:cNvSpPr/>
          <p:nvPr/>
        </p:nvSpPr>
        <p:spPr>
          <a:xfrm>
            <a:off x="1357200" y="214200"/>
            <a:ext cx="5786640" cy="100008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Calibri"/>
              </a:rPr>
              <a:t>ПОЗДРАВЛЯЕМ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6"/>
          <a:stretch/>
        </p:blipFill>
        <p:spPr>
          <a:xfrm>
            <a:off x="1500120" y="2286000"/>
            <a:ext cx="2212920" cy="2214720"/>
          </a:xfrm>
          <a:prstGeom prst="rect">
            <a:avLst/>
          </a:prstGeom>
          <a:ln w="0">
            <a:noFill/>
          </a:ln>
        </p:spPr>
      </p:pic>
      <p:grpSp>
        <p:nvGrpSpPr>
          <p:cNvPr id="273" name="Овал 18"/>
          <p:cNvGrpSpPr/>
          <p:nvPr/>
        </p:nvGrpSpPr>
        <p:grpSpPr>
          <a:xfrm>
            <a:off x="8345520" y="1841400"/>
            <a:ext cx="590400" cy="596880"/>
            <a:chOff x="8345520" y="1841400"/>
            <a:chExt cx="590400" cy="596880"/>
          </a:xfrm>
        </p:grpSpPr>
        <p:pic>
          <p:nvPicPr>
            <p:cNvPr id="274" name="Овал 18" descr=""/>
            <p:cNvPicPr/>
            <p:nvPr/>
          </p:nvPicPr>
          <p:blipFill>
            <a:blip r:embed="rId17"/>
            <a:stretch/>
          </p:blipFill>
          <p:spPr>
            <a:xfrm>
              <a:off x="8345520" y="184140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854244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Овал 19"/>
          <p:cNvGrpSpPr/>
          <p:nvPr/>
        </p:nvGrpSpPr>
        <p:grpSpPr>
          <a:xfrm>
            <a:off x="8345520" y="2341440"/>
            <a:ext cx="590400" cy="596880"/>
            <a:chOff x="8345520" y="2341440"/>
            <a:chExt cx="590400" cy="596880"/>
          </a:xfrm>
        </p:grpSpPr>
        <p:pic>
          <p:nvPicPr>
            <p:cNvPr id="277" name="Овал 19" descr=""/>
            <p:cNvPicPr/>
            <p:nvPr/>
          </p:nvPicPr>
          <p:blipFill>
            <a:blip r:embed="rId18"/>
            <a:stretch/>
          </p:blipFill>
          <p:spPr>
            <a:xfrm>
              <a:off x="8345520" y="234144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54244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Овал 20"/>
          <p:cNvGrpSpPr/>
          <p:nvPr/>
        </p:nvGrpSpPr>
        <p:grpSpPr>
          <a:xfrm>
            <a:off x="8345520" y="2914560"/>
            <a:ext cx="590400" cy="596880"/>
            <a:chOff x="8345520" y="2914560"/>
            <a:chExt cx="590400" cy="596880"/>
          </a:xfrm>
        </p:grpSpPr>
        <p:pic>
          <p:nvPicPr>
            <p:cNvPr id="280" name="Овал 20" descr=""/>
            <p:cNvPicPr/>
            <p:nvPr/>
          </p:nvPicPr>
          <p:blipFill>
            <a:blip r:embed="rId19"/>
            <a:stretch/>
          </p:blipFill>
          <p:spPr>
            <a:xfrm>
              <a:off x="8345520" y="291456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854244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8" dur="indefinite" restart="never" nodeType="tmRoot">
          <p:childTnLst>
            <p:seq>
              <p:cTn id="83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870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-1.03608E-006 C -0.00486 -0.01064 -0.02187 -0.02128 -0.0276 -0.02128 C -0.0651 -0.02128 -0.10364 0.14524 -0.10364 0.31175 C -0.10364 0.2278 -0.12274 0.14524 -0.14097 0.14524 C -0.16024 0.14524 -0.17847 0.22919 -0.17847 0.31175 C -0.17847 0.27035 -0.18802 0.2278 -0.19757 0.2278 C -0.20729 0.2278 -0.21684 0.2692 -0.21684 0.31175 C -0.21684 0.29047 -0.2217 0.27035 -0.22656 0.27035 C -0.23125 0.27035 -0.23611 0.29163 -0.23611 0.31175 C -0.23611 0.30111 -0.23871 0.29047 -0.24097 0.29047 C -0.24218 0.29047 -0.24566 0.30111 -0.24566 0.31175 C -0.24566 0.30643 -0.24704 0.30111 -0.24826 0.30111 C -0.24826 0.29972 -0.25069 0.30643 -0.25069 0.31175 C -0.25069 0.30897 -0.25069 0.30643 -0.25208 0.30643 C -0.25208 0.30782 -0.25329 0.30921 -0.25329 0.31175 C -0.25329 0.31036 -0.25329 0.30897 -0.25329 0.30782 C -0.25451 0.30782 -0.25451 0.30921 -0.25451 0.31059 C -0.25573 0.31059 -0.25573 0.30921 -0.25573 0.30782 C -0.25694 0.30782 -0.25694 0.30921 -0.25694 0.31059 E">
                                      <p:cBhvr>
                                        <p:cTn id="882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0" dur="5904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0213E-006 L -0.05729 -0.05111 E">
                                      <p:cBhvr>
                                        <p:cTn id="89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3" nodeType="withEffect" fill="hold" presetClass="path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34 0.0266 L -0.09114 -0.12072 C -0.11024 -0.1531 -0.14184 -0.179 -0.17725 -0.19103 C -0.21736 -0.20583 -0.30416 -0.13506 -0.33559 -0.09459 L -0.41441 0.07632 E">
                                      <p:cBhvr>
                                        <p:cTn id="894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8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2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29 -0.05111 L -0.00226 -0.00902 E">
                                      <p:cBhvr>
                                        <p:cTn id="92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2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904"/>
                            </p:stCondLst>
                            <p:childTnLst>
                              <p:par>
                                <p:cTn id="9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0" dur="5235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8" repeatCount="2000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93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2.63645E-006 L 0.029 -0.09713 C 0.03802 -0.11841 0.05538 -0.13459 0.07518 -0.142 C 0.09792 -0.15055 0.11823 -0.1487 0.1342 -0.13668 L 0.21146 -0.0858 E">
                                      <p:cBhvr>
                                        <p:cTn id="94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4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9618 8.32562E-007 L 0.35868 -0.13992 C 0.32969 -0.17137 0.28681 -0.18871 0.24201 -0.18871 C 0.1908 -0.18871 0.15 -0.17137 0.12118 -0.13992 L -0.0158 8.32562E-007 E">
                                      <p:cBhvr>
                                        <p:cTn id="94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path" presetID="44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2.5E-006 4.6531E-006 L 0.13299 -0.15125 C 0.16077 -0.18548 0.20261 -0.20444 0.24601 -0.20444 C 0.29549 -0.20444 0.33525 -0.18548 0.36302 -0.15125 L 0.49618 4.6531E-006 E">
                                      <p:cBhvr>
                                        <p:cTn id="94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nodeType="withEffect" fill="hold" presetClass="path" presetID="1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43333 -0.08926 C 0.37917 -0.1827 0.29809 -0.24121 0.20764 -0.24121 C 0.11771 -0.24121 0.03663 -0.1827 -0.01719 -0.08926 C 0.03663 0.0037 0.11771 0.06314 0.20764 0.06314 C 0.29809 0.06314 0.37917 0.0037 0.43333 -0.08926 Z">
                                      <p:cBhvr>
                                        <p:cTn id="946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nodeType="withEffect" fill="hold" presetClass="emph" presetID="8">
                                  <p:stCondLst>
                                    <p:cond delay="9000"/>
                                  </p:stCondLst>
                                  <p:childTnLst>
                                    <p:animRot by="-21600000">
                                      <p:cBhvr>
                                        <p:cTn id="948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44">
                                  <p:stCondLst>
                                    <p:cond delay="11000"/>
                                  </p:stCondLst>
                                  <p:childTnLst>
                                    <p:animMotion origin="layout" path="M 0.42691 2.53469E-006 L 0.31233 -0.17877 C 0.28837 -0.21901 0.25244 -0.24121 0.21494 -0.24121 C 0.1724 -0.24121 0.1382 -0.21901 0.11424 -0.17877 L 5E-006 2.53469E-006 E">
                                      <p:cBhvr>
                                        <p:cTn id="95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44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-2.77778E-006 -4.49584E-006 L 0.11979 -0.16304 C 0.14497 -0.19981 0.18264 -0.22016 0.2217 -0.22016 C 0.2665 -0.22016 0.30226 -0.19981 0.32743 -0.16304 L 0.4474 -4.49584E-006 E">
                                      <p:cBhvr>
                                        <p:cTn id="95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nodeType="withEffect" fill="hold" presetClass="path" presetID="64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49618 1.68363E-006 L 0.22274 -0.17299 E">
                                      <p:cBhvr>
                                        <p:cTn id="954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8">
                                  <p:stCondLst>
                                    <p:cond delay="18000"/>
                                  </p:stCondLst>
                                  <p:childTnLst>
                                    <p:animRot by="21600000">
                                      <p:cBhvr>
                                        <p:cTn id="956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96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642960" y="5716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f497d"/>
                </a:solidFill>
                <a:latin typeface="Arial Black"/>
              </a:rPr>
              <a:t>Список </a:t>
            </a:r>
            <a:r>
              <a:rPr b="0" lang="ru-RU" sz="1800" spc="-1" strike="noStrike">
                <a:solidFill>
                  <a:srgbClr val="1f497d"/>
                </a:solidFill>
                <a:latin typeface="Arial Black"/>
              </a:rPr>
              <a:t>использованных ресур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28400" y="121428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 –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i046.radikal.ru/0805/3e/dcd0e688db78t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ышко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radikal.ru/F/i046.radikal.ru/0805/1d/553b7ae1e0b1.png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011.radikal.ru/0805/e6/fd2cc8d085c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лодисменты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odst.ru/pix/user_files/2/2085/aplodisments1.mp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noise.podst.ru/posts/1619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одия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odst.ru/pix/user_files/2/1806/music_box_long_play.mp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Манжула А.М., Мастер-класс "Всё о триггерах"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500040" y="47149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 Black"/>
              </a:rPr>
              <a:t>Методические 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 Black"/>
              </a:rPr>
              <a:t>использованные в создании иг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00040" y="214200"/>
            <a:ext cx="8286840" cy="4429080"/>
          </a:xfrm>
          <a:prstGeom prst="rect">
            <a:avLst/>
          </a:prstGeom>
          <a:solidFill>
            <a:srgbClr val="ffffff">
              <a:alpha val="3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57120" y="5716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 Black"/>
              </a:rPr>
              <a:t>Анно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Дидактическая игра «Волейбол»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направлена на обобщение и контроль зна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На слайдах №3-12 добавьте вопросы  и ответы в соответствующие по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Для появления вопроса следует нажать на надпись «команда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При выборе правильного ответа, мяч перебрасывается через сетку, звучат аплодисменты, появляется надпись: «дальше», право ответа на вопрос переходит противоположной команд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При выборе неправильного ответа, надпись исчезает, команда получает штрафное очк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Documents and Settings\User\Рабочий стол\ТРИГГЕРЫ\Овчинникова\МК  4\3.png"/>
          <p:cNvPicPr/>
          <p:nvPr/>
        </p:nvPicPr>
        <p:blipFill>
          <a:blip r:embed="rId2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58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59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2457360" y="55440"/>
            <a:ext cx="6491520" cy="99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pic>
        <p:nvPicPr>
          <p:cNvPr id="61" name="Блок-схема: процесс 7" descr=""/>
          <p:cNvPicPr/>
          <p:nvPr/>
        </p:nvPicPr>
        <p:blipFill>
          <a:blip r:embed="rId6"/>
          <a:stretch/>
        </p:blipFill>
        <p:spPr>
          <a:xfrm>
            <a:off x="6656400" y="1036800"/>
            <a:ext cx="2255760" cy="76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User\Рабочий стол\ТРИГГЕРЫ\Овчинникова\МК  4\мяч.png"/>
          <p:cNvPicPr/>
          <p:nvPr/>
        </p:nvPicPr>
        <p:blipFill>
          <a:blip r:embed="rId7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63" name="Блок-схема: знак завершения 14">
            <a:hlinkClick r:id="rId8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alibr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апп.mp3" descr=""/>
          <p:cNvPicPr/>
          <p:nvPr/>
        </p:nvPicPr>
        <p:blipFill>
          <a:blip r:embed="rId9"/>
          <a:stretch/>
        </p:blipFill>
        <p:spPr>
          <a:xfrm>
            <a:off x="-30492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C:\Documents and Settings\User\Рабочий стол\ТРИГГЕРЫ\Овчинникова\МК  4\сетка.png"/>
          <p:cNvPicPr/>
          <p:nvPr/>
        </p:nvPicPr>
        <p:blipFill>
          <a:blip r:embed="rId10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66" name="Блок-схема: процесс 8" descr=""/>
          <p:cNvPicPr/>
          <p:nvPr/>
        </p:nvPicPr>
        <p:blipFill>
          <a:blip r:embed="rId11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67" name="Блок-схема: процесс 6" descr=""/>
          <p:cNvPicPr/>
          <p:nvPr/>
        </p:nvPicPr>
        <p:blipFill>
          <a:blip r:embed="rId12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Блок-схема: процесс 5" descr=""/>
          <p:cNvPicPr/>
          <p:nvPr/>
        </p:nvPicPr>
        <p:blipFill>
          <a:blip r:embed="rId13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16" descr=""/>
          <p:cNvPicPr/>
          <p:nvPr/>
        </p:nvPicPr>
        <p:blipFill>
          <a:blip r:embed="rId14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70" name="Овал 18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71" name="Овал 18" descr=""/>
            <p:cNvPicPr/>
            <p:nvPr/>
          </p:nvPicPr>
          <p:blipFill>
            <a:blip r:embed="rId15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Овал 19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74" name="Овал 19" descr=""/>
            <p:cNvPicPr/>
            <p:nvPr/>
          </p:nvPicPr>
          <p:blipFill>
            <a:blip r:embed="rId16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Овал 20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77" name="Овал 20" descr=""/>
            <p:cNvPicPr/>
            <p:nvPr/>
          </p:nvPicPr>
          <p:blipFill>
            <a:blip r:embed="rId17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3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590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2192E-006 L 0.06805 -0.02891 E">
                                      <p:cBhvr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1249 L 0.09549 -0.16259 C 0.11441 -0.19589 0.14584 -0.21809 0.18004 -0.22433 C 0.21927 -0.2315 0.25226 -0.22086 0.27726 -0.19543 L 0.39584 -0.08349 E">
                                      <p:cBhvr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0.03423 L 2.5E-006 4.75486E-006 E">
                                      <p:cBhvr>
                                        <p:cTn id="4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Блок-схема: процесс 3" descr=""/>
          <p:cNvPicPr/>
          <p:nvPr/>
        </p:nvPicPr>
        <p:blipFill>
          <a:blip r:embed="rId2"/>
          <a:stretch/>
        </p:blipFill>
        <p:spPr>
          <a:xfrm>
            <a:off x="6645240" y="1036800"/>
            <a:ext cx="2266920" cy="761760"/>
          </a:xfrm>
          <a:prstGeom prst="rect">
            <a:avLst/>
          </a:prstGeom>
          <a:ln w="0">
            <a:noFill/>
          </a:ln>
        </p:spPr>
      </p:pic>
      <p:pic>
        <p:nvPicPr>
          <p:cNvPr id="80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7223040" y="60480"/>
            <a:ext cx="1708200" cy="993600"/>
          </a:xfrm>
          <a:prstGeom prst="rect">
            <a:avLst/>
          </a:prstGeom>
          <a:ln w="0">
            <a:noFill/>
          </a:ln>
        </p:spPr>
      </p:pic>
      <p:pic>
        <p:nvPicPr>
          <p:cNvPr id="81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884160" y="55440"/>
            <a:ext cx="6357960" cy="998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sp>
        <p:nvSpPr>
          <p:cNvPr id="83" name="Блок-схема: знак завершения 9">
            <a:hlinkClick r:id="rId6" action="ppaction://hlinksldjump"/>
          </p:cNvPr>
          <p:cNvSpPr/>
          <p:nvPr/>
        </p:nvSpPr>
        <p:spPr>
          <a:xfrm>
            <a:off x="407196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alibr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Блок-схема: процесс 2" descr=""/>
          <p:cNvPicPr/>
          <p:nvPr/>
        </p:nvPicPr>
        <p:blipFill>
          <a:blip r:embed="rId7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Блок-схема: процесс 4" descr=""/>
          <p:cNvPicPr/>
          <p:nvPr/>
        </p:nvPicPr>
        <p:blipFill>
          <a:blip r:embed="rId8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Блок-схема: процесс 1" descr=""/>
          <p:cNvPicPr/>
          <p:nvPr/>
        </p:nvPicPr>
        <p:blipFill>
          <a:blip r:embed="rId9"/>
          <a:stretch/>
        </p:blipFill>
        <p:spPr>
          <a:xfrm>
            <a:off x="225360" y="1036800"/>
            <a:ext cx="2103480" cy="761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3" descr="C:\Documents and Settings\User\Рабочий стол\ТРИГГЕРЫ\Овчинникова\МК  4\сетка.png"/>
          <p:cNvPicPr/>
          <p:nvPr/>
        </p:nvPicPr>
        <p:blipFill>
          <a:blip r:embed="rId10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User\Рабочий стол\ТРИГГЕРЫ\Овчинникова\МК  4\3.png"/>
          <p:cNvPicPr/>
          <p:nvPr/>
        </p:nvPicPr>
        <p:blipFill>
          <a:blip r:embed="rId11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User\Рабочий стол\ТРИГГЕРЫ\Овчинникова\МК  4\мяч.png"/>
          <p:cNvPicPr/>
          <p:nvPr/>
        </p:nvPicPr>
        <p:blipFill>
          <a:blip r:embed="rId12"/>
          <a:stretch/>
        </p:blipFill>
        <p:spPr>
          <a:xfrm rot="6252600">
            <a:off x="5948280" y="3582720"/>
            <a:ext cx="795240" cy="804960"/>
          </a:xfrm>
          <a:prstGeom prst="rect">
            <a:avLst/>
          </a:prstGeom>
          <a:ln w="0">
            <a:noFill/>
          </a:ln>
        </p:spPr>
      </p:pic>
      <p:pic>
        <p:nvPicPr>
          <p:cNvPr id="90" name="апп.mp3" descr=""/>
          <p:cNvPicPr/>
          <p:nvPr/>
        </p:nvPicPr>
        <p:blipFill>
          <a:blip r:embed="rId13"/>
          <a:stretch/>
        </p:blipFill>
        <p:spPr>
          <a:xfrm>
            <a:off x="9358200" y="5500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0" y="42840"/>
            <a:ext cx="1042920" cy="968400"/>
          </a:xfrm>
          <a:prstGeom prst="rect">
            <a:avLst/>
          </a:prstGeom>
          <a:ln w="0">
            <a:noFill/>
          </a:ln>
        </p:spPr>
      </p:pic>
      <p:grpSp>
        <p:nvGrpSpPr>
          <p:cNvPr id="92" name="Овал 16"/>
          <p:cNvGrpSpPr/>
          <p:nvPr/>
        </p:nvGrpSpPr>
        <p:grpSpPr>
          <a:xfrm>
            <a:off x="8412120" y="1841400"/>
            <a:ext cx="598680" cy="596880"/>
            <a:chOff x="8412120" y="1841400"/>
            <a:chExt cx="598680" cy="596880"/>
          </a:xfrm>
        </p:grpSpPr>
        <p:pic>
          <p:nvPicPr>
            <p:cNvPr id="93" name="Овал 16" descr=""/>
            <p:cNvPicPr/>
            <p:nvPr/>
          </p:nvPicPr>
          <p:blipFill>
            <a:blip r:embed="rId15"/>
            <a:stretch/>
          </p:blipFill>
          <p:spPr>
            <a:xfrm>
              <a:off x="8412120" y="1841400"/>
              <a:ext cx="598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613720" y="204156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Овал 17"/>
          <p:cNvGrpSpPr/>
          <p:nvPr/>
        </p:nvGrpSpPr>
        <p:grpSpPr>
          <a:xfrm>
            <a:off x="8412120" y="2341440"/>
            <a:ext cx="598680" cy="596880"/>
            <a:chOff x="8412120" y="2341440"/>
            <a:chExt cx="598680" cy="596880"/>
          </a:xfrm>
        </p:grpSpPr>
        <p:pic>
          <p:nvPicPr>
            <p:cNvPr id="96" name="Овал 17" descr=""/>
            <p:cNvPicPr/>
            <p:nvPr/>
          </p:nvPicPr>
          <p:blipFill>
            <a:blip r:embed="rId16"/>
            <a:stretch/>
          </p:blipFill>
          <p:spPr>
            <a:xfrm>
              <a:off x="8412120" y="2341440"/>
              <a:ext cx="598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613720" y="254160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Овал 18"/>
          <p:cNvGrpSpPr/>
          <p:nvPr/>
        </p:nvGrpSpPr>
        <p:grpSpPr>
          <a:xfrm>
            <a:off x="8412120" y="2914560"/>
            <a:ext cx="598680" cy="596880"/>
            <a:chOff x="8412120" y="2914560"/>
            <a:chExt cx="598680" cy="596880"/>
          </a:xfrm>
        </p:grpSpPr>
        <p:pic>
          <p:nvPicPr>
            <p:cNvPr id="99" name="Овал 18" descr=""/>
            <p:cNvPicPr/>
            <p:nvPr/>
          </p:nvPicPr>
          <p:blipFill>
            <a:blip r:embed="rId17"/>
            <a:stretch/>
          </p:blipFill>
          <p:spPr>
            <a:xfrm>
              <a:off x="8412120" y="2914560"/>
              <a:ext cx="598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613720" y="311292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12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03608E-006 C -0.00486 -0.01064 -0.02187 -0.02128 -0.0276 -0.02128 C -0.0651 -0.02128 -0.10364 0.14524 -0.10364 0.31175 C -0.10364 0.2278 -0.12274 0.14524 -0.14097 0.14524 C -0.16024 0.14524 -0.17847 0.22919 -0.17847 0.31175 C -0.17847 0.27035 -0.18802 0.2278 -0.19757 0.2278 C -0.20729 0.2278 -0.21684 0.2692 -0.21684 0.31175 C -0.21684 0.29047 -0.2217 0.27035 -0.22656 0.27035 C -0.23125 0.27035 -0.23611 0.29163 -0.23611 0.31175 C -0.23611 0.30111 -0.23871 0.29047 -0.24097 0.29047 C -0.24218 0.29047 -0.24566 0.30111 -0.24566 0.31175 C -0.24566 0.30643 -0.24704 0.30111 -0.24826 0.30111 C -0.24826 0.29972 -0.25069 0.30643 -0.25069 0.31175 C -0.25069 0.30897 -0.25069 0.30643 -0.25208 0.30643 C -0.25208 0.30782 -0.25329 0.30921 -0.25329 0.31175 C -0.25329 0.31036 -0.25329 0.30897 -0.25329 0.30782 C -0.25451 0.30782 -0.25451 0.30921 -0.25451 0.31059 C -0.25573 0.31059 -0.25573 0.30921 -0.25573 0.30782 C -0.25694 0.30782 -0.25694 0.30921 -0.25694 0.31059 E">
                                      <p:cBhvr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590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0213E-006 L -0.05729 -0.05111 E">
                                      <p:cBhvr>
                                        <p:cTn id="14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23 L -0.09114 -0.13043 C -0.11024 -0.15911 -0.14184 -0.18201 -0.17725 -0.19264 C -0.21753 -0.20583 -0.30434 -0.14315 -0.33576 -0.10731 L -0.41475 0.04371 E">
                                      <p:cBhvr>
                                        <p:cTn id="15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29 -0.05111 L -0.00226 -0.00902 E">
                                      <p:cBhvr>
                                        <p:cTn id="16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18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кругленный прямоугольник 1" descr=""/>
          <p:cNvPicPr/>
          <p:nvPr/>
        </p:nvPicPr>
        <p:blipFill>
          <a:blip r:embed="rId2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102" name="Скругленный прямоугольник 2" descr=""/>
          <p:cNvPicPr/>
          <p:nvPr/>
        </p:nvPicPr>
        <p:blipFill>
          <a:blip r:embed="rId3"/>
          <a:stretch/>
        </p:blipFill>
        <p:spPr>
          <a:xfrm>
            <a:off x="2457360" y="55440"/>
            <a:ext cx="6491520" cy="998640"/>
          </a:xfrm>
          <a:prstGeom prst="rect">
            <a:avLst/>
          </a:prstGeom>
          <a:ln w="0">
            <a:noFill/>
          </a:ln>
        </p:spPr>
      </p:pic>
      <p:pic>
        <p:nvPicPr>
          <p:cNvPr id="103" name="Блок-схема: процесс 3" descr=""/>
          <p:cNvPicPr/>
          <p:nvPr/>
        </p:nvPicPr>
        <p:blipFill>
          <a:blip r:embed="rId4"/>
          <a:stretch/>
        </p:blipFill>
        <p:spPr>
          <a:xfrm>
            <a:off x="6656400" y="1036800"/>
            <a:ext cx="2255760" cy="76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Documents and Settings\User\Рабочий стол\ТРИГГЕРЫ\Овчинникова\МК  4\1.png"/>
          <p:cNvPicPr/>
          <p:nvPr/>
        </p:nvPicPr>
        <p:blipFill>
          <a:blip r:embed="rId5"/>
          <a:stretch/>
        </p:blipFill>
        <p:spPr>
          <a:xfrm>
            <a:off x="285840" y="3429000"/>
            <a:ext cx="2111400" cy="2916360"/>
          </a:xfrm>
          <a:prstGeom prst="rect">
            <a:avLst/>
          </a:prstGeom>
          <a:ln w="0">
            <a:noFill/>
          </a:ln>
        </p:spPr>
      </p:pic>
      <p:pic>
        <p:nvPicPr>
          <p:cNvPr id="105" name="апп.mp3" descr=""/>
          <p:cNvPicPr/>
          <p:nvPr/>
        </p:nvPicPr>
        <p:blipFill>
          <a:blip r:embed="rId6"/>
          <a:stretch/>
        </p:blipFill>
        <p:spPr>
          <a:xfrm>
            <a:off x="-50004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:\Documents and Settings\User\Рабочий стол\ТРИГГЕРЫ\Овчинникова\МК  4\4.png"/>
          <p:cNvPicPr/>
          <p:nvPr/>
        </p:nvPicPr>
        <p:blipFill>
          <a:blip r:embed="rId7"/>
          <a:stretch/>
        </p:blipFill>
        <p:spPr>
          <a:xfrm>
            <a:off x="6740640" y="3643200"/>
            <a:ext cx="1689120" cy="2990880"/>
          </a:xfrm>
          <a:prstGeom prst="rect">
            <a:avLst/>
          </a:prstGeom>
          <a:ln w="0">
            <a:noFill/>
          </a:ln>
        </p:spPr>
      </p:pic>
      <p:pic>
        <p:nvPicPr>
          <p:cNvPr id="107" name="Блок-схема: процесс 5" descr=""/>
          <p:cNvPicPr/>
          <p:nvPr/>
        </p:nvPicPr>
        <p:blipFill>
          <a:blip r:embed="rId8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Блок-схема: процесс 4" descr=""/>
          <p:cNvPicPr/>
          <p:nvPr/>
        </p:nvPicPr>
        <p:blipFill>
          <a:blip r:embed="rId9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109" name="Блок-схема: процесс 6" descr=""/>
          <p:cNvPicPr/>
          <p:nvPr/>
        </p:nvPicPr>
        <p:blipFill>
          <a:blip r:embed="rId10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User\Рабочий стол\ТРИГГЕРЫ\Овчинникова\МК  4\мяч.png"/>
          <p:cNvPicPr/>
          <p:nvPr/>
        </p:nvPicPr>
        <p:blipFill>
          <a:blip r:embed="rId11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111" name="Блок-схема: знак завершения 12">
            <a:hlinkClick r:id="rId12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alibr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3" descr="C:\Documents and Settings\User\Рабочий стол\ТРИГГЕРЫ\Овчинникова\МК  4\сетка.png"/>
          <p:cNvPicPr/>
          <p:nvPr/>
        </p:nvPicPr>
        <p:blipFill>
          <a:blip r:embed="rId13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113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114" name="Овал 16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115" name="Овал 16" descr=""/>
            <p:cNvPicPr/>
            <p:nvPr/>
          </p:nvPicPr>
          <p:blipFill>
            <a:blip r:embed="rId15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Овал 17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118" name="Овал 17" descr=""/>
            <p:cNvPicPr/>
            <p:nvPr/>
          </p:nvPicPr>
          <p:blipFill>
            <a:blip r:embed="rId16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Овал 18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121" name="Овал 18" descr=""/>
            <p:cNvPicPr/>
            <p:nvPr/>
          </p:nvPicPr>
          <p:blipFill>
            <a:blip r:embed="rId17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21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590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2359 L 0.04514 -0.11008 E">
                                      <p:cBhvr>
                                        <p:cTn id="22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97 -0.12442 L -0.00104 -0.01295 E">
                                      <p:cBhvr>
                                        <p:cTn id="23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9722E-006 L 0.08211 -0.14848 C 0.0993 -0.18155 0.12812 -0.20329 0.15937 -0.20907 C 0.19548 -0.21554 0.22586 -0.20444 0.24896 -0.17854 L 0.35902 -0.06522 E">
                                      <p:cBhvr>
                                        <p:cTn id="23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26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27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Блок-схема: процесс 1" descr=""/>
          <p:cNvPicPr/>
          <p:nvPr/>
        </p:nvPicPr>
        <p:blipFill>
          <a:blip r:embed="rId2"/>
          <a:stretch/>
        </p:blipFill>
        <p:spPr>
          <a:xfrm>
            <a:off x="6645240" y="1036800"/>
            <a:ext cx="2266920" cy="761760"/>
          </a:xfrm>
          <a:prstGeom prst="rect">
            <a:avLst/>
          </a:prstGeom>
          <a:ln w="0">
            <a:noFill/>
          </a:ln>
        </p:spPr>
      </p:pic>
      <p:pic>
        <p:nvPicPr>
          <p:cNvPr id="124" name="Скругленный прямоугольник 2" descr=""/>
          <p:cNvPicPr/>
          <p:nvPr/>
        </p:nvPicPr>
        <p:blipFill>
          <a:blip r:embed="rId3"/>
          <a:stretch/>
        </p:blipFill>
        <p:spPr>
          <a:xfrm>
            <a:off x="7186680" y="60480"/>
            <a:ext cx="1708200" cy="993600"/>
          </a:xfrm>
          <a:prstGeom prst="rect">
            <a:avLst/>
          </a:prstGeom>
          <a:ln w="0">
            <a:noFill/>
          </a:ln>
        </p:spPr>
      </p:pic>
      <p:pic>
        <p:nvPicPr>
          <p:cNvPr id="125" name="Скругленный прямоугольник 3" descr=""/>
          <p:cNvPicPr/>
          <p:nvPr/>
        </p:nvPicPr>
        <p:blipFill>
          <a:blip r:embed="rId4"/>
          <a:stretch/>
        </p:blipFill>
        <p:spPr>
          <a:xfrm>
            <a:off x="817560" y="55440"/>
            <a:ext cx="6418440" cy="9622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знак завершения 4">
            <a:hlinkClick r:id="rId5" action="ppaction://hlinksldjump"/>
          </p:cNvPr>
          <p:cNvSpPr/>
          <p:nvPr/>
        </p:nvSpPr>
        <p:spPr>
          <a:xfrm>
            <a:off x="407196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alibr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Блок-схема: процесс 5" descr=""/>
          <p:cNvPicPr/>
          <p:nvPr/>
        </p:nvPicPr>
        <p:blipFill>
          <a:blip r:embed="rId6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Блок-схема: процесс 6" descr=""/>
          <p:cNvPicPr/>
          <p:nvPr/>
        </p:nvPicPr>
        <p:blipFill>
          <a:blip r:embed="rId7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Блок-схема: процесс 7" descr=""/>
          <p:cNvPicPr/>
          <p:nvPr/>
        </p:nvPicPr>
        <p:blipFill>
          <a:blip r:embed="rId8"/>
          <a:stretch/>
        </p:blipFill>
        <p:spPr>
          <a:xfrm>
            <a:off x="2365200" y="1036800"/>
            <a:ext cx="210996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3" descr="C:\Documents and Settings\User\Рабочий стол\ТРИГГЕРЫ\Овчинникова\МК  4\сетка.png"/>
          <p:cNvPicPr/>
          <p:nvPr/>
        </p:nvPicPr>
        <p:blipFill>
          <a:blip r:embed="rId9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User\Рабочий стол\ТРИГГЕРЫ\Овчинникова\МК  4\4.png"/>
          <p:cNvPicPr/>
          <p:nvPr/>
        </p:nvPicPr>
        <p:blipFill>
          <a:blip r:embed="rId10"/>
          <a:stretch/>
        </p:blipFill>
        <p:spPr>
          <a:xfrm>
            <a:off x="6954840" y="3643200"/>
            <a:ext cx="1689120" cy="299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Documents and Settings\User\Рабочий стол\ТРИГГЕРЫ\Овчинникова\МК  4\1.png"/>
          <p:cNvPicPr/>
          <p:nvPr/>
        </p:nvPicPr>
        <p:blipFill>
          <a:blip r:embed="rId11"/>
          <a:stretch/>
        </p:blipFill>
        <p:spPr>
          <a:xfrm>
            <a:off x="285840" y="3429000"/>
            <a:ext cx="2111400" cy="291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User\Рабочий стол\ТРИГГЕРЫ\Овчинникова\МК  4\мяч.png"/>
          <p:cNvPicPr/>
          <p:nvPr/>
        </p:nvPicPr>
        <p:blipFill>
          <a:blip r:embed="rId12"/>
          <a:stretch/>
        </p:blipFill>
        <p:spPr>
          <a:xfrm rot="6252600">
            <a:off x="5948280" y="3582720"/>
            <a:ext cx="795240" cy="804960"/>
          </a:xfrm>
          <a:prstGeom prst="rect">
            <a:avLst/>
          </a:prstGeom>
          <a:ln w="0">
            <a:noFill/>
          </a:ln>
        </p:spPr>
      </p:pic>
      <p:pic>
        <p:nvPicPr>
          <p:cNvPr id="134" name="апп.mp3" descr=""/>
          <p:cNvPicPr/>
          <p:nvPr/>
        </p:nvPicPr>
        <p:blipFill>
          <a:blip r:embed="rId13"/>
          <a:stretch/>
        </p:blipFill>
        <p:spPr>
          <a:xfrm>
            <a:off x="9358200" y="471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Скругленный прямоугольник 14" descr=""/>
          <p:cNvPicPr/>
          <p:nvPr/>
        </p:nvPicPr>
        <p:blipFill>
          <a:blip r:embed="rId14"/>
          <a:stretch/>
        </p:blipFill>
        <p:spPr>
          <a:xfrm>
            <a:off x="0" y="42840"/>
            <a:ext cx="1042920" cy="968400"/>
          </a:xfrm>
          <a:prstGeom prst="rect">
            <a:avLst/>
          </a:prstGeom>
          <a:ln w="0">
            <a:noFill/>
          </a:ln>
        </p:spPr>
      </p:pic>
      <p:grpSp>
        <p:nvGrpSpPr>
          <p:cNvPr id="136" name="Овал 15"/>
          <p:cNvGrpSpPr/>
          <p:nvPr/>
        </p:nvGrpSpPr>
        <p:grpSpPr>
          <a:xfrm>
            <a:off x="8345520" y="1841400"/>
            <a:ext cx="590400" cy="596880"/>
            <a:chOff x="8345520" y="1841400"/>
            <a:chExt cx="590400" cy="596880"/>
          </a:xfrm>
        </p:grpSpPr>
        <p:pic>
          <p:nvPicPr>
            <p:cNvPr id="137" name="Овал 15" descr=""/>
            <p:cNvPicPr/>
            <p:nvPr/>
          </p:nvPicPr>
          <p:blipFill>
            <a:blip r:embed="rId15"/>
            <a:stretch/>
          </p:blipFill>
          <p:spPr>
            <a:xfrm>
              <a:off x="8345520" y="184140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54244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Овал 16"/>
          <p:cNvGrpSpPr/>
          <p:nvPr/>
        </p:nvGrpSpPr>
        <p:grpSpPr>
          <a:xfrm>
            <a:off x="8345520" y="2341440"/>
            <a:ext cx="590400" cy="596880"/>
            <a:chOff x="8345520" y="2341440"/>
            <a:chExt cx="590400" cy="596880"/>
          </a:xfrm>
        </p:grpSpPr>
        <p:pic>
          <p:nvPicPr>
            <p:cNvPr id="140" name="Овал 16" descr=""/>
            <p:cNvPicPr/>
            <p:nvPr/>
          </p:nvPicPr>
          <p:blipFill>
            <a:blip r:embed="rId16"/>
            <a:stretch/>
          </p:blipFill>
          <p:spPr>
            <a:xfrm>
              <a:off x="8345520" y="234144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54244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Овал 17"/>
          <p:cNvGrpSpPr/>
          <p:nvPr/>
        </p:nvGrpSpPr>
        <p:grpSpPr>
          <a:xfrm>
            <a:off x="8345520" y="2914560"/>
            <a:ext cx="590400" cy="596880"/>
            <a:chOff x="8345520" y="2914560"/>
            <a:chExt cx="590400" cy="596880"/>
          </a:xfrm>
        </p:grpSpPr>
        <p:pic>
          <p:nvPicPr>
            <p:cNvPr id="143" name="Овал 17" descr=""/>
            <p:cNvPicPr/>
            <p:nvPr/>
          </p:nvPicPr>
          <p:blipFill>
            <a:blip r:embed="rId17"/>
            <a:stretch/>
          </p:blipFill>
          <p:spPr>
            <a:xfrm>
              <a:off x="8345520" y="2914560"/>
              <a:ext cx="590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54244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31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03608E-006 C -0.00486 -0.01064 -0.02187 -0.02128 -0.0276 -0.02128 C -0.0651 -0.02128 -0.10364 0.14524 -0.10364 0.31175 C -0.10364 0.2278 -0.12274 0.14524 -0.14097 0.14524 C -0.16024 0.14524 -0.17847 0.22919 -0.17847 0.31175 C -0.17847 0.27035 -0.18802 0.2278 -0.19757 0.2278 C -0.20729 0.2278 -0.21684 0.2692 -0.21684 0.31175 C -0.21684 0.29047 -0.2217 0.27035 -0.22656 0.27035 C -0.23125 0.27035 -0.23611 0.29163 -0.23611 0.31175 C -0.23611 0.30111 -0.23871 0.29047 -0.24097 0.29047 C -0.24218 0.29047 -0.24566 0.30111 -0.24566 0.31175 C -0.24566 0.30643 -0.24704 0.30111 -0.24826 0.30111 C -0.24826 0.29972 -0.25069 0.30643 -0.25069 0.31175 C -0.25069 0.30897 -0.25069 0.30643 -0.25208 0.30643 C -0.25208 0.30782 -0.25329 0.30921 -0.25329 0.31175 C -0.25329 0.31036 -0.25329 0.30897 -0.25329 0.30782 C -0.25451 0.30782 -0.25451 0.30921 -0.25451 0.31059 C -0.25573 0.31059 -0.25573 0.30921 -0.25573 0.30782 C -0.25694 0.30782 -0.25694 0.30921 -0.25694 0.31059 E">
                                      <p:cBhvr>
                                        <p:cTn id="3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590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9593E-006 L -0.07726 -0.03931 E">
                                      <p:cBhvr>
                                        <p:cTn id="33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23 L -0.09114 -0.13043 C -0.11024 -0.15911 -0.14184 -0.18201 -0.17725 -0.19264 C -0.21753 -0.20583 -0.30434 -0.14315 -0.33576 -0.10731 L -0.41475 0.04371 E">
                                      <p:cBhvr>
                                        <p:cTn id="33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26 -0.03931 L -0.00642 0.00278 E">
                                      <p:cBhvr>
                                        <p:cTn id="3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36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C:\Documents and Settings\User\Рабочий стол\ТРИГГЕРЫ\Овчинникова\МК  4\3.png"/>
          <p:cNvPicPr/>
          <p:nvPr/>
        </p:nvPicPr>
        <p:blipFill>
          <a:blip r:embed="rId2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146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147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2457360" y="55440"/>
            <a:ext cx="6491520" cy="99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pic>
        <p:nvPicPr>
          <p:cNvPr id="149" name="Блок-схема: процесс 7" descr=""/>
          <p:cNvPicPr/>
          <p:nvPr/>
        </p:nvPicPr>
        <p:blipFill>
          <a:blip r:embed="rId6"/>
          <a:stretch/>
        </p:blipFill>
        <p:spPr>
          <a:xfrm>
            <a:off x="458460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User\Рабочий стол\ТРИГГЕРЫ\Овчинникова\МК  4\мяч.png"/>
          <p:cNvPicPr/>
          <p:nvPr/>
        </p:nvPicPr>
        <p:blipFill>
          <a:blip r:embed="rId7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151" name="Блок-схема: знак завершения 14">
            <a:hlinkClick r:id="rId8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alibr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апп.mp3" descr=""/>
          <p:cNvPicPr/>
          <p:nvPr/>
        </p:nvPicPr>
        <p:blipFill>
          <a:blip r:embed="rId9"/>
          <a:stretch/>
        </p:blipFill>
        <p:spPr>
          <a:xfrm>
            <a:off x="-30492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C:\Documents and Settings\User\Рабочий стол\ТРИГГЕРЫ\Овчинникова\МК  4\сетка.png"/>
          <p:cNvPicPr/>
          <p:nvPr/>
        </p:nvPicPr>
        <p:blipFill>
          <a:blip r:embed="rId10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154" name="Блок-схема: процесс 8" descr=""/>
          <p:cNvPicPr/>
          <p:nvPr/>
        </p:nvPicPr>
        <p:blipFill>
          <a:blip r:embed="rId11"/>
          <a:stretch/>
        </p:blipFill>
        <p:spPr>
          <a:xfrm>
            <a:off x="6724800" y="1036800"/>
            <a:ext cx="211428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Блок-схема: процесс 6" descr=""/>
          <p:cNvPicPr/>
          <p:nvPr/>
        </p:nvPicPr>
        <p:blipFill>
          <a:blip r:embed="rId12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156" name="Блок-схема: процесс 5" descr=""/>
          <p:cNvPicPr/>
          <p:nvPr/>
        </p:nvPicPr>
        <p:blipFill>
          <a:blip r:embed="rId13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157" name="Скругленный прямоугольник 16" descr=""/>
          <p:cNvPicPr/>
          <p:nvPr/>
        </p:nvPicPr>
        <p:blipFill>
          <a:blip r:embed="rId14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158" name="Овал 18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159" name="Овал 18" descr=""/>
            <p:cNvPicPr/>
            <p:nvPr/>
          </p:nvPicPr>
          <p:blipFill>
            <a:blip r:embed="rId15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Овал 19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162" name="Овал 19" descr=""/>
            <p:cNvPicPr/>
            <p:nvPr/>
          </p:nvPicPr>
          <p:blipFill>
            <a:blip r:embed="rId16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Овал 20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165" name="Овал 20" descr=""/>
            <p:cNvPicPr/>
            <p:nvPr/>
          </p:nvPicPr>
          <p:blipFill>
            <a:blip r:embed="rId17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40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590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2192E-006 L 0.06805 -0.02891 E">
                                      <p:cBhvr>
                                        <p:cTn id="41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1249 L 0.09549 -0.16259 C 0.11441 -0.19589 0.14584 -0.21809 0.18004 -0.22433 C 0.21927 -0.2315 0.25226 -0.22086 0.27726 -0.19543 L 0.39584 -0.08349 E">
                                      <p:cBhvr>
                                        <p:cTn id="41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-0.03423 L 2.5E-006 4.75486E-006 E">
                                      <p:cBhvr>
                                        <p:cTn id="41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45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46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Блок-схема: процесс 3" descr=""/>
          <p:cNvPicPr/>
          <p:nvPr/>
        </p:nvPicPr>
        <p:blipFill>
          <a:blip r:embed="rId2"/>
          <a:stretch/>
        </p:blipFill>
        <p:spPr>
          <a:xfrm>
            <a:off x="6645240" y="1036800"/>
            <a:ext cx="2266920" cy="761760"/>
          </a:xfrm>
          <a:prstGeom prst="rect">
            <a:avLst/>
          </a:prstGeom>
          <a:ln w="0">
            <a:noFill/>
          </a:ln>
        </p:spPr>
      </p:pic>
      <p:pic>
        <p:nvPicPr>
          <p:cNvPr id="168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7186680" y="60480"/>
            <a:ext cx="1708200" cy="993600"/>
          </a:xfrm>
          <a:prstGeom prst="rect">
            <a:avLst/>
          </a:prstGeom>
          <a:ln w="0">
            <a:noFill/>
          </a:ln>
        </p:spPr>
      </p:pic>
      <p:pic>
        <p:nvPicPr>
          <p:cNvPr id="169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817560" y="171360"/>
            <a:ext cx="6418440" cy="84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Documents and Settings\User\Рабочий стол\ТРИГГЕРЫ\Овчинникова\МК  4\2.png"/>
          <p:cNvPicPr/>
          <p:nvPr/>
        </p:nvPicPr>
        <p:blipFill>
          <a:blip r:embed="rId5"/>
          <a:stretch/>
        </p:blipFill>
        <p:spPr>
          <a:xfrm>
            <a:off x="6500880" y="3714840"/>
            <a:ext cx="2374920" cy="2722320"/>
          </a:xfrm>
          <a:prstGeom prst="rect">
            <a:avLst/>
          </a:prstGeom>
          <a:ln w="0">
            <a:noFill/>
          </a:ln>
        </p:spPr>
      </p:pic>
      <p:sp>
        <p:nvSpPr>
          <p:cNvPr id="171" name="Блок-схема: знак завершения 9">
            <a:hlinkClick r:id="rId6" action="ppaction://hlinksldjump"/>
          </p:cNvPr>
          <p:cNvSpPr/>
          <p:nvPr/>
        </p:nvSpPr>
        <p:spPr>
          <a:xfrm>
            <a:off x="407196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alibr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Блок-схема: процесс 2" descr=""/>
          <p:cNvPicPr/>
          <p:nvPr/>
        </p:nvPicPr>
        <p:blipFill>
          <a:blip r:embed="rId7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Блок-схема: процесс 4" descr=""/>
          <p:cNvPicPr/>
          <p:nvPr/>
        </p:nvPicPr>
        <p:blipFill>
          <a:blip r:embed="rId8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174" name="Блок-схема: процесс 1" descr=""/>
          <p:cNvPicPr/>
          <p:nvPr/>
        </p:nvPicPr>
        <p:blipFill>
          <a:blip r:embed="rId9"/>
          <a:stretch/>
        </p:blipFill>
        <p:spPr>
          <a:xfrm>
            <a:off x="225360" y="1036800"/>
            <a:ext cx="2103480" cy="76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3" descr="C:\Documents and Settings\User\Рабочий стол\ТРИГГЕРЫ\Овчинникова\МК  4\сетка.png"/>
          <p:cNvPicPr/>
          <p:nvPr/>
        </p:nvPicPr>
        <p:blipFill>
          <a:blip r:embed="rId10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C:\Documents and Settings\User\Рабочий стол\ТРИГГЕРЫ\Овчинникова\МК  4\3.png"/>
          <p:cNvPicPr/>
          <p:nvPr/>
        </p:nvPicPr>
        <p:blipFill>
          <a:blip r:embed="rId11"/>
          <a:stretch/>
        </p:blipFill>
        <p:spPr>
          <a:xfrm>
            <a:off x="214200" y="294156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User\Рабочий стол\ТРИГГЕРЫ\Овчинникова\МК  4\мяч.png"/>
          <p:cNvPicPr/>
          <p:nvPr/>
        </p:nvPicPr>
        <p:blipFill>
          <a:blip r:embed="rId12"/>
          <a:stretch/>
        </p:blipFill>
        <p:spPr>
          <a:xfrm rot="6252600">
            <a:off x="5948280" y="3582720"/>
            <a:ext cx="795240" cy="804960"/>
          </a:xfrm>
          <a:prstGeom prst="rect">
            <a:avLst/>
          </a:prstGeom>
          <a:ln w="0">
            <a:noFill/>
          </a:ln>
        </p:spPr>
      </p:pic>
      <p:pic>
        <p:nvPicPr>
          <p:cNvPr id="178" name="апп.mp3" descr=""/>
          <p:cNvPicPr/>
          <p:nvPr/>
        </p:nvPicPr>
        <p:blipFill>
          <a:blip r:embed="rId13"/>
          <a:stretch/>
        </p:blipFill>
        <p:spPr>
          <a:xfrm>
            <a:off x="9358200" y="5500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Скругленный прямоугольник 15" descr=""/>
          <p:cNvPicPr/>
          <p:nvPr/>
        </p:nvPicPr>
        <p:blipFill>
          <a:blip r:embed="rId14"/>
          <a:stretch/>
        </p:blipFill>
        <p:spPr>
          <a:xfrm>
            <a:off x="0" y="42840"/>
            <a:ext cx="1042920" cy="968400"/>
          </a:xfrm>
          <a:prstGeom prst="rect">
            <a:avLst/>
          </a:prstGeom>
          <a:ln w="0">
            <a:noFill/>
          </a:ln>
        </p:spPr>
      </p:pic>
      <p:grpSp>
        <p:nvGrpSpPr>
          <p:cNvPr id="180" name="Овал 16"/>
          <p:cNvGrpSpPr/>
          <p:nvPr/>
        </p:nvGrpSpPr>
        <p:grpSpPr>
          <a:xfrm>
            <a:off x="8272440" y="1841400"/>
            <a:ext cx="596880" cy="596880"/>
            <a:chOff x="8272440" y="1841400"/>
            <a:chExt cx="596880" cy="596880"/>
          </a:xfrm>
        </p:grpSpPr>
        <p:pic>
          <p:nvPicPr>
            <p:cNvPr id="181" name="Овал 16" descr=""/>
            <p:cNvPicPr/>
            <p:nvPr/>
          </p:nvPicPr>
          <p:blipFill>
            <a:blip r:embed="rId15"/>
            <a:stretch/>
          </p:blipFill>
          <p:spPr>
            <a:xfrm>
              <a:off x="8272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470800" y="204156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7"/>
          <p:cNvGrpSpPr/>
          <p:nvPr/>
        </p:nvGrpSpPr>
        <p:grpSpPr>
          <a:xfrm>
            <a:off x="8272440" y="2341440"/>
            <a:ext cx="596880" cy="596880"/>
            <a:chOff x="8272440" y="2341440"/>
            <a:chExt cx="596880" cy="596880"/>
          </a:xfrm>
        </p:grpSpPr>
        <p:pic>
          <p:nvPicPr>
            <p:cNvPr id="184" name="Овал 17" descr=""/>
            <p:cNvPicPr/>
            <p:nvPr/>
          </p:nvPicPr>
          <p:blipFill>
            <a:blip r:embed="rId16"/>
            <a:stretch/>
          </p:blipFill>
          <p:spPr>
            <a:xfrm>
              <a:off x="8272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8470800" y="254160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18"/>
          <p:cNvGrpSpPr/>
          <p:nvPr/>
        </p:nvGrpSpPr>
        <p:grpSpPr>
          <a:xfrm>
            <a:off x="8272440" y="2914560"/>
            <a:ext cx="596880" cy="596880"/>
            <a:chOff x="8272440" y="2914560"/>
            <a:chExt cx="596880" cy="596880"/>
          </a:xfrm>
        </p:grpSpPr>
        <p:pic>
          <p:nvPicPr>
            <p:cNvPr id="187" name="Овал 18" descr=""/>
            <p:cNvPicPr/>
            <p:nvPr/>
          </p:nvPicPr>
          <p:blipFill>
            <a:blip r:embed="rId17"/>
            <a:stretch/>
          </p:blipFill>
          <p:spPr>
            <a:xfrm>
              <a:off x="8272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470800" y="311292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6" dur="indefinite" restart="never" nodeType="tmRoot">
          <p:childTnLst>
            <p:seq>
              <p:cTn id="46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49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03608E-006 C -0.00486 -0.01064 -0.02187 -0.02128 -0.0276 -0.02128 C -0.0651 -0.02128 -0.10364 0.14524 -0.10364 0.31175 C -0.10364 0.2278 -0.12274 0.14524 -0.14097 0.14524 C -0.16024 0.14524 -0.17847 0.22919 -0.17847 0.31175 C -0.17847 0.27035 -0.18802 0.2278 -0.19757 0.2278 C -0.20729 0.2278 -0.21684 0.2692 -0.21684 0.31175 C -0.21684 0.29047 -0.2217 0.27035 -0.22656 0.27035 C -0.23125 0.27035 -0.23611 0.29163 -0.23611 0.31175 C -0.23611 0.30111 -0.23871 0.29047 -0.24097 0.29047 C -0.24218 0.29047 -0.24566 0.30111 -0.24566 0.31175 C -0.24566 0.30643 -0.24704 0.30111 -0.24826 0.30111 C -0.24826 0.29972 -0.25069 0.30643 -0.25069 0.31175 C -0.25069 0.30897 -0.25069 0.30643 -0.25208 0.30643 C -0.25208 0.30782 -0.25329 0.30921 -0.25329 0.31175 C -0.25329 0.31036 -0.25329 0.30897 -0.25329 0.30782 C -0.25451 0.30782 -0.25451 0.30921 -0.25451 0.31059 C -0.25573 0.31059 -0.25573 0.30921 -0.25573 0.30782 C -0.25694 0.30782 -0.25694 0.30921 -0.25694 0.31059 E">
                                      <p:cBhvr>
                                        <p:cTn id="51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90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70213E-006 L -0.05729 -0.05111 E">
                                      <p:cBhvr>
                                        <p:cTn id="52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23 L -0.09114 -0.13043 C -0.11024 -0.15911 -0.14184 -0.18201 -0.17725 -0.19264 C -0.21753 -0.20583 -0.30434 -0.14315 -0.33576 -0.10731 L -0.41475 0.04371 E">
                                      <p:cBhvr>
                                        <p:cTn id="52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29 -0.05111 L -0.00226 -0.00902 E">
                                      <p:cBhvr>
                                        <p:cTn id="53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6 -0.018 -0.02131 -0.023 -0.02131 C -0.054 -0.02131 -0.086 0.1452 -0.086 0.31171 C -0.086 0.22779 -0.102 0.1452 -0.117 0.1452 C -0.133 0.1452 -0.148 0.22912 -0.148 0.31171 C -0.148 0.27041 -0.156 0.22779 -0.164 0.22779 C -0.172 0.22779 -0.18 0.26909 -0.18 0.31171 C -0.18 0.2904 -0.184 0.27041 -0.188 0.27041 C -0.192 0.27041 -0.196 0.29172 -0.196 0.31171 C -0.196 0.30105 -0.198 0.2904 -0.2 0.2904 C -0.201 0.2904 -0.204 0.30106 -0.204 0.31171 C -0.204 0.30638 -0.205 0.30105 -0.206 0.30105 C -0.206 0.29972 -0.208 0.30638 -0.208 0.31171 C -0.208 0.30905 -0.208 0.30638 -0.209 0.30638 C -0.209 0.30771 -0.21 0.30904 -0.21 0.31171 C -0.21 0.31038 -0.21 0.30905 -0.21 0.30771 C -0.211 0.30771 -0.211 0.30904 -0.211 0.31037 C -0.212 0.31037 -0.212 0.30904 -0.212 0.30771 C -0.213 0.30771 -0.213 0.30904 -0.213 0.31037 E">
                                      <p:cBhvr>
                                        <p:cTn id="555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Скругленный прямоугольник 1" descr=""/>
          <p:cNvPicPr/>
          <p:nvPr/>
        </p:nvPicPr>
        <p:blipFill>
          <a:blip r:embed="rId3"/>
          <a:stretch/>
        </p:blipFill>
        <p:spPr>
          <a:xfrm>
            <a:off x="798480" y="60480"/>
            <a:ext cx="1706760" cy="993600"/>
          </a:xfrm>
          <a:prstGeom prst="rect">
            <a:avLst/>
          </a:prstGeom>
          <a:ln w="0">
            <a:noFill/>
          </a:ln>
        </p:spPr>
      </p:pic>
      <p:pic>
        <p:nvPicPr>
          <p:cNvPr id="191" name="Скругленный прямоугольник 2" descr=""/>
          <p:cNvPicPr/>
          <p:nvPr/>
        </p:nvPicPr>
        <p:blipFill>
          <a:blip r:embed="rId4"/>
          <a:stretch/>
        </p:blipFill>
        <p:spPr>
          <a:xfrm>
            <a:off x="2457360" y="171360"/>
            <a:ext cx="6491520" cy="846360"/>
          </a:xfrm>
          <a:prstGeom prst="rect">
            <a:avLst/>
          </a:prstGeom>
          <a:ln w="0">
            <a:noFill/>
          </a:ln>
        </p:spPr>
      </p:pic>
      <p:pic>
        <p:nvPicPr>
          <p:cNvPr id="192" name="Блок-схема: процесс 3" descr=""/>
          <p:cNvPicPr/>
          <p:nvPr/>
        </p:nvPicPr>
        <p:blipFill>
          <a:blip r:embed="rId5"/>
          <a:stretch/>
        </p:blipFill>
        <p:spPr>
          <a:xfrm>
            <a:off x="2365200" y="1036800"/>
            <a:ext cx="2121120" cy="761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Documents and Settings\User\Рабочий стол\ТРИГГЕРЫ\Овчинникова\МК  4\1.png"/>
          <p:cNvPicPr/>
          <p:nvPr/>
        </p:nvPicPr>
        <p:blipFill>
          <a:blip r:embed="rId6"/>
          <a:stretch/>
        </p:blipFill>
        <p:spPr>
          <a:xfrm>
            <a:off x="285840" y="3429000"/>
            <a:ext cx="2111400" cy="2916360"/>
          </a:xfrm>
          <a:prstGeom prst="rect">
            <a:avLst/>
          </a:prstGeom>
          <a:ln w="0">
            <a:noFill/>
          </a:ln>
        </p:spPr>
      </p:pic>
      <p:pic>
        <p:nvPicPr>
          <p:cNvPr id="194" name="апп.mp3" descr=""/>
          <p:cNvPicPr/>
          <p:nvPr/>
        </p:nvPicPr>
        <p:blipFill>
          <a:blip r:embed="rId7"/>
          <a:stretch/>
        </p:blipFill>
        <p:spPr>
          <a:xfrm>
            <a:off x="-50004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Documents and Settings\User\Рабочий стол\ТРИГГЕРЫ\Овчинникова\МК  4\4.png"/>
          <p:cNvPicPr/>
          <p:nvPr/>
        </p:nvPicPr>
        <p:blipFill>
          <a:blip r:embed="rId8"/>
          <a:stretch/>
        </p:blipFill>
        <p:spPr>
          <a:xfrm>
            <a:off x="6740640" y="3643200"/>
            <a:ext cx="1689120" cy="2990880"/>
          </a:xfrm>
          <a:prstGeom prst="rect">
            <a:avLst/>
          </a:prstGeom>
          <a:ln w="0">
            <a:noFill/>
          </a:ln>
        </p:spPr>
      </p:pic>
      <p:pic>
        <p:nvPicPr>
          <p:cNvPr id="196" name="Блок-схема: процесс 5" descr=""/>
          <p:cNvPicPr/>
          <p:nvPr/>
        </p:nvPicPr>
        <p:blipFill>
          <a:blip r:embed="rId9"/>
          <a:stretch/>
        </p:blipFill>
        <p:spPr>
          <a:xfrm>
            <a:off x="4511520" y="1036800"/>
            <a:ext cx="2114640" cy="761760"/>
          </a:xfrm>
          <a:prstGeom prst="rect">
            <a:avLst/>
          </a:prstGeom>
          <a:ln w="0">
            <a:noFill/>
          </a:ln>
        </p:spPr>
      </p:pic>
      <p:pic>
        <p:nvPicPr>
          <p:cNvPr id="197" name="Блок-схема: процесс 4" descr=""/>
          <p:cNvPicPr/>
          <p:nvPr/>
        </p:nvPicPr>
        <p:blipFill>
          <a:blip r:embed="rId10"/>
          <a:stretch/>
        </p:blipFill>
        <p:spPr>
          <a:xfrm>
            <a:off x="6724800" y="1036800"/>
            <a:ext cx="2114280" cy="761760"/>
          </a:xfrm>
          <a:prstGeom prst="rect">
            <a:avLst/>
          </a:prstGeom>
          <a:ln w="0">
            <a:noFill/>
          </a:ln>
        </p:spPr>
      </p:pic>
      <p:pic>
        <p:nvPicPr>
          <p:cNvPr id="198" name="Блок-схема: процесс 6" descr=""/>
          <p:cNvPicPr/>
          <p:nvPr/>
        </p:nvPicPr>
        <p:blipFill>
          <a:blip r:embed="rId11"/>
          <a:stretch/>
        </p:blipFill>
        <p:spPr>
          <a:xfrm>
            <a:off x="225360" y="1036800"/>
            <a:ext cx="2116080" cy="761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User\Рабочий стол\ТРИГГЕРЫ\Овчинникова\МК  4\мяч.png"/>
          <p:cNvPicPr/>
          <p:nvPr/>
        </p:nvPicPr>
        <p:blipFill>
          <a:blip r:embed="rId12"/>
          <a:stretch/>
        </p:blipFill>
        <p:spPr>
          <a:xfrm>
            <a:off x="2286000" y="4214880"/>
            <a:ext cx="79524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Блок-схема: знак завершения 12">
            <a:hlinkClick r:id="rId13" action="ppaction://hlinksldjump"/>
          </p:cNvPr>
          <p:cNvSpPr/>
          <p:nvPr/>
        </p:nvSpPr>
        <p:spPr>
          <a:xfrm>
            <a:off x="4014720" y="6286680"/>
            <a:ext cx="1343160" cy="357120"/>
          </a:xfrm>
          <a:prstGeom prst="flowChartTerminator">
            <a:avLst/>
          </a:prstGeom>
          <a:solidFill>
            <a:srgbClr val="ffcc66"/>
          </a:solidFill>
          <a:ln w="25560">
            <a:solidFill>
              <a:srgbClr val="e46c0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Calibri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3" descr="C:\Documents and Settings\User\Рабочий стол\ТРИГГЕРЫ\Овчинникова\МК  4\сетка.png"/>
          <p:cNvPicPr/>
          <p:nvPr/>
        </p:nvPicPr>
        <p:blipFill>
          <a:blip r:embed="rId14"/>
          <a:stretch/>
        </p:blipFill>
        <p:spPr>
          <a:xfrm>
            <a:off x="3700440" y="3060720"/>
            <a:ext cx="1596960" cy="3821040"/>
          </a:xfrm>
          <a:prstGeom prst="rect">
            <a:avLst/>
          </a:prstGeom>
          <a:ln w="0">
            <a:noFill/>
          </a:ln>
        </p:spPr>
      </p:pic>
      <p:pic>
        <p:nvPicPr>
          <p:cNvPr id="202" name="Скругленный прямоугольник 15" descr=""/>
          <p:cNvPicPr/>
          <p:nvPr/>
        </p:nvPicPr>
        <p:blipFill>
          <a:blip r:embed="rId15"/>
          <a:stretch/>
        </p:blipFill>
        <p:spPr>
          <a:xfrm>
            <a:off x="19080" y="55440"/>
            <a:ext cx="1047600" cy="955800"/>
          </a:xfrm>
          <a:prstGeom prst="rect">
            <a:avLst/>
          </a:prstGeom>
          <a:ln w="0">
            <a:noFill/>
          </a:ln>
        </p:spPr>
      </p:pic>
      <p:grpSp>
        <p:nvGrpSpPr>
          <p:cNvPr id="203" name="Овал 16"/>
          <p:cNvGrpSpPr/>
          <p:nvPr/>
        </p:nvGrpSpPr>
        <p:grpSpPr>
          <a:xfrm>
            <a:off x="55440" y="1841400"/>
            <a:ext cx="596880" cy="596880"/>
            <a:chOff x="55440" y="1841400"/>
            <a:chExt cx="596880" cy="596880"/>
          </a:xfrm>
        </p:grpSpPr>
        <p:pic>
          <p:nvPicPr>
            <p:cNvPr id="204" name="Овал 16" descr=""/>
            <p:cNvPicPr/>
            <p:nvPr/>
          </p:nvPicPr>
          <p:blipFill>
            <a:blip r:embed="rId16"/>
            <a:stretch/>
          </p:blipFill>
          <p:spPr>
            <a:xfrm>
              <a:off x="55440" y="184140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55600" y="20415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Овал 17"/>
          <p:cNvGrpSpPr/>
          <p:nvPr/>
        </p:nvGrpSpPr>
        <p:grpSpPr>
          <a:xfrm>
            <a:off x="55440" y="2341440"/>
            <a:ext cx="596880" cy="596880"/>
            <a:chOff x="55440" y="2341440"/>
            <a:chExt cx="596880" cy="596880"/>
          </a:xfrm>
        </p:grpSpPr>
        <p:pic>
          <p:nvPicPr>
            <p:cNvPr id="207" name="Овал 17" descr=""/>
            <p:cNvPicPr/>
            <p:nvPr/>
          </p:nvPicPr>
          <p:blipFill>
            <a:blip r:embed="rId17"/>
            <a:stretch/>
          </p:blipFill>
          <p:spPr>
            <a:xfrm>
              <a:off x="55440" y="234144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55600" y="254160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Овал 18"/>
          <p:cNvGrpSpPr/>
          <p:nvPr/>
        </p:nvGrpSpPr>
        <p:grpSpPr>
          <a:xfrm>
            <a:off x="55440" y="2914560"/>
            <a:ext cx="596880" cy="596880"/>
            <a:chOff x="55440" y="2914560"/>
            <a:chExt cx="596880" cy="596880"/>
          </a:xfrm>
        </p:grpSpPr>
        <p:pic>
          <p:nvPicPr>
            <p:cNvPr id="210" name="Овал 18" descr=""/>
            <p:cNvPicPr/>
            <p:nvPr/>
          </p:nvPicPr>
          <p:blipFill>
            <a:blip r:embed="rId18"/>
            <a:stretch/>
          </p:blipFill>
          <p:spPr>
            <a:xfrm>
              <a:off x="55440" y="2914560"/>
              <a:ext cx="596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55600" y="31129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9" dur="indefinite" restart="never" nodeType="tmRoot">
          <p:childTnLst>
            <p:seq>
              <p:cTn id="56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014E-007 C 0.00295 -0.00648 0.01337 -0.01295 0.01702 -0.01295 C 0.04028 -0.01295 0.06407 0.0895 0.06407 0.19195 C 0.06407 0.14015 0.07604 0.0895 0.08733 0.0895 C 0.09931 0.0895 0.11059 0.14107 0.11059 0.19195 C 0.11059 0.16628 0.1165 0.14015 0.1224 0.14015 C 0.12848 0.14015 0.13438 0.16559 0.13438 0.19195 C 0.13438 0.17877 0.13733 0.16628 0.14028 0.16628 C 0.14341 0.16628 0.14636 0.17946 0.14636 0.19195 C 0.14636 0.18524 0.14792 0.17877 0.14931 0.17877 C 0.15 0.17877 0.15226 0.18524 0.15226 0.19195 C 0.15226 0.18848 0.15313 0.18524 0.15382 0.18524 C 0.15382 0.18617 0.15538 0.18848 0.15538 0.19195 C 0.15538 0.1901 0.15538 0.18848 0.15625 0.18848 C 0.15625 0.18941 0.15695 0.19033 0.15695 0.19195 C 0.15695 0.19103 0.15695 0.1901 0.15695 0.18941 C 0.15782 0.18941 0.15782 0.19033 0.15782 0.19103 C 0.15851 0.19103 0.15851 0.19033 0.15851 0.18941 C 0.15938 0.18941 0.15938 0.19033 0.15938 0.19103 E">
                                      <p:cBhvr>
                                        <p:cTn id="59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5904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2359 L 0.04514 -0.11008 E">
                                      <p:cBhvr>
                                        <p:cTn id="601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97 -0.12442 L -0.00104 -0.01295 E">
                                      <p:cBhvr>
                                        <p:cTn id="60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9722E-006 L 0.08211 -0.14848 C 0.0993 -0.18155 0.12812 -0.20329 0.15937 -0.20907 C 0.19548 -0.21554 0.22586 -0.20444 0.24896 -0.17854 L 0.35902 -0.06522 E">
                                      <p:cBhvr>
                                        <p:cTn id="605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625 C 0.004 -0.01388 0.01806 -0.02128 0.02292 -0.02128 C 0.054 -0.02128 0.08594 0.0969 0.08594 0.21507 C 0.08594 0.15541 0.10191 0.0969 0.11702 0.0969 C 0.13299 0.0969 0.14809 0.15633 0.14809 0.21507 C 0.14809 0.18547 0.15608 0.15541 0.16407 0.15541 C 0.17205 0.15541 0.18004 0.18478 0.18004 0.21507 C 0.18004 0.19981 0.18403 0.18547 0.18802 0.18547 C 0.19202 0.18547 0.19601 0.20074 0.19601 0.21507 C 0.19601 0.20744 0.19809 0.19981 0.2 0.19981 C 0.20104 0.19981 0.204 0.20744 0.204 0.21507 C 0.204 0.21114 0.20504 0.20744 0.20608 0.20744 C 0.20608 0.20837 0.20816 0.21114 0.20816 0.21507 C 0.20816 0.21299 0.20816 0.21114 0.2092 0.21114 C 0.2092 0.21207 0.21025 0.21322 0.21025 0.21507 C 0.21025 0.21392 0.21025 0.21299 0.21025 0.21207 C 0.21129 0.21207 0.21129 0.21322 0.21129 0.21415 C 0.21233 0.21415 0.21233 0.21322 0.21233 0.21207 C 0.21337 0.21207 0.21337 0.21322 0.21337 0.21415 E">
                                      <p:cBhvr>
                                        <p:cTn id="63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833 C 0.004 -0.01481 0.01806 -0.02128 0.02292 -0.02128 C 0.054 -0.02128 0.08594 0.08117 0.08594 0.18362 C 0.08594 0.13182 0.10191 0.08117 0.11702 0.08117 C 0.13299 0.08117 0.14809 0.13274 0.14809 0.18362 C 0.14809 0.15795 0.15608 0.13182 0.16407 0.13182 C 0.17205 0.13182 0.18004 0.15726 0.18004 0.18362 C 0.18004 0.17044 0.18403 0.15795 0.18802 0.15795 C 0.19202 0.15795 0.19601 0.17113 0.19601 0.18362 C 0.19601 0.17691 0.19809 0.17044 0.2 0.17044 C 0.20104 0.17044 0.204 0.17691 0.204 0.18362 C 0.204 0.18015 0.20504 0.17691 0.20608 0.17691 C 0.20608 0.17784 0.20816 0.18015 0.20816 0.18362 C 0.20816 0.18177 0.20816 0.18015 0.2092 0.18015 C 0.2092 0.18108 0.21025 0.182 0.21025 0.18362 C 0.21025 0.1827 0.21025 0.18177 0.21025 0.18108 C 0.21129 0.18108 0.21129 0.182 0.21129 0.1827 C 0.21233 0.1827 0.21233 0.182 0.21233 0.18108 C 0.21337 0.18108 0.21337 0.182 0.21337 0.1827 E">
                                      <p:cBhvr>
                                        <p:cTn id="64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5:44:54Z</dcterms:created>
  <dc:creator>SamLab.ws</dc:creator>
  <dc:description/>
  <dc:language>en-US</dc:language>
  <cp:lastModifiedBy>User</cp:lastModifiedBy>
  <dcterms:modified xsi:type="dcterms:W3CDTF">2003-12-31T21:06:21Z</dcterms:modified>
  <cp:revision>17</cp:revision>
  <dc:subject/>
  <dc:title>Слайд 1</dc:title>
</cp:coreProperties>
</file>