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6F0D-EF92-40E0-802B-4874D9EF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DEB3-C854-4F73-BA90-FE5B7CAE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5771-3A7D-4253-A403-F743A284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A560-E027-4274-A416-BA516DB9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FAEF-E133-4B5C-BD7B-6A7526C0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35F6-636B-40B0-91F7-B5414017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5131-E58C-4668-862E-AE22A8EC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5732-BC76-4141-A5A5-5B8C74CD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51D6-B09A-4851-9AAC-A7978E75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0055-53D5-48F3-A888-01A366B7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4487-F056-4985-8813-DABBBE83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8808-F99E-41D4-857E-2382B383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B535-62B7-45A1-8691-BA72DD4E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DCBB-BA6E-47E4-872C-3FBE4BF9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36A1-99B3-4A96-BFB8-8CA85E84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7412-0DE2-44BD-BFD0-64F04079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A95F-4500-4DC3-A1A5-B8516C9F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10D0-136D-4CE9-8E87-34D4428C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D483-1AB5-4E7B-8A97-52B1F86A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498B-2C1D-4F8A-A455-8C810C59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B3D7-591A-47E0-8118-891814EC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D722-9733-4007-A580-82E291A3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7AB-11B2-4552-93ED-AFA76801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D0B6-1CD2-4466-AED0-A1430687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769D-E9D7-4F56-8C38-E140AC089FA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06DF-A1F3-4263-83D8-D5D329DDD03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557000"/>
            <a:ext cx="807732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Русский язык 10 кла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26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Выразительные словообразовательные сред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ыразительные словообразовательные сред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09480" y="1483920"/>
            <a:ext cx="79250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Уменьшительно-ласкательные суффик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Ц (мороз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е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ИК (стол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ИШК (брат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иш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, К (нож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, УШК (баб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уш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, ЧИК (колоколь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ч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ЕНЬК (сине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ь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Увеличительно-неодобрительные суффик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Щ (дом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ищ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), ОНК (старуш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он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…………………………………………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Элемент торжественности вносит приставка ВО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в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ть,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в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ди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Если добавить приставку Д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к глаголу бегать: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добегать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слово приобретёт значение  доведение действия до отрицательного состоя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…………………………………………………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а с суффиксами оценки выполняют разную роль: выражают расположение к собеседнику, придают ироническую окраску, создают фамильярно – непринуждённый 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Значение суффиксов субъективной оценк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Богатство словообразовательных суффиксов в русского языке даёт возможность расширить пределы поэтического слова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Суффиксы субъективной оцен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вносят разнообразные оттенки значения сло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выражают авторскую позиц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выражают идейный смысл произ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бразуйте слова  СНАЧАЛА С УМЕНЬШИТЕЛЬНО- ЛАСКАТЕЛЬНЫМ ЗНАЧЕНИЕМ, А ЗАТЕМ С ПРЕНЕБРЕЖИТЕЛЬНЫМ ЗНАЧЕНИ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I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вариант с уменьшительно-ласкательным знач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 вариант с пренебрежительным знач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Шап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Соб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Одеж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Ло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Составьте предложение с одним из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Arial"/>
              </a:rPr>
              <a:t>ПРОВЕРЬ СЕБ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0402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УМЕНЬШИТЕЛЬНО- ЛАСКАТЕЛЬНОЕ ЗНА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П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А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Ё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Д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БАШЕ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0" y="1484280"/>
            <a:ext cx="4113360" cy="6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РЕНЕБРЕЖИТЕЛЬН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ПЧО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АЧО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ЕЖО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ДЧО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БАШО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ыпишите слова с уменьшительно-ласкательными суффикс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А знаете ли вы, маменька, отчего мы в дворянском звании родились? А все оттого, что милость божья к нам была. Кабы не она, и не сидели бы мы теперь в избушке, да  горела бы у нас не свечка, а  лучинушка, а уж чайку да кофейку – об этом и думать бы не смели! Сидели бы, я бы лаптишечки ковырял, вы бы щец там каких-нибудь пустеньких поужинать собир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95959"/>
                </a:solidFill>
                <a:latin typeface="Arial"/>
              </a:rPr>
              <a:t>( М. Салтыков – Щедрин «Господа Головлёв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кой целью использует автор суффиксы субъективной оцен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Arial"/>
              </a:rPr>
              <a:t>Ответ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ам</a:t>
            </a:r>
            <a:r>
              <a:rPr b="0" i="1" lang="ru-RU" sz="3200" spc="-1" strike="noStrike">
                <a:solidFill>
                  <a:srgbClr val="ff3300"/>
                </a:solidFill>
                <a:latin typeface="Arial"/>
              </a:rPr>
              <a:t>еньк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, изб</a:t>
            </a:r>
            <a:r>
              <a:rPr b="0" i="1" lang="ru-RU" sz="3200" spc="-1" strike="noStrike">
                <a:solidFill>
                  <a:srgbClr val="ff3300"/>
                </a:solidFill>
                <a:latin typeface="Arial"/>
              </a:rPr>
              <a:t>ушк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, свеч</a:t>
            </a:r>
            <a:r>
              <a:rPr b="0" i="1" lang="ru-RU" sz="3200" spc="-1" strike="noStrike">
                <a:solidFill>
                  <a:srgbClr val="ff3300"/>
                </a:solidFill>
                <a:latin typeface="Arial"/>
              </a:rPr>
              <a:t>к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, лучин</a:t>
            </a:r>
            <a:r>
              <a:rPr b="0" i="1" lang="ru-RU" sz="3200" spc="-1" strike="noStrike">
                <a:solidFill>
                  <a:srgbClr val="ff3300"/>
                </a:solidFill>
                <a:latin typeface="Arial"/>
              </a:rPr>
              <a:t>ушк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, чай</a:t>
            </a:r>
            <a:r>
              <a:rPr b="0" i="1" lang="ru-RU" sz="3200" spc="-1" strike="noStrike">
                <a:solidFill>
                  <a:srgbClr val="ff3300"/>
                </a:solidFill>
                <a:latin typeface="Arial"/>
              </a:rPr>
              <a:t>к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, кофей</a:t>
            </a:r>
            <a:r>
              <a:rPr b="0" i="1" lang="ru-RU" sz="3200" spc="-1" strike="noStrike">
                <a:solidFill>
                  <a:srgbClr val="ff3300"/>
                </a:solidFill>
                <a:latin typeface="Arial"/>
              </a:rPr>
              <a:t>к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, лапт</a:t>
            </a:r>
            <a:r>
              <a:rPr b="0" i="1" lang="ru-RU" sz="3200" spc="-1" strike="noStrike">
                <a:solidFill>
                  <a:srgbClr val="ff3300"/>
                </a:solidFill>
                <a:latin typeface="Arial"/>
              </a:rPr>
              <a:t>ишечк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, пуст</a:t>
            </a:r>
            <a:r>
              <a:rPr b="0" i="1" lang="ru-RU" sz="3200" spc="-1" strike="noStrike">
                <a:solidFill>
                  <a:srgbClr val="ff3300"/>
                </a:solidFill>
                <a:latin typeface="Arial"/>
              </a:rPr>
              <a:t>еньк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здается психологический портрет героя. Ласковые слова придают слащавость, лелейность, которыми он прикрывает свое лицемерие и ханже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Arial"/>
              </a:rPr>
              <a:t>Выборочный диктант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Запишите слова с суффиксами субъективной оцен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Объясните, с какой целью автор использует их в произведен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Текст диктан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7030a0"/>
                </a:solidFill>
                <a:latin typeface="Arial"/>
              </a:rPr>
              <a:t>Она сидела в своей комнатке, как мышонок в норке; с красными детскими пухлыми губками и нежными ручками; высматривала, как звере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595959"/>
                </a:solidFill>
                <a:latin typeface="Arial"/>
              </a:rPr>
              <a:t>( И. С.Тургенев «Отцы и дети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Arial"/>
              </a:rPr>
              <a:t>Ответ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комнат</a:t>
            </a: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к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, мыш</a:t>
            </a: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онок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в нор</a:t>
            </a: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к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, губ</a:t>
            </a: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к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ми, руч</a:t>
            </a: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к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ми, звер</a:t>
            </a: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ек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спользуя слова с уменьшительно-ласкательными суффиксами, автор выражает свою симпатию и расположение к героям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ыпишите из художественной литературы предложения, содержащие слова  с суффиксами субъективной 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Arial"/>
              </a:rPr>
              <a:t>Способы словообразования 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фологическ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тавочный (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неть-темне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ффиксальный (река - реч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уш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тавочно-суффиксальный (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с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ин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ь – еди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суфиксный (переход – переход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жение (лед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- лёд, колоть; диван- кровать, МГ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орфолог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ход одной части речи в друг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кусное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морожено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.;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мороженое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. мяс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Arial"/>
              </a:rPr>
              <a:t>Подведение итогов уро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ую роль играют суффиксы субъективной оценки в русском язы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вносят разнообразные оттенки значения сло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выражают авторскую позиц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выражают идейный смысл произ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ест по теме «Способы словообразования» (задание ЕГЭ В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480" y="1599840"/>
            <a:ext cx="792504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Из данных предложений выпишите слово, образованное приставочно-суффиксальным способ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Arial"/>
              </a:rPr>
              <a:t>В современном обществе целый океан проблем. Они обступают нас всюду, и по какой дорожке ни пойдёшь, возникают новы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Из данных предложений выпишите слово, образованное приставочным способ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«</a:t>
            </a:r>
            <a:r>
              <a:rPr b="0" i="1" lang="ru-RU" sz="1800" spc="-1" strike="noStrike">
                <a:solidFill>
                  <a:srgbClr val="7030a0"/>
                </a:solidFill>
                <a:latin typeface="Arial"/>
              </a:rPr>
              <a:t>Спасибо вам, дяденька»,- прошептал я. «За что, мальчик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Arial"/>
              </a:rPr>
              <a:t>«За то, что я не сирота»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Укажите способ образования слова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ОТ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Укажите способ образования слова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РАЗРАБО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Укажите способ образования слова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ПОДРИС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кажите способ образования слова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К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Проверь себя</a:t>
            </a:r>
            <a:r>
              <a:rPr b="0" i="1" lang="ru-RU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480" y="1600200"/>
            <a:ext cx="792504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Из данных предложений выпишите слово, образованное приставочно-суффиксальным способ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7030a0"/>
                </a:solidFill>
                <a:latin typeface="Arial"/>
              </a:rPr>
              <a:t>В современном обществе целый океан проблем. Они обступают нас всюду, и по какой дорожке ни пойдёшь, возникают новые.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о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врем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енн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ом- врем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Из данных предложений выпишите слово, образованное приставочным способ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«</a:t>
            </a:r>
            <a:r>
              <a:rPr b="0" i="1" lang="ru-RU" sz="1600" spc="-1" strike="noStrike">
                <a:solidFill>
                  <a:srgbClr val="7030a0"/>
                </a:solidFill>
                <a:latin typeface="Arial"/>
              </a:rPr>
              <a:t>Спасибо вам, дяденька»,- прошептал я. «За что, мальчик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7030a0"/>
                </a:solidFill>
                <a:latin typeface="Arial"/>
              </a:rPr>
              <a:t>«За то, что я не сирота»</a:t>
            </a: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о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шептал - шепта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Укажите способ образования слова </a:t>
            </a: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ОТКАЗ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- ОТКАЗ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(бессуфикс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Напишите способ образования слова </a:t>
            </a: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РАЗРАБОТ</a:t>
            </a: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К</a:t>
            </a: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А - РАЗРАБОТ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(суффиксаль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Укажите способ образования слова 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ПОД</a:t>
            </a: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РИСОВА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(приставочн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жите способ образования слова </a:t>
            </a: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КГУ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(сложение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Arial"/>
              </a:rPr>
              <a:t>Критерии оценива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10920" y="1483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ка «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- 3 правильных от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ка «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-  4-5 правильных отв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ка «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- 6 правильных отв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ка «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- менее 3 правильных отв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Arial"/>
              </a:rPr>
              <a:t>Осложнённое списыва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0402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Текс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4920" y="2174760"/>
            <a:ext cx="410220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пр…обрел книжонку сказал мой с… беседник и назвал фамилию поэта-классика. Почему вы говорите так пр…небрежительно возмутился я. Что вы но ведь она тоненькая и формат (не)большой ответил мой с…бесед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Так я выяснил, что мой с…беседник путает слова «книжечка» и «книжонка», не замечает разницы в их значении.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Б. Тимофее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Задание к текст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00360" y="213336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сать 1-ую часть в форме диалога, расставляя пропущенные знаки препинания и обозначая пропущенные орф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Arial"/>
              </a:rPr>
              <a:t>Проверь себ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ел книжонку, -  сказал мой собеседник и назвал фамилию поэта-класс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вы говорите так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брежительно,-  возмутился 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вы, но ведь она тоненькая и формат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ой, - ответил мой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ед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Arial"/>
              </a:rPr>
              <a:t>Ответьте на вопрос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Какая разница в значении слов «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книжеч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и «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книжон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Благодаря чему изменилось значение сл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ыполните морфемный разбор слова: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собесед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Определите значение морфем в данном слов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тавки  С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уффикса  -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Arial"/>
              </a:rPr>
              <a:t>Проверь себ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Книж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он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он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ренебрежительное от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Значение слова изменилось благодар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ффиксу субъективной оце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………………………………………………………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Со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т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.,бесед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ень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, ник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фф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.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нчание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нулевое книж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ень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, онк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ффикс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., а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нч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С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ед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Со-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месте(сокурсник, сотрудник, сочувствие, соучастие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-ни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- лицо (проводник, отличник, сокурсник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7:15:49Z</dcterms:created>
  <dc:creator>*</dc:creator>
  <dc:description/>
  <dc:language>en-US</dc:language>
  <cp:lastModifiedBy>Сергей</cp:lastModifiedBy>
  <dcterms:modified xsi:type="dcterms:W3CDTF">2014-04-21T03:39:19Z</dcterms:modified>
  <cp:revision>86</cp:revision>
  <dc:subject/>
  <dc:title>МОУ Клюквинская СОШ»       Русский язык 10 класс</dc:title>
</cp:coreProperties>
</file>