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EEA-508B-406F-A4D7-0CD5701C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518-3A79-454F-B32F-265D60A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1BE-E171-4FEE-A40F-93071B17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9DE-03F3-48E7-BF11-12CBE74B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224-036E-4AF1-81B9-B81B81A5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43A-7695-484C-BB96-A79C3BBB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650-E7C5-427F-BE23-7091A45A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394-83FC-4C42-B56A-95F28A69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99D-DB3F-42FE-BA8B-5BD1C1E9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466-8377-48F3-AF2F-DAD22D6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98D-787B-4A97-B31D-38A2D60A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379-29A2-4555-9787-87C0C32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A4FE-AF92-42A8-ABB8-F81329D3FD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5440" y="6500880"/>
            <a:ext cx="167328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Театр своими рука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06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Затем подбираем материа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.Фетр разных цветов, в зависимости какие геро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. Нитки под цвет фетра, иголки, ножницы, к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3. Для украшения: бусинки, ленточки, можно приобрести готовые «глазки» и т.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Также необходимо сделать шаблоны для будущих геро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Текст 2" descr=""/>
          <p:cNvPicPr/>
          <p:nvPr/>
        </p:nvPicPr>
        <p:blipFill>
          <a:blip r:embed="rId2"/>
          <a:stretch/>
        </p:blipFill>
        <p:spPr>
          <a:xfrm>
            <a:off x="357120" y="1550880"/>
            <a:ext cx="8391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После этого с помощью шаблонов вырезаем детали из фетра и сшиваем 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 итоге у нас должны получиться герои сказ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Яйцо                                                   Мы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105440" cy="2906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4572000" y="2981160"/>
            <a:ext cx="41720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Дед                                              Ба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57120" y="981000"/>
            <a:ext cx="8786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Фетр может быть разных ц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321440" cy="31273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44276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7120" y="907560"/>
            <a:ext cx="822960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Курочка Ря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429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57120" y="314172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Театр на палочка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Театры, которые мы можем сделать своими рукам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2660760" cy="19940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3132000" y="4365720"/>
            <a:ext cx="2855880" cy="21366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6084720" y="23493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Театр Топотуш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240000" cy="21603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580000" y="1773360"/>
            <a:ext cx="3003480" cy="2087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3276720" y="3933720"/>
            <a:ext cx="2735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еатр Ориг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979720" cy="2235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2950920" cy="2216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36496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еатр Мас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508720" y="1700280"/>
            <a:ext cx="3054240" cy="22906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2484360" y="4076640"/>
            <a:ext cx="460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еатр из подручных матер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13080" cy="1871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189600" cy="1944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971640" y="386064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4932360" y="3860640"/>
            <a:ext cx="33321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еатр из подручных матер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952720" cy="2211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187800" cy="2233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3274920" cy="2232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900000" y="4005360"/>
            <a:ext cx="313236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еатр из фет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1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Для изготовления театра нам понадоби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ыбрать сказку, по которой будем делать теат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апример «Курочка Ряб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6624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08:36:28Z</dcterms:created>
  <dc:creator>DNS</dc:creator>
  <dc:description/>
  <dc:language>en-US</dc:language>
  <cp:lastModifiedBy>DNS</cp:lastModifiedBy>
  <dcterms:modified xsi:type="dcterms:W3CDTF">2016-11-22T12:46:55Z</dcterms:modified>
  <cp:revision>4</cp:revision>
  <dc:subject/>
  <dc:title>Театр своими руками</dc:title>
</cp:coreProperties>
</file>