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3.png" ContentType="image/png"/>
  <Override PartName="/ppt/media/image17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9C7-C909-4CA2-BB1C-2C40E4B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ED6-AC17-481F-9103-44B84E87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414-11CB-44F0-B252-ABE0A55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010-FF1A-4FDE-8B47-6A9FA421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D2B-2148-4BFB-B8DC-D2C9AA22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9A1-897E-4B57-96B5-B1DD9FE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E16-8D64-46E3-AD97-0C9E2E8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ADD-F374-49AD-A1D3-E66F2F39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253-F82F-4221-B55F-19173F6A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9C8-B402-48D9-8DB6-A6072C8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95D-6CA8-419C-B96F-B73D8ED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C6B-D99F-4164-95D3-BC41043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063-A15F-4AD0-953A-46DC64DFA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438280" y="533520"/>
            <a:ext cx="4496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  г о с т я х   у   с к а з к и"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809880" y="3200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cl214"/>
          <p:cNvPicPr/>
          <p:nvPr/>
        </p:nvPicPr>
        <p:blipFill>
          <a:blip r:embed="rId1"/>
          <a:stretch/>
        </p:blipFill>
        <p:spPr>
          <a:xfrm>
            <a:off x="152280" y="5410080"/>
            <a:ext cx="181944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clip643"/>
          <p:cNvPicPr/>
          <p:nvPr/>
        </p:nvPicPr>
        <p:blipFill>
          <a:blip r:embed="rId2"/>
          <a:stretch/>
        </p:blipFill>
        <p:spPr>
          <a:xfrm>
            <a:off x="3048120" y="2133720"/>
            <a:ext cx="3857400" cy="2990880"/>
          </a:xfrm>
          <a:prstGeom prst="rect">
            <a:avLst/>
          </a:prstGeom>
          <a:ln w="0">
            <a:noFill/>
          </a:ln>
        </p:spPr>
      </p:pic>
      <p:pic>
        <p:nvPicPr>
          <p:cNvPr id="45" name="Матрёшки.mp3" descr=""/>
          <p:cNvPicPr/>
          <p:nvPr/>
        </p:nvPicPr>
        <p:blipFill>
          <a:blip r:embed="rId3"/>
          <a:stretch/>
        </p:blipFill>
        <p:spPr>
          <a:xfrm>
            <a:off x="78487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~PP3734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z_48"/>
          <p:cNvPicPr/>
          <p:nvPr/>
        </p:nvPicPr>
        <p:blipFill>
          <a:blip r:embed="rId1"/>
          <a:stretch/>
        </p:blipFill>
        <p:spPr>
          <a:xfrm>
            <a:off x="4495680" y="2971800"/>
            <a:ext cx="3886200" cy="356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04920" y="457200"/>
            <a:ext cx="38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«Колобок, колобок, какой ты румяный да красивый. Сядь ко мне на носок да пропой еще разок!»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l211"/>
          <p:cNvPicPr/>
          <p:nvPr/>
        </p:nvPicPr>
        <p:blipFill>
          <a:blip r:embed="rId2"/>
          <a:stretch/>
        </p:blipFill>
        <p:spPr>
          <a:xfrm>
            <a:off x="5562720" y="6858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lip525"/>
          <p:cNvPicPr/>
          <p:nvPr/>
        </p:nvPicPr>
        <p:blipFill>
          <a:blip r:embed="rId3"/>
          <a:stretch/>
        </p:blipFill>
        <p:spPr>
          <a:xfrm>
            <a:off x="380880" y="4267080"/>
            <a:ext cx="3048120" cy="2333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z_49"/>
          <p:cNvPicPr/>
          <p:nvPr/>
        </p:nvPicPr>
        <p:blipFill>
          <a:blip r:embed="rId1"/>
          <a:stretch/>
        </p:blipFill>
        <p:spPr>
          <a:xfrm>
            <a:off x="2666880" y="3124080"/>
            <a:ext cx="3989520" cy="2590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914400" y="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 встал Айболит, побежал Айболит и одно только слово твердит: «Лимпопо, лимпопо, лимпопо»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~PP8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228600" y="3733920"/>
            <a:ext cx="4952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 Black"/>
              </a:rPr>
              <a:t>«Как мне не плакать, была у меня избушка лубяная, а у лисы ледяная, попросилась она ко мне, да меня и выгнала»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248"/>
          <p:cNvPicPr/>
          <p:nvPr/>
        </p:nvPicPr>
        <p:blipFill>
          <a:blip r:embed="rId1"/>
          <a:stretch/>
        </p:blipFill>
        <p:spPr>
          <a:xfrm>
            <a:off x="5867280" y="2819520"/>
            <a:ext cx="2895840" cy="37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l326"/>
          <p:cNvPicPr/>
          <p:nvPr/>
        </p:nvPicPr>
        <p:blipFill>
          <a:blip r:embed="rId2"/>
          <a:stretch/>
        </p:blipFill>
        <p:spPr>
          <a:xfrm>
            <a:off x="1143000" y="609480"/>
            <a:ext cx="312408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243"/>
          <p:cNvPicPr/>
          <p:nvPr/>
        </p:nvPicPr>
        <p:blipFill>
          <a:blip r:embed="rId3"/>
          <a:stretch/>
        </p:blipFill>
        <p:spPr>
          <a:xfrm>
            <a:off x="6095880" y="6858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~PP163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ru-hru2"/>
          <p:cNvPicPr/>
          <p:nvPr/>
        </p:nvPicPr>
        <p:blipFill>
          <a:blip r:embed="rId1"/>
          <a:stretch/>
        </p:blipFill>
        <p:spPr>
          <a:xfrm>
            <a:off x="4648320" y="3276720"/>
            <a:ext cx="3733560" cy="3211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629400" y="1523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" y="380880"/>
            <a:ext cx="8305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А потом позвонила свинья: «Пришлите ко мне соловья. Мы сегодня вдвоем с соловьем чудесную песню споем»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т, нет, соловьи не поют для свиней, позови - ка  ты лучше ворону!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lip521"/>
          <p:cNvPicPr/>
          <p:nvPr/>
        </p:nvPicPr>
        <p:blipFill>
          <a:blip r:embed="rId2"/>
          <a:stretch/>
        </p:blipFill>
        <p:spPr>
          <a:xfrm>
            <a:off x="609480" y="3429000"/>
            <a:ext cx="289584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a10"/>
          <p:cNvPicPr/>
          <p:nvPr/>
        </p:nvPicPr>
        <p:blipFill>
          <a:blip r:embed="rId1"/>
          <a:stretch/>
        </p:blipFill>
        <p:spPr>
          <a:xfrm>
            <a:off x="4724280" y="2514600"/>
            <a:ext cx="441972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28600" y="457200"/>
            <a:ext cx="4114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го-го – поет лошадка, спи мышонок сладко, сладко. Повернись на правый бок, дам овса тебе мешок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cl331"/>
          <p:cNvPicPr/>
          <p:nvPr/>
        </p:nvPicPr>
        <p:blipFill>
          <a:blip r:embed="rId2"/>
          <a:stretch/>
        </p:blipFill>
        <p:spPr>
          <a:xfrm>
            <a:off x="6400800" y="152280"/>
            <a:ext cx="216216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clip535"/>
          <p:cNvPicPr/>
          <p:nvPr/>
        </p:nvPicPr>
        <p:blipFill>
          <a:blip r:embed="rId3"/>
          <a:stretch/>
        </p:blipFill>
        <p:spPr>
          <a:xfrm>
            <a:off x="609480" y="4267080"/>
            <a:ext cx="266724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~PP1941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914400" y="677880"/>
            <a:ext cx="784872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«Бабочка –красавица, кушайте варенье, или вам не нравится наше угощение?»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lip532"/>
          <p:cNvPicPr/>
          <p:nvPr/>
        </p:nvPicPr>
        <p:blipFill>
          <a:blip r:embed="rId1"/>
          <a:stretch/>
        </p:blipFill>
        <p:spPr>
          <a:xfrm>
            <a:off x="914400" y="3276720"/>
            <a:ext cx="2409840" cy="26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:\анимация\бабочки\a35.gif"/>
          <p:cNvPicPr/>
          <p:nvPr/>
        </p:nvPicPr>
        <p:blipFill>
          <a:blip r:embed="rId2"/>
          <a:stretch/>
        </p:blipFill>
        <p:spPr>
          <a:xfrm>
            <a:off x="6019920" y="3962520"/>
            <a:ext cx="163188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C -0.0368 -0.01644 0.01181 0.00463 -0.10555 -0.00371 C -0.1085 -0.00394 -0.10972 -0.00996 -0.1125 -0.01111 C -0.11597 -0.01783 -0.11996 -0.01968 -0.125 -0.02408 C -0.12691 -0.03148 -0.12847 -0.03449 -0.13333 -0.03889 C -0.13541 -0.04722 -0.14114 -0.05324 -0.14305 -0.06111 C -0.14514 -0.06945 -0.14826 -0.07732 -0.15277 -0.08334 C -0.15677 -0.09908 -0.16597 -0.11482 -0.17361 -0.12778 C -0.18229 -0.14283 -0.17534 -0.13542 -0.18333 -0.14259 C -0.18993 -0.15602 -0.20121 -0.16528 -0.21111 -0.17408 C -0.22378 -0.18542 -0.2427 -0.20324 -0.25833 -0.20371 C -0.29166 -0.20486 -0.325 -0.20486 -0.35833 -0.20556 C -0.36475 -0.20834 -0.37118 -0.21088 -0.37639 -0.21667 C -0.3809 -0.22153 -0.38264 -0.22709 -0.3875 -0.23148 C -0.38906 -0.2375 -0.39149 -0.24213 -0.39305 -0.24815 C -0.39201 -0.26736 -0.39479 -0.27361 -0.38611 -0.28519 C -0.36441 -0.28403 -0.34357 -0.2831 -0.32222 -0.27963 C -0.3052 -0.27199 -0.30104 -0.26806 -0.2875 -0.25 C -0.2842 -0.2456 -0.28333 -0.23889 -0.28194 -0.23334 C -0.28107 -0.22963 -0.27916 -0.22222 -0.27916 -0.22222 C -0.2802 -0.19514 -0.27656 -0.18496 -0.28889 -0.16852 C -0.29114 -0.15949 -0.29652 -0.15648 -0.30277 -0.15371 C -0.30364 -0.15185 -0.30416 -0.14931 -0.30555 -0.14815 C -0.30798 -0.14607 -0.31389 -0.14445 -0.31389 -0.14445 C -0.32309 -0.14514 -0.33246 -0.14468 -0.34166 -0.1463 C -0.34705 -0.14722 -0.35729 -0.16574 -0.3625 -0.17037 C -0.36319 -0.17292 -0.36527 -0.18102 -0.36527 -0.18334 C -0.36527 -0.19445 -0.36493 -0.20556 -0.36389 -0.21667 C -0.36354 -0.2206 -0.36319 -0.225 -0.36111 -0.22778 C -0.3533 -0.2382 -0.36076 -0.22986 -0.35277 -0.23519 C -0.34913 -0.2375 -0.3467 -0.24213 -0.34305 -0.24445 C -0.32725 -0.25509 -0.31041 -0.25903 -0.29305 -0.26297 C -0.2552 -0.26181 -0.21944 -0.2581 -0.18194 -0.25556 C -0.1684 -0.25093 -0.18663 -0.25672 -0.16111 -0.25185 C -0.15104 -0.25 -0.14062 -0.24676 -0.13055 -0.24445 C -0.11944 -0.23704 -0.10816 -0.23287 -0.09861 -0.22222 C -0.09635 -0.21968 -0.09149 -0.21621 -0.08889 -0.21482 C -0.08611 -0.21343 -0.08055 -0.21111 -0.08055 -0.21111 C -0.0743 -0.20486 -0.0677 -0.20023 -0.06111 -0.19445 C -0.05156 -0.17523 -0.06684 -0.20394 -0.05277 -0.18519 C -0.05173 -0.1838 -0.05225 -0.18125 -0.05139 -0.17963 C -0.0368 -0.1544 -0.04913 -0.17732 -0.0375 -0.16482 C -0.03003 -0.15695 -0.02708 -0.1456 -0.01944 -0.13889 C -0.01788 -0.13009 -0.01736 -0.12685 -0.0125 -0.12037 C -0.01024 -0.09954 -0.00833 -0.07824 -0.00833 -0.05741 E">
                                      <p:cBhvr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96"/>
          <p:cNvPicPr/>
          <p:nvPr/>
        </p:nvPicPr>
        <p:blipFill>
          <a:blip r:embed="rId1"/>
          <a:stretch/>
        </p:blipFill>
        <p:spPr>
          <a:xfrm>
            <a:off x="5486400" y="3505320"/>
            <a:ext cx="3152880" cy="2485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" y="365760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ell MT"/>
              </a:rPr>
              <a:t>А слониха – щеголиха так отплясывала лихо, что румяная луна в  небе задрожала и на бедного слона кубарем упал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cl342"/>
          <p:cNvPicPr/>
          <p:nvPr/>
        </p:nvPicPr>
        <p:blipFill>
          <a:blip r:embed="rId2"/>
          <a:stretch/>
        </p:blipFill>
        <p:spPr>
          <a:xfrm>
            <a:off x="5715000" y="457200"/>
            <a:ext cx="2781360" cy="225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l207"/>
          <p:cNvPicPr/>
          <p:nvPr/>
        </p:nvPicPr>
        <p:blipFill>
          <a:blip r:embed="rId3"/>
          <a:stretch/>
        </p:blipFill>
        <p:spPr>
          <a:xfrm rot="892800">
            <a:off x="914400" y="9144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vatar"/>
          <p:cNvPicPr/>
          <p:nvPr/>
        </p:nvPicPr>
        <p:blipFill>
          <a:blip r:embed="rId1"/>
          <a:stretch/>
        </p:blipFill>
        <p:spPr>
          <a:xfrm>
            <a:off x="1143000" y="304920"/>
            <a:ext cx="2897280" cy="2896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0" y="35812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Куда идем мы с Пятачком? Большой, большой секрет. И не расскажем мы о нем,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- о нет и нет и нет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l296"/>
          <p:cNvPicPr/>
          <p:nvPr/>
        </p:nvPicPr>
        <p:blipFill>
          <a:blip r:embed="rId2"/>
          <a:stretch/>
        </p:blipFill>
        <p:spPr>
          <a:xfrm>
            <a:off x="5105520" y="2666880"/>
            <a:ext cx="35812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cl331"/>
          <p:cNvPicPr/>
          <p:nvPr/>
        </p:nvPicPr>
        <p:blipFill>
          <a:blip r:embed="rId3"/>
          <a:stretch/>
        </p:blipFill>
        <p:spPr>
          <a:xfrm>
            <a:off x="6095880" y="304920"/>
            <a:ext cx="221004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lip571"/>
          <p:cNvPicPr/>
          <p:nvPr/>
        </p:nvPicPr>
        <p:blipFill>
          <a:blip r:embed="rId1"/>
          <a:stretch/>
        </p:blipFill>
        <p:spPr>
          <a:xfrm>
            <a:off x="304920" y="2590920"/>
            <a:ext cx="3657600" cy="4043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3657600" y="45720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потом позвонил крокодил и со слезами просил: «Мой милый, хороший, пришли мне калоши – и мне, и жене, и Тотоше»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cl470"/>
          <p:cNvPicPr/>
          <p:nvPr/>
        </p:nvPicPr>
        <p:blipFill>
          <a:blip r:embed="rId2"/>
          <a:stretch/>
        </p:blipFill>
        <p:spPr>
          <a:xfrm>
            <a:off x="5257800" y="3200400"/>
            <a:ext cx="290520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clip512"/>
          <p:cNvPicPr/>
          <p:nvPr/>
        </p:nvPicPr>
        <p:blipFill>
          <a:blip r:embed="rId3"/>
          <a:stretch/>
        </p:blipFill>
        <p:spPr>
          <a:xfrm>
            <a:off x="990720" y="304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хноСити</cp:lastModifiedBy>
  <dcterms:modified xsi:type="dcterms:W3CDTF">2010-10-19T07:25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