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926-C873-4230-8677-3EEB19E4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813-722D-4EA3-B56A-40B5325C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CDE-A4D9-49A3-B20A-E847F862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3DA-769B-469D-A30D-627B332D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F41-0D3F-407E-A8C0-043CB06B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E38-0999-4469-9401-6B79C8B5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C38-31A4-48BB-9821-C365C24E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68E-8238-4BF7-BFF3-4862CA52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754-7AD4-46BD-83BC-F7713AC0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7F7-026D-4A2B-AE6F-AED7FB25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8E2-AE9A-48A5-AD11-44846551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14C-8C43-49EC-A1A4-48E3B31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9047-D731-42C8-9A05-FE87AC09B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828800"/>
            <a:ext cx="6400800" cy="11304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и задания по обучению грамо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грамоте в подготовительной к школе 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043000">
            <a:off x="761760" y="2895480"/>
            <a:ext cx="1346040" cy="162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260000">
            <a:off x="7086240" y="2819520"/>
            <a:ext cx="1614600" cy="16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91120" y="228600"/>
            <a:ext cx="1411200" cy="143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981080" y="5334120"/>
            <a:ext cx="1500480" cy="99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248520" y="5257800"/>
            <a:ext cx="91584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5105520" cy="7160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тор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56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86200" y="304920"/>
            <a:ext cx="4343400" cy="2361960"/>
          </a:xfrm>
          <a:prstGeom prst="cloudCallout">
            <a:avLst>
              <a:gd name="adj1" fmla="val -44773"/>
              <a:gd name="adj2" fmla="val 256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990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м понадобя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етради в клет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стые и цветные каранда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агнитные бук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резная азбу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ластил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шнуроч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ерёвоч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угов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Какая буква выглянула в окошко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172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От какой буквы деталь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7280" y="2590920"/>
            <a:ext cx="8551800" cy="29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55836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Допиши бук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9880" y="2065320"/>
            <a:ext cx="7583400" cy="33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4640" y="274320"/>
            <a:ext cx="711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Узнай знакомую бук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56360" cy="57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2960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Составь слово из букв разрезной азбуки, магнитных бу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552680"/>
            <a:ext cx="756144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400560" cy="2895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4753080" cy="3387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47440" y="506520"/>
            <a:ext cx="59482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Какие буквы спрятались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9640" y="1268280"/>
            <a:ext cx="377208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675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Лепим буквы из пластилина и теста, выкладываем из шнурков, веревочек, пугов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5616360" cy="409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2708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588000" y="3357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020000" y="227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659640" y="3933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7596360" y="2492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7164360" y="4365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7667640" y="407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755640" y="5734080"/>
            <a:ext cx="4762440" cy="84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0:17:50Z</dcterms:created>
  <dc:creator>Администратор</dc:creator>
  <dc:description/>
  <dc:language>en-US</dc:language>
  <cp:lastModifiedBy>DNA7 X86</cp:lastModifiedBy>
  <dcterms:modified xsi:type="dcterms:W3CDTF">2012-04-24T10:35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