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2B4-1DDF-442D-9AC0-1E83C89D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B13-0020-4DB0-88D0-B28D06B8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E23-A5C4-4ED7-A420-B67354E9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B9C-ED22-4F9E-9C8C-0D533409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05AF-50C9-4F3A-B956-C11FD1FD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A1F0-7BCF-4986-8516-05EC8BFA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BFE8-981D-41B6-8A9C-C7C928A0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068E-1C21-476F-8062-0B437848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ABFB-13F3-4BFE-BB33-A48C4ECC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1004-D142-480B-8828-E41EB7FD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B1B8-5866-4085-8579-0ACEFA8A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53F-83F3-45B5-B169-37763115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EC7A-15D4-4D54-B05C-DA38A67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DB4A-8A1D-45C7-A6EB-C61393DD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693E-04A0-4D33-AB9A-9DE55C29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B3F7-0A81-44E2-B649-4A8F0D6C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D2C8-6F5F-4947-A786-36575573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5D7-CDD0-4A3F-AF71-AA31C3AF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B3D-96D8-471B-BF01-36DAE0F1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BC7-5C55-4037-837C-1BB8ECA7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AA8-0A04-4DAA-9D90-3EFC60E7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028-EE33-4337-9C81-193521C1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C60-6233-4FAE-8324-813A1B5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DBB-9E1E-467E-A200-B77B5965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EB1D-88F3-4E79-8595-8058BEA9B43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96DC-4D60-424D-834A-8E83F03696C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447920" y="1295280"/>
            <a:ext cx="69339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ешим,друзья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им вперед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ней Чуковский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 зовет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18634209_1"/>
          <p:cNvPicPr/>
          <p:nvPr/>
        </p:nvPicPr>
        <p:blipFill>
          <a:blip r:embed="rId1"/>
          <a:stretch/>
        </p:blipFill>
        <p:spPr>
          <a:xfrm>
            <a:off x="3124080" y="1371600"/>
            <a:ext cx="4124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письмо"/>
          <p:cNvPicPr/>
          <p:nvPr/>
        </p:nvPicPr>
        <p:blipFill>
          <a:blip r:embed="rId1"/>
          <a:srcRect l="3412" t="1466" r="0" b="0"/>
          <a:stretch/>
        </p:blipFill>
        <p:spPr>
          <a:xfrm>
            <a:off x="2895480" y="685800"/>
            <a:ext cx="431496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2133720" y="304920"/>
            <a:ext cx="4114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Солнце по небу гуляло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за тучу забежал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Глянул заинька в окно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Стало заиньке смеш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5334120" y="6095880"/>
            <a:ext cx="350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3657600" y="2438280"/>
            <a:ext cx="5486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А потом позвонили цапл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ришлите, пожалуйста, капл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Мы подушками нынче объелис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у нас животы разболелис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209680" y="4572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Но мохнатые боя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«Где нам, с этаким сражаться?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н и грозен, и зубас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н нам солнце не продас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981080" y="152280"/>
            <a:ext cx="4114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Но не слушали газел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по - прежнему глазел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Неужели, в самом деле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се качели погорел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8120" y="2057400"/>
            <a:ext cx="5562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бежит Айболит к бегемотика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хлопает их по животика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всем по порядк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Даёт мармеладку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ставит и ставит им градусники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752480" y="4648320"/>
            <a:ext cx="556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риходили к мухе блошки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риносили ей сапожк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А сапожки не просты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них липучки золоты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4495680" y="2362320"/>
            <a:ext cx="4114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Добрый доктор Айболит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 поликлинике сиди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риходи к нему лечитс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корова, и волчиц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828800" y="304920"/>
            <a:ext cx="5257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Но бессовестный смеется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ак, что вся земля трясетс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«Если только захочу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тебя я проглочу!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666880" y="4632480"/>
            <a:ext cx="4800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друг из папиной из спальн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Кривоногий и хромо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ыбегает умывальни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качает голов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rcRect l="0" t="0" r="5718" b="0"/>
          <a:stretch/>
        </p:blipFill>
        <p:spPr>
          <a:xfrm>
            <a:off x="3048120" y="914400"/>
            <a:ext cx="3429000" cy="462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895480" y="228600"/>
            <a:ext cx="47246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Кто умеет чисто мыться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Кто водицы не боится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Это мы! Это мы! Это мы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Кто не хочет быть грязнушко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Хорошенько моет ушки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Это мы! Это мы! Это мы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Умываться мы умеем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Мы мочалкой моем шею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И вот так! И вот так! И вот так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А потом помоем ловк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Мы над тазиком головк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И вот так! И вот так! И вот так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Чтобы чисто вымыть ножки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Мы помылим их немножко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Полотенцем вытрем ножки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Побежим мы по дорожк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Причесались и умылись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Всем гостям мы поклонились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Захотелось нам опят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Веселиться и играть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1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1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9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9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9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9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9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19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9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9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34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СТРЕЧА КРОКОДИЛО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IMG_0001"/>
          <p:cNvPicPr/>
          <p:nvPr/>
        </p:nvPicPr>
        <p:blipFill>
          <a:blip r:embed="rId2"/>
          <a:stretch/>
        </p:blipFill>
        <p:spPr>
          <a:xfrm>
            <a:off x="4038480" y="1295280"/>
            <a:ext cx="209880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сканирование0001"/>
          <p:cNvPicPr/>
          <p:nvPr/>
        </p:nvPicPr>
        <p:blipFill>
          <a:blip r:embed="rId3"/>
          <a:srcRect l="28585" t="0" r="0" b="0"/>
          <a:stretch/>
        </p:blipFill>
        <p:spPr>
          <a:xfrm>
            <a:off x="6553080" y="1295280"/>
            <a:ext cx="2162160" cy="2514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сканирование0002"/>
          <p:cNvPicPr/>
          <p:nvPr/>
        </p:nvPicPr>
        <p:blipFill>
          <a:blip r:embed="rId4"/>
          <a:srcRect l="3948" t="0" r="0" b="0"/>
          <a:stretch/>
        </p:blipFill>
        <p:spPr>
          <a:xfrm>
            <a:off x="1676520" y="1295280"/>
            <a:ext cx="1985760" cy="2590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сканирование0003"/>
          <p:cNvPicPr/>
          <p:nvPr/>
        </p:nvPicPr>
        <p:blipFill>
          <a:blip r:embed="rId5"/>
          <a:srcRect l="9158" t="2982" r="0" b="52299"/>
          <a:stretch/>
        </p:blipFill>
        <p:spPr>
          <a:xfrm>
            <a:off x="2209680" y="4038480"/>
            <a:ext cx="320040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84812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i-485"/>
          <p:cNvPicPr/>
          <p:nvPr/>
        </p:nvPicPr>
        <p:blipFill>
          <a:blip r:embed="rId1"/>
          <a:stretch/>
        </p:blipFill>
        <p:spPr>
          <a:xfrm>
            <a:off x="1676520" y="533520"/>
            <a:ext cx="640080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447920" y="533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колько Чуковский стихов написал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аждый, наверно, их все прочит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Всё ж хорошо с ними встретиться снов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Вы к этому, ДЕТИ, сегодня готовы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5" descr="A00095C2"/>
          <p:cNvPicPr/>
          <p:nvPr/>
        </p:nvPicPr>
        <p:blipFill>
          <a:blip r:embed="rId1"/>
          <a:stretch/>
        </p:blipFill>
        <p:spPr>
          <a:xfrm>
            <a:off x="1905120" y="2514600"/>
            <a:ext cx="59436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9" descr="сканирование0014"/>
          <p:cNvPicPr/>
          <p:nvPr/>
        </p:nvPicPr>
        <p:blipFill>
          <a:blip r:embed="rId1"/>
          <a:stretch/>
        </p:blipFill>
        <p:spPr>
          <a:xfrm>
            <a:off x="4648320" y="990720"/>
            <a:ext cx="1720800" cy="227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сканирование0015"/>
          <p:cNvPicPr/>
          <p:nvPr/>
        </p:nvPicPr>
        <p:blipFill>
          <a:blip r:embed="rId2"/>
          <a:stretch/>
        </p:blipFill>
        <p:spPr>
          <a:xfrm>
            <a:off x="6858000" y="3124080"/>
            <a:ext cx="1755720" cy="231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сканирование0016"/>
          <p:cNvPicPr/>
          <p:nvPr/>
        </p:nvPicPr>
        <p:blipFill>
          <a:blip r:embed="rId3"/>
          <a:stretch/>
        </p:blipFill>
        <p:spPr>
          <a:xfrm>
            <a:off x="2209680" y="3352680"/>
            <a:ext cx="1692360" cy="2286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сканирование0017"/>
          <p:cNvPicPr/>
          <p:nvPr/>
        </p:nvPicPr>
        <p:blipFill>
          <a:blip r:embed="rId4"/>
          <a:stretch/>
        </p:blipFill>
        <p:spPr>
          <a:xfrm>
            <a:off x="4572000" y="4038480"/>
            <a:ext cx="1744560" cy="2305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сканирование0018"/>
          <p:cNvPicPr/>
          <p:nvPr/>
        </p:nvPicPr>
        <p:blipFill>
          <a:blip r:embed="rId5"/>
          <a:stretch/>
        </p:blipFill>
        <p:spPr>
          <a:xfrm>
            <a:off x="2209680" y="304920"/>
            <a:ext cx="1724040" cy="2324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сканирование0019"/>
          <p:cNvPicPr/>
          <p:nvPr/>
        </p:nvPicPr>
        <p:blipFill>
          <a:blip r:embed="rId6"/>
          <a:stretch/>
        </p:blipFill>
        <p:spPr>
          <a:xfrm>
            <a:off x="6858000" y="304920"/>
            <a:ext cx="1733400" cy="23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819160" y="4648320"/>
            <a:ext cx="4647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Я одноухая старух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Я прыгаю по полотн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 нитку длинную из ух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ак паутинку, я тяну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7" descr="Загадки"/>
          <p:cNvPicPr/>
          <p:nvPr/>
        </p:nvPicPr>
        <p:blipFill>
          <a:blip r:embed="rId1"/>
          <a:stretch/>
        </p:blipFill>
        <p:spPr>
          <a:xfrm>
            <a:off x="3429000" y="380880"/>
            <a:ext cx="28321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Загадки"/>
          <p:cNvPicPr/>
          <p:nvPr/>
        </p:nvPicPr>
        <p:blipFill>
          <a:blip r:embed="rId1"/>
          <a:stretch/>
        </p:blipFill>
        <p:spPr>
          <a:xfrm>
            <a:off x="3200400" y="2057400"/>
            <a:ext cx="342900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57400" y="4191120"/>
            <a:ext cx="5486400" cy="29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Был белый дом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Чудесный дом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что-то застучало в нём.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И он разбился, и оттуд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Живое выбежало чудо, -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акое тёплое, такое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ушистое и золото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4" descr="Загадки"/>
          <p:cNvPicPr/>
          <p:nvPr/>
        </p:nvPicPr>
        <p:blipFill>
          <a:blip r:embed="rId1"/>
          <a:stretch/>
        </p:blipFill>
        <p:spPr>
          <a:xfrm>
            <a:off x="3581280" y="228600"/>
            <a:ext cx="23544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Загадки"/>
          <p:cNvPicPr/>
          <p:nvPr/>
        </p:nvPicPr>
        <p:blipFill>
          <a:blip r:embed="rId1"/>
          <a:stretch/>
        </p:blipFill>
        <p:spPr>
          <a:xfrm>
            <a:off x="2666880" y="1752480"/>
            <a:ext cx="4724640" cy="331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09680" y="4495320"/>
            <a:ext cx="5105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Вот иголки и булавки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Выползают из-под лавки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На меня они глядят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Молока они хотят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4" descr="Загадки"/>
          <p:cNvPicPr/>
          <p:nvPr/>
        </p:nvPicPr>
        <p:blipFill>
          <a:blip r:embed="rId1"/>
          <a:stretch/>
        </p:blipFill>
        <p:spPr>
          <a:xfrm>
            <a:off x="3352680" y="380880"/>
            <a:ext cx="254016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257800" y="1447560"/>
            <a:ext cx="3581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Два коня у меня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Два коня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 воде они возят меня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А вод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верда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ловно каменная!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4" descr="Загадки"/>
          <p:cNvPicPr/>
          <p:nvPr/>
        </p:nvPicPr>
        <p:blipFill>
          <a:blip r:embed="rId1"/>
          <a:stretch/>
        </p:blipFill>
        <p:spPr>
          <a:xfrm>
            <a:off x="2362320" y="1066680"/>
            <a:ext cx="27954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22T14:42:2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