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FCB-EB95-4E1D-B964-3CD4186A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00F-0329-4ECF-829F-94CAEBC0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0F8-A6A8-47CC-82A7-2063C7C1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F6E-826A-429C-A4B3-9D0C7185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3FAC-0386-4215-88C6-E2B4B15B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9D13-9369-45C6-9AAF-F5733F64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7B9B-A846-4113-B14D-66530CE9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F4E4-4C58-453E-981A-E6612B4B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2125-436C-4770-8EC2-5A02020D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B40D-A298-4BDB-AFAD-12FDC7FD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BCC4-908E-44D0-AD61-18614A6D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677-54C1-4911-B13E-87988B8A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7580-5EF4-4C39-9E58-B393896A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DDCF-9F59-4F5C-B79F-E3BBDC6B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D822-595E-4805-A1C3-D416C5A6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109C-908E-4F39-8885-19009E3F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0252-BA74-4F23-98FC-E2E099A9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9C70-59C4-4117-BC4A-486A85E3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8FDA-D975-4F92-9C06-AD23562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1DED-3916-46BF-AD83-1D80D810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193D-55A5-4F7F-838A-209695BC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7322-3526-427C-9D73-7B98F900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970-3680-4065-8B2B-2DE4F386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2F58-5FA9-4395-A7F0-C4710D27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3D2D-9527-4427-8D18-1D0123A3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12F3-533D-46B6-B45B-45660495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BF4D-8383-44A4-904F-F82700DD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C039B-AB30-4509-A871-09E1268A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2F94-888B-4C6D-9C98-6EF62A0A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6A55-DCED-473F-84BC-8A55B0C4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F1019-6CE6-48DF-9760-48721BDE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5C83-A369-44A5-9E77-3A4A9EB5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2E27-7298-46F3-80C5-815950B7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824-7598-44B6-9B3D-698906EB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394DB-1C1B-4A4B-809D-FDFDF1F7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1124-28EA-434D-B729-1F8E4506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DAE7B-4A71-4262-9E74-C2D3C78E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A495B-10B1-4911-8D49-FC9236CC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1AB62-A1AC-4B4F-8A87-7B0A397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3E374-D959-4603-A58E-D42B75DF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F787-9F92-4588-ACB2-A259D0A4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71040-DAB2-47DA-B91F-AE2267CA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58D0E-504C-4284-96BD-E395779A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8B0-72C0-4A67-9E6B-08914BFA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459-6CB4-4BC7-ACAE-A835A2C3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B23-A3DE-4506-ADD3-A1E6AC50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7C1-A6B4-4EC5-B9DF-DA68ABEF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7DD-171B-4F11-AA90-49A719CA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3FDE-DF17-4FA7-8995-2C27DB3904B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E246-795F-497A-8DA1-9E491E866D5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5496-62D7-4505-B3F2-35E6AA9D0F6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ECAE-6829-4CE1-B38C-FA7E5F8BB50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Элементы теории вероятностей   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932000" y="4149360"/>
            <a:ext cx="399564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j0250085"/>
          <p:cNvPicPr/>
          <p:nvPr/>
        </p:nvPicPr>
        <p:blipFill>
          <a:blip r:embed="rId1"/>
          <a:stretch/>
        </p:blipFill>
        <p:spPr>
          <a:xfrm>
            <a:off x="5661000" y="4818240"/>
            <a:ext cx="1806480" cy="19587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02"/>
          <p:cNvPicPr/>
          <p:nvPr/>
        </p:nvPicPr>
        <p:blipFill>
          <a:blip r:embed="rId2"/>
          <a:stretch/>
        </p:blipFill>
        <p:spPr>
          <a:xfrm>
            <a:off x="324000" y="217440"/>
            <a:ext cx="1812600" cy="21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0c226"/>
            </a:gs>
            <a:gs pos="100000">
              <a:srgbClr val="ebeb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1360" y="410760"/>
            <a:ext cx="7300800" cy="15051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100" spc="-1" strike="noStrike">
                <a:solidFill>
                  <a:srgbClr val="ff9900"/>
                </a:solidFill>
                <a:latin typeface="Trebuchet MS"/>
                <a:ea typeface="Aharon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rebuchet MS"/>
                <a:ea typeface="Aharoni"/>
              </a:rPr>
              <a:t>Формула вычисления вероятност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26560" y="2060280"/>
            <a:ext cx="808524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000000"/>
              </a:solidFill>
              <a:latin typeface="Trebuchet MS"/>
              <a:ea typeface="Times New Roman"/>
            </a:endParaRPr>
          </a:p>
        </p:txBody>
      </p:sp>
      <p:graphicFrame>
        <p:nvGraphicFramePr>
          <p:cNvPr id="253" name="Содержимое 15"/>
          <p:cNvGraphicFramePr/>
          <p:nvPr/>
        </p:nvGraphicFramePr>
        <p:xfrm>
          <a:off x="0" y="3300480"/>
          <a:ext cx="8912160" cy="62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Содержимое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00480"/>
                    <a:ext cx="891216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Рисунок 2" descr="Рисунок16"/>
          <p:cNvPicPr/>
          <p:nvPr/>
        </p:nvPicPr>
        <p:blipFill>
          <a:blip r:embed="rId3"/>
          <a:stretch/>
        </p:blipFill>
        <p:spPr>
          <a:xfrm>
            <a:off x="479520" y="0"/>
            <a:ext cx="1566720" cy="19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900" spc="-1" strike="noStrike">
                <a:solidFill>
                  <a:srgbClr val="ff9900"/>
                </a:solidFill>
                <a:latin typeface="Trebuchet MS"/>
                <a:ea typeface="Times New Roman"/>
              </a:rPr>
              <a:t>Пример 1</a:t>
            </a:r>
            <a:r>
              <a:rPr b="0" lang="ru-RU" sz="5400" spc="-1" strike="noStrike">
                <a:solidFill>
                  <a:srgbClr val="ff9900"/>
                </a:solidFill>
                <a:latin typeface="Trebuchet MS"/>
              </a:rPr>
              <a:t>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2200" y="1582560"/>
            <a:ext cx="8086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rebuchet MS"/>
                <a:ea typeface="Times New Roman"/>
              </a:rPr>
              <a:t>В школе 150 человек,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rebuchet MS"/>
                <a:ea typeface="Times New Roman"/>
              </a:rPr>
              <a:t>из них 25 человек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rebuchet MS"/>
                <a:ea typeface="Times New Roman"/>
              </a:rPr>
              <a:t>отличники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rebuchet MS"/>
                <a:ea typeface="Times New Roman"/>
              </a:rPr>
              <a:t>Какова вероятность того,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rebuchet MS"/>
                <a:ea typeface="Times New Roman"/>
              </a:rPr>
              <a:t>что один из них попадётся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Trebuchet MS"/>
                <a:ea typeface="Times New Roman"/>
              </a:rPr>
              <a:t>на глаза?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475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                               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2474640"/>
            <a:ext cx="640080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d02020"/>
                </a:solidFill>
                <a:latin typeface="Trebuchet MS"/>
              </a:rPr>
              <a:t>Вероятность: </a:t>
            </a:r>
            <a:r>
              <a:rPr b="0" lang="en-US" sz="6000" spc="-1" strike="noStrike">
                <a:solidFill>
                  <a:srgbClr val="d02020"/>
                </a:solidFill>
                <a:latin typeface="Trebuchet MS"/>
              </a:rPr>
              <a:t>P</a:t>
            </a:r>
            <a:r>
              <a:rPr b="0" lang="ru-RU" sz="6000" spc="-1" strike="noStrike">
                <a:solidFill>
                  <a:srgbClr val="d02020"/>
                </a:solidFill>
                <a:latin typeface="Trebuchet MS"/>
              </a:rPr>
              <a:t>(</a:t>
            </a:r>
            <a:r>
              <a:rPr b="0" lang="en-US" sz="6000" spc="-1" strike="noStrike">
                <a:solidFill>
                  <a:srgbClr val="d02020"/>
                </a:solidFill>
                <a:latin typeface="Trebuchet MS"/>
              </a:rPr>
              <a:t>A</a:t>
            </a:r>
            <a:r>
              <a:rPr b="0" lang="ru-RU" sz="6000" spc="-1" strike="noStrike">
                <a:solidFill>
                  <a:srgbClr val="d02020"/>
                </a:solidFill>
                <a:latin typeface="Trebuchet MS"/>
              </a:rPr>
              <a:t>) = 25/150 = 1/6.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3090960" y="914400"/>
            <a:ext cx="5081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ени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1" name="Рисунок 6" descr="j0232133"/>
          <p:cNvPicPr/>
          <p:nvPr/>
        </p:nvPicPr>
        <p:blipFill>
          <a:blip r:embed="rId3"/>
          <a:stretch/>
        </p:blipFill>
        <p:spPr>
          <a:xfrm>
            <a:off x="338040" y="217440"/>
            <a:ext cx="206712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5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                               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25360" y="2474640"/>
            <a:ext cx="86932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d02020"/>
                </a:solidFill>
                <a:latin typeface="Trebuchet MS"/>
              </a:rPr>
              <a:t>1. Какие бывают события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d02020"/>
                </a:solidFill>
                <a:latin typeface="Trebuchet MS"/>
              </a:rPr>
              <a:t>случайное событ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d02020"/>
                </a:solidFill>
                <a:latin typeface="Trebuchet MS"/>
              </a:rPr>
              <a:t>невозможное событ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d02020"/>
                </a:solidFill>
                <a:latin typeface="Trebuchet MS"/>
              </a:rPr>
              <a:t>достоверное событ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d02020"/>
                </a:solidFill>
                <a:latin typeface="Trebuchet MS"/>
              </a:rPr>
              <a:t>2. Как посчитать вероятность события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d02020"/>
                </a:solidFill>
                <a:latin typeface="Trebuchet MS"/>
              </a:rPr>
              <a:t>(Посчитать все равновозможные исходы, все благоприятствующие исходы и разделить вторые на первые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(А)=    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WordArt 4"/>
          <p:cNvSpPr txBox="1"/>
          <p:nvPr/>
        </p:nvSpPr>
        <p:spPr>
          <a:xfrm>
            <a:off x="2292480" y="217440"/>
            <a:ext cx="6626160" cy="24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годня мы проводили эксперимент – в результате событие.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5" name="Рисунок 6" descr="j0232133"/>
          <p:cNvPicPr/>
          <p:nvPr/>
        </p:nvPicPr>
        <p:blipFill>
          <a:blip r:embed="rId1"/>
          <a:stretch/>
        </p:blipFill>
        <p:spPr>
          <a:xfrm>
            <a:off x="338040" y="217440"/>
            <a:ext cx="2067120" cy="212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Object 17"/>
              <p:cNvSpPr txBox="1"/>
              <p:nvPr/>
            </p:nvSpPr>
            <p:spPr>
              <a:xfrm>
                <a:off x="4002120" y="5907240"/>
                <a:ext cx="4636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Вывод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53880" y="1077480"/>
            <a:ext cx="810432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00b0f0"/>
                </a:solidFill>
                <a:latin typeface="Trebuchet MS"/>
              </a:rPr>
              <a:t>Теория вероятностей неразрывно связана с нашей повседневной жизнью.</a:t>
            </a:r>
            <a:r>
              <a:rPr b="1" lang="ru-RU" sz="3400" spc="-1" strike="noStrike">
                <a:solidFill>
                  <a:srgbClr val="7f7f7f"/>
                </a:solidFill>
                <a:latin typeface="Trebuchet MS"/>
              </a:rPr>
              <a:t>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7f7f7f"/>
                </a:solidFill>
                <a:latin typeface="Trebuchet MS"/>
              </a:rPr>
              <a:t>Этот раздел изучения великой математики подготовит нас к: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1" lang="ru-RU" sz="3400" spc="-1" strike="noStrike">
                <a:solidFill>
                  <a:srgbClr val="7f7f7f"/>
                </a:solidFill>
                <a:latin typeface="Trebuchet MS"/>
              </a:rPr>
              <a:t>выбору наилучшего из возможных вариантов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1" lang="ru-RU" sz="3400" spc="-1" strike="noStrike">
                <a:solidFill>
                  <a:srgbClr val="7f7f7f"/>
                </a:solidFill>
                <a:latin typeface="Trebuchet MS"/>
              </a:rPr>
              <a:t>оценке степени риска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1" lang="ru-RU" sz="3400" spc="-1" strike="noStrike">
                <a:solidFill>
                  <a:srgbClr val="7f7f7f"/>
                </a:solidFill>
                <a:latin typeface="Trebuchet MS"/>
              </a:rPr>
              <a:t>шансу на успех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Рисунок 5" descr="32"/>
          <p:cNvPicPr/>
          <p:nvPr/>
        </p:nvPicPr>
        <p:blipFill>
          <a:blip r:embed="rId1"/>
          <a:stretch/>
        </p:blipFill>
        <p:spPr>
          <a:xfrm>
            <a:off x="7516800" y="123840"/>
            <a:ext cx="151776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Monotype Corsiva"/>
              </a:rPr>
              <a:t>Молодцы !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Picture 5" descr="Пять"/>
          <p:cNvPicPr/>
          <p:nvPr/>
        </p:nvPicPr>
        <p:blipFill>
          <a:blip r:embed="rId1"/>
          <a:stretch/>
        </p:blipFill>
        <p:spPr>
          <a:xfrm>
            <a:off x="2484360" y="1341360"/>
            <a:ext cx="3956040" cy="443556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4"/>
          <p:cNvSpPr/>
          <p:nvPr/>
        </p:nvSpPr>
        <p:spPr>
          <a:xfrm>
            <a:off x="237960" y="2773440"/>
            <a:ext cx="22464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зовите первое, что приходит на ум, из того что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00"/>
                </a:solidFill>
                <a:latin typeface="Calibri"/>
                <a:ea typeface="Arial"/>
              </a:rPr>
              <a:t>понравилось, заинтересовало, близк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не понравилось, не понятно или чужд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еория вероятносте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ы забыли вечером собрать портфель в школу. Утром, проснувшись, совершенно сонные, хватаете три первых попавшихся учебника с полки, на которой стоят 10 учебников. В этот день у вас три урока: математика, русский язык и биология. Как думаете, вы взяли все нужные учебники?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Что более вероятно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вы взяли все три нужных учебник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нужные и ненужные учебни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-все три ненужных учебника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4" descr="HG7CAEXB2NICA7RY390CA02IEX2CA980HNGCA503YDWCAUWLL9LCA3XPD7YCA92I6TVCA3MN9UJCA2YD3HECAWVZGQICAX0U4RFCAHZ07J1CAU8ZKCTCAR3D9IYCAX348YYCAXAC1SNCAX9E3SQCAERY96U"/>
          <p:cNvPicPr/>
          <p:nvPr/>
        </p:nvPicPr>
        <p:blipFill>
          <a:blip r:embed="rId1"/>
          <a:stretch/>
        </p:blipFill>
        <p:spPr>
          <a:xfrm>
            <a:off x="7342200" y="4950000"/>
            <a:ext cx="1441440" cy="139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Что Надо УЗНАТЬ и Чему НАУЧИТЬСЯ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Познакомиться с видами событий;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Научиться определять вид произошедшего события;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Научиться  вычислять вероятность события.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7812000" y="5805360"/>
            <a:ext cx="1008000" cy="908280"/>
          </a:xfrm>
          <a:custGeom>
            <a:avLst/>
            <a:gdLst>
              <a:gd name="textAreaLeft" fmla="*/ 58680 w 1008000"/>
              <a:gd name="textAreaRight" fmla="*/ 949320 w 100800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3971" h="21600">
                <a:moveTo>
                  <a:pt x="0" y="0"/>
                </a:moveTo>
                <a:lnTo>
                  <a:pt x="23971" y="0"/>
                </a:lnTo>
                <a:lnTo>
                  <a:pt x="23971" y="21600"/>
                </a:lnTo>
                <a:lnTo>
                  <a:pt x="0" y="21600"/>
                </a:lnTo>
                <a:close/>
              </a:path>
              <a:path fill="lightenLess" w="23971" h="21600">
                <a:moveTo>
                  <a:pt x="0" y="0"/>
                </a:moveTo>
                <a:lnTo>
                  <a:pt x="23971" y="0"/>
                </a:lnTo>
                <a:lnTo>
                  <a:pt x="22571" y="1400"/>
                </a:lnTo>
                <a:lnTo>
                  <a:pt x="1400" y="1400"/>
                </a:lnTo>
                <a:close/>
              </a:path>
              <a:path fill="darken" w="23971" h="21600">
                <a:moveTo>
                  <a:pt x="23971" y="0"/>
                </a:moveTo>
                <a:lnTo>
                  <a:pt x="23971" y="21600"/>
                </a:lnTo>
                <a:lnTo>
                  <a:pt x="22571" y="20200"/>
                </a:lnTo>
                <a:lnTo>
                  <a:pt x="22571" y="1400"/>
                </a:lnTo>
                <a:close/>
              </a:path>
              <a:path fill="darkenLess" w="23971" h="21600">
                <a:moveTo>
                  <a:pt x="23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1" y="20200"/>
                </a:lnTo>
                <a:close/>
              </a:path>
              <a:path fill="lighten" w="23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1" h="21600">
                <a:moveTo>
                  <a:pt x="4979" y="3794"/>
                </a:moveTo>
                <a:lnTo>
                  <a:pt x="18992" y="10800"/>
                </a:lnTo>
                <a:lnTo>
                  <a:pt x="4979" y="17806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4" descr="02"/>
          <p:cNvPicPr/>
          <p:nvPr/>
        </p:nvPicPr>
        <p:blipFill>
          <a:blip r:embed="rId1"/>
          <a:stretch/>
        </p:blipFill>
        <p:spPr>
          <a:xfrm>
            <a:off x="7081920" y="257040"/>
            <a:ext cx="1738080" cy="20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609480"/>
            <a:ext cx="63486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Будем доставать из коробки карточки. Это действие называется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rebuchet MS"/>
              </a:rPr>
              <a:t>экспериментом (или опытом)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тащенная карточка любого цвета – результат эксперимента, он называется </a:t>
            </a:r>
            <a:r>
              <a:rPr b="1" i="1" lang="ru-RU" sz="2800" spc="-1" strike="noStrike">
                <a:solidFill>
                  <a:srgbClr val="00b0f0"/>
                </a:solidFill>
                <a:latin typeface="Trebuchet MS"/>
              </a:rPr>
              <a:t>событием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События обозначаются заглавными буквами (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для удобства мы их обозначим по цветам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- К, З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Какие бывают событ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случайное событие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невозможное событие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достоверное событие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7812000" y="5805360"/>
            <a:ext cx="1008000" cy="908280"/>
          </a:xfrm>
          <a:custGeom>
            <a:avLst/>
            <a:gdLst>
              <a:gd name="textAreaLeft" fmla="*/ 58680 w 1008000"/>
              <a:gd name="textAreaRight" fmla="*/ 949320 w 100800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3971" h="21600">
                <a:moveTo>
                  <a:pt x="0" y="0"/>
                </a:moveTo>
                <a:lnTo>
                  <a:pt x="23971" y="0"/>
                </a:lnTo>
                <a:lnTo>
                  <a:pt x="23971" y="21600"/>
                </a:lnTo>
                <a:lnTo>
                  <a:pt x="0" y="21600"/>
                </a:lnTo>
                <a:close/>
              </a:path>
              <a:path fill="lightenLess" w="23971" h="21600">
                <a:moveTo>
                  <a:pt x="0" y="0"/>
                </a:moveTo>
                <a:lnTo>
                  <a:pt x="23971" y="0"/>
                </a:lnTo>
                <a:lnTo>
                  <a:pt x="22571" y="1400"/>
                </a:lnTo>
                <a:lnTo>
                  <a:pt x="1400" y="1400"/>
                </a:lnTo>
                <a:close/>
              </a:path>
              <a:path fill="darken" w="23971" h="21600">
                <a:moveTo>
                  <a:pt x="23971" y="0"/>
                </a:moveTo>
                <a:lnTo>
                  <a:pt x="23971" y="21600"/>
                </a:lnTo>
                <a:lnTo>
                  <a:pt x="22571" y="20200"/>
                </a:lnTo>
                <a:lnTo>
                  <a:pt x="22571" y="1400"/>
                </a:lnTo>
                <a:close/>
              </a:path>
              <a:path fill="darkenLess" w="23971" h="21600">
                <a:moveTo>
                  <a:pt x="23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1" y="20200"/>
                </a:lnTo>
                <a:close/>
              </a:path>
              <a:path fill="lighten" w="23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1" h="21600">
                <a:moveTo>
                  <a:pt x="4979" y="3794"/>
                </a:moveTo>
                <a:lnTo>
                  <a:pt x="18992" y="10800"/>
                </a:lnTo>
                <a:lnTo>
                  <a:pt x="4979" y="17806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Рисунок 4" descr="02"/>
          <p:cNvPicPr/>
          <p:nvPr/>
        </p:nvPicPr>
        <p:blipFill>
          <a:blip r:embed="rId1"/>
          <a:stretch/>
        </p:blipFill>
        <p:spPr>
          <a:xfrm>
            <a:off x="5646600" y="3336840"/>
            <a:ext cx="1738440" cy="20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7751880" cy="18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900" spc="-1" strike="noStrike">
                <a:solidFill>
                  <a:srgbClr val="ffc000"/>
                </a:solidFill>
                <a:latin typeface="Trebuchet MS"/>
                <a:ea typeface="Times New Roman"/>
              </a:rPr>
              <a:t>Случайное событие</a:t>
            </a:r>
            <a:endParaRPr b="0" lang="en-US" sz="5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276720" y="4005360"/>
            <a:ext cx="539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116000" y="5210280"/>
            <a:ext cx="261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Найти кла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7" descr="j0295296"/>
          <p:cNvPicPr/>
          <p:nvPr/>
        </p:nvPicPr>
        <p:blipFill>
          <a:blip r:embed="rId1"/>
          <a:stretch/>
        </p:blipFill>
        <p:spPr>
          <a:xfrm>
            <a:off x="4672080" y="4646520"/>
            <a:ext cx="1941480" cy="20638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8">
            <a:hlinkClick r:id="" action="ppaction://hlinkshowjump?jump=previousslide"/>
          </p:cNvPr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рямоугольник 7"/>
          <p:cNvSpPr/>
          <p:nvPr/>
        </p:nvSpPr>
        <p:spPr>
          <a:xfrm>
            <a:off x="914400" y="1871640"/>
            <a:ext cx="720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 одних и тех же условиях оно может как произойти, так и не произойт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Trebuchet MS"/>
                <a:ea typeface="Times New Roman"/>
              </a:rPr>
              <a:t>Невозможное событие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</a:rPr>
              <a:t>Если это событие никогда не случится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5" descr="j0308972"/>
          <p:cNvPicPr/>
          <p:nvPr/>
        </p:nvPicPr>
        <p:blipFill>
          <a:blip r:embed="rId1"/>
          <a:stretch/>
        </p:blipFill>
        <p:spPr>
          <a:xfrm>
            <a:off x="6877080" y="3213000"/>
            <a:ext cx="1527120" cy="23036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971640" y="4508640"/>
            <a:ext cx="53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Человек рождается старым и становится с каждым днем молож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7">
            <a:hlinkClick r:id="" action="ppaction://hlinkshowjump?jump=previousslide"/>
          </p:cNvPr>
          <p:cNvSpPr/>
          <p:nvPr/>
        </p:nvSpPr>
        <p:spPr>
          <a:xfrm>
            <a:off x="7236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91600"/>
            <a:ext cx="813924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900" spc="-1" strike="noStrike">
                <a:solidFill>
                  <a:srgbClr val="ffc000"/>
                </a:solidFill>
                <a:latin typeface="Trebuchet MS"/>
                <a:ea typeface="Times New Roman"/>
              </a:rPr>
              <a:t>Достоверное событие</a:t>
            </a:r>
            <a:endParaRPr b="0" lang="en-US" sz="5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</a:rPr>
              <a:t>Это событие, которое обязательно произойдёт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6" descr="j0283447"/>
          <p:cNvPicPr/>
          <p:nvPr/>
        </p:nvPicPr>
        <p:blipFill>
          <a:blip r:embed="rId1"/>
          <a:stretch/>
        </p:blipFill>
        <p:spPr>
          <a:xfrm>
            <a:off x="6977160" y="3376440"/>
            <a:ext cx="1815840" cy="1355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j0215751"/>
          <p:cNvPicPr/>
          <p:nvPr/>
        </p:nvPicPr>
        <p:blipFill>
          <a:blip r:embed="rId2"/>
          <a:stretch/>
        </p:blipFill>
        <p:spPr>
          <a:xfrm>
            <a:off x="395280" y="4508640"/>
            <a:ext cx="2057400" cy="15015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2484360" y="4935600"/>
            <a:ext cx="61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Verdana"/>
              </a:rPr>
              <a:t>День сменяет ноч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AutoShape 9">
            <a:hlinkClick r:id="" action="ppaction://hlinkshowjump?jump=previousslide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Придумайте события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случайное событие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невозможное событие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достоверное событие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7812000" y="5805360"/>
            <a:ext cx="1008000" cy="908280"/>
          </a:xfrm>
          <a:custGeom>
            <a:avLst/>
            <a:gdLst>
              <a:gd name="textAreaLeft" fmla="*/ 58680 w 1008000"/>
              <a:gd name="textAreaRight" fmla="*/ 949320 w 100800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3971" h="21600">
                <a:moveTo>
                  <a:pt x="0" y="0"/>
                </a:moveTo>
                <a:lnTo>
                  <a:pt x="23971" y="0"/>
                </a:lnTo>
                <a:lnTo>
                  <a:pt x="23971" y="21600"/>
                </a:lnTo>
                <a:lnTo>
                  <a:pt x="0" y="21600"/>
                </a:lnTo>
                <a:close/>
              </a:path>
              <a:path fill="lightenLess" w="23971" h="21600">
                <a:moveTo>
                  <a:pt x="0" y="0"/>
                </a:moveTo>
                <a:lnTo>
                  <a:pt x="23971" y="0"/>
                </a:lnTo>
                <a:lnTo>
                  <a:pt x="22571" y="1400"/>
                </a:lnTo>
                <a:lnTo>
                  <a:pt x="1400" y="1400"/>
                </a:lnTo>
                <a:close/>
              </a:path>
              <a:path fill="darken" w="23971" h="21600">
                <a:moveTo>
                  <a:pt x="23971" y="0"/>
                </a:moveTo>
                <a:lnTo>
                  <a:pt x="23971" y="21600"/>
                </a:lnTo>
                <a:lnTo>
                  <a:pt x="22571" y="20200"/>
                </a:lnTo>
                <a:lnTo>
                  <a:pt x="22571" y="1400"/>
                </a:lnTo>
                <a:close/>
              </a:path>
              <a:path fill="darkenLess" w="23971" h="21600">
                <a:moveTo>
                  <a:pt x="23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1" y="20200"/>
                </a:lnTo>
                <a:close/>
              </a:path>
              <a:path fill="lighten" w="23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1" h="21600">
                <a:moveTo>
                  <a:pt x="4979" y="3794"/>
                </a:moveTo>
                <a:lnTo>
                  <a:pt x="18992" y="10800"/>
                </a:lnTo>
                <a:lnTo>
                  <a:pt x="4979" y="17806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Рисунок 4" descr="02"/>
          <p:cNvPicPr/>
          <p:nvPr/>
        </p:nvPicPr>
        <p:blipFill>
          <a:blip r:embed="rId1"/>
          <a:stretch/>
        </p:blipFill>
        <p:spPr>
          <a:xfrm>
            <a:off x="5646600" y="3336840"/>
            <a:ext cx="1738440" cy="20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8:25:49Z</dcterms:created>
  <dc:creator>Shurik</dc:creator>
  <dc:description/>
  <dc:language>en-US</dc:language>
  <cp:lastModifiedBy>User</cp:lastModifiedBy>
  <dcterms:modified xsi:type="dcterms:W3CDTF">2013-11-28T13:39:13Z</dcterms:modified>
  <cp:revision>62</cp:revision>
  <dc:subject/>
  <dc:title>CЛУЧАЙ И МАТЕМАТИКА</dc:title>
</cp:coreProperties>
</file>